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B1B-CCFC-4092-A0FC-C0AD0437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0DB-4A41-4261-807B-A91166C8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21B-15C6-46AB-8ED5-25119CE5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4FA-912C-40BC-BE74-320FAB57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05E4-66E4-4D1E-B0FE-0BF2516C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4981-1481-45D2-8738-59BE0CF6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DAF4-6A77-4875-91CC-8BC0526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FE8A-F94F-4D03-94C6-B62C2B02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7839-92DF-4C79-894E-F2392CB9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FD43-6FE2-471A-9182-D011A5DE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DAC6-E32F-4D81-A650-012BF07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024-B09B-410E-AB66-B4A15FD3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E66-5187-40F7-BADE-B37912B1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542E-242A-4F81-BAA8-E216604E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ADDB-AEF8-4923-83AD-4BACCBF2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BBA1-D94D-4A1A-9619-9173762D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A716-9364-4F2A-AB7F-C672D64D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68A-0D86-4C90-8B0C-22E45BA2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71E-BCB5-4C94-BB8C-96DE4DE5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11F-9F91-4FC8-A111-6C6F0EF0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E07-1F15-4958-A107-ABCA39B8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3DB-3DE5-461B-A862-C2AC388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C26-D3DB-4D5C-977D-E017EABD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11A-D87A-4433-9071-E03F81E8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EF6D-7C7B-453E-B950-BA7AE4B7D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1CB8-EA26-437C-9040-DF46F1839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cionālās trīspusējās sadarbības padomes 2007.gada darbības pārsk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TSP sekretā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Maija Lā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cionālās trīspusējās sadarbības padomes sē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 divpusējo sarunu norise 2007.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676520"/>
          <a:ext cx="6400800" cy="434952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  <a:gridCol w="16765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p.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des/divpusējās sar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un LDDK pārstāvju sar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BAS pārstāvju sanāks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990720"/>
          <a:ext cx="7848720" cy="5624280"/>
        </p:xfrm>
        <a:graphic>
          <a:graphicData uri="http://schemas.openxmlformats.org/drawingml/2006/table">
            <a:tbl>
              <a:tblPr/>
              <a:tblGrid>
                <a:gridCol w="1143000"/>
                <a:gridCol w="67057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žu/divpusējo sarunu būtiskākie jautā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Bulgārijas un Rumānijas pilsoņu pieeju Latvijas darba tir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Koncepciju par migrācijas politiku nodarbinātība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nimālās mēneša darba algas paaugstināšan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informatīvo ziņojumu par izdienas pensiju piešķiršan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kustamā īpašuma nodokļa pieaugumu ražojošajiem da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ējiem un nodokļa likmes refor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MK noteikumu projektu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Grozījumi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u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ineta 2002.gada 28.maija noteikumos 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219 "Kārtība, kādā atlīdzināmi ar komandējumiem un darbinieku darba braucieniem saistītie izdevumi"" (TA-8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a grupas izstrādātajiem priekšlikumiem par minimālās   mēneša    darba algas apmēru un ar iedzīvotāju ienākuma nodokļa neapliekamā minimuma apmēr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inieku finansiālās iesaistes veicināš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2007.gada valsts budžeta grozījumu un 2008.gada valsts budžeta sagatavošanas ga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nespējas apmaksas pilnveidošanu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grācijas rīcībpolitiku darba spēka piesaiste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pieciešamību veikt grozījumus Profesionālās izglītības 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rbinātības trīspusējās sadarbības apakšpadomes (PINTSA)nolikum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905120"/>
          <a:ext cx="7925040" cy="3882960"/>
        </p:xfrm>
        <a:graphic>
          <a:graphicData uri="http://schemas.openxmlformats.org/drawingml/2006/table">
            <a:tbl>
              <a:tblPr/>
              <a:tblGrid>
                <a:gridCol w="1154160"/>
                <a:gridCol w="6770880"/>
              </a:tblGrid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informāciju par PVN likmēm (Ierobežotas pieejamības informā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atbildes uz Latvijas Brīvo arodbiedrību savienības un Latvijas Darba devēju konfederācijas jautājumiem saistībā ar likumprojekt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 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atvijas Brīvo arodbiedrību savienības pārstāvju sarunas par likumprojektu </a:t>
                      </a:r>
                      <a:r>
                        <a:rPr b="0" i="1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tībā ar darba samaksas palielināšan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zinumi par politikas plānošanas dokumentu un tiesību aktu projekt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DDK SNIEGUSI 74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BAS SNIEGUSI 66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TSP SEKRETARIĀ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PKOPOJIS, NOFORMĒJI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US UN NOSŪTĪJIS PROJEKTA IZSTRĀDĀTĀJ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ZVĒRTĒJIS VSS IZSLUDINĀŠANAI PIETEIKTOS PROJEKTUS UN PIETEICIE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6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A SNIEGŠA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AGATAVOJIS VSS PROTOKOLU IZRAKSTUS UN NOSŪTĪJIS LDDK UN L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NIEDZIS INFORMĀCIJU PAR PRECIZĒTAJIEM PROJEKTIEM UN UZAICINĀJUMIEM UZ STARPINSTITŪCIJU SANĀKSM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11800" y="2527200"/>
            <a:ext cx="755640" cy="828720"/>
          </a:xfrm>
          <a:prstGeom prst="downArrow">
            <a:avLst>
              <a:gd name="adj1" fmla="val 50000"/>
              <a:gd name="adj2" fmla="val 2741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3440" y="259992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67440" y="2607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99440" y="2592000"/>
            <a:ext cx="0" cy="223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9440" y="259200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8780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8028000" cy="7732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Nacionālā Trīspusējās sadarbības pa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NTS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pārstāvji no  katras puses: LDDK, LBAS un M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65640"/>
            <a:ext cx="5180040" cy="5158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NTSP sekretariā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4200" y="4800600"/>
            <a:ext cx="122400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ociālās droš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rina Hom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4800600"/>
            <a:ext cx="118764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Darba lietu trīspusējās sadarbības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intija Bur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2970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Profesionālās izglītības un nodarbināt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Ziediņ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708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87684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386568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380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4800600"/>
            <a:ext cx="1187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Reģionālās attīstības apakšpado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alda Smir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800600"/>
            <a:ext cx="115236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ides aizsardzības lietu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Ilze Truši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9840" y="4800600"/>
            <a:ext cx="1297080" cy="121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Transporta, sakaru un informātikas lietu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Rozenšt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27080" y="25635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06720" y="3895200"/>
            <a:ext cx="54108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35080" y="385920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472160" y="3895200"/>
            <a:ext cx="71892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800600"/>
            <a:ext cx="125892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Veselības nozare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kaidrīte Vasaraud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760" y="60595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biedrības inform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agatavotas 9 preses relīzes sadarbībā ar KD par: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TSP sēžu no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kārtību un pieņemtajiem l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http://www.mk.gov.lv/lv/mp/vaditas-padomes/nts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56:35Z</dcterms:created>
  <dc:creator>Egle</dc:creator>
  <dc:description/>
  <cp:keywords/>
  <dc:language>en-US</dc:language>
  <cp:lastModifiedBy>Sanita Diediske</cp:lastModifiedBy>
  <cp:lastPrinted>1904-01-01T00:00:00Z</cp:lastPrinted>
  <dcterms:modified xsi:type="dcterms:W3CDTF">2008-03-28T08:31:25Z</dcterms:modified>
  <cp:revision>25</cp:revision>
  <dc:subject/>
  <dc:title>Nacionālās trīspusējās sadarbības padomes 2007.gada darbības pārskats</dc:title>
</cp:coreProperties>
</file>