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F686-DEF7-4AAB-8CA4-BC001972E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5E12-2D92-496D-A80A-66EB930D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193B-3FC7-4C44-A8EF-E84F28AB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48D3-8182-4F5F-B2D0-72D13B41D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DADD-6ED5-4EC7-A534-1D27536C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CAEB-086C-4855-A581-0C6F8620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F95D-D004-410C-9939-F0F0A059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1390-AD37-4BA3-9ED9-359DF3A8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1AC1-B5ED-4719-B7F2-E330D6CD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FDC7-8726-449E-A566-06793E67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52DE-3A84-42A4-94BC-D6BFE5CA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4C62-7E93-4720-AA6C-6BBF833A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4932-FE6E-4123-8043-946399E2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33A6-6C0D-4E7E-9B47-5686B320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E613-2FA4-4441-B9D6-403F9DB4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26AF-C55C-4AE8-9343-F6AE5DD1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68D6-6AC9-4958-9659-2029F1B28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F9B1-6E3E-4D83-BC77-3DB448E3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40DD-B48E-4D4B-8567-0DCF3E30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9755-AD91-40FE-AB35-D3848743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D96D-B7C1-4A96-9C1B-3F177FC9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5439-AD32-4DAD-849F-8953A0B3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2CFB-8453-43E1-AE37-3E4432A0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F5A2-BEFB-4607-8C5C-41AFEE13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B706-84F8-49E8-B742-DC2431A5F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CB5D-8CEB-44C7-B471-B8AE83AA6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acionālās trīspusējās sadarbības padomes 2007.gada darbības pārsk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NTSP sekretā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Maija Lā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acionālās trīspusējās sadarbības padomes sēž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un divpusējo sarunu norise 2007.gad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676520" y="1676520"/>
          <a:ext cx="6400800" cy="4349520"/>
        </p:xfrm>
        <a:graphic>
          <a:graphicData uri="http://schemas.openxmlformats.org/drawingml/2006/table">
            <a:tbl>
              <a:tblPr/>
              <a:tblGrid>
                <a:gridCol w="838080"/>
                <a:gridCol w="3886200"/>
                <a:gridCol w="167652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p.k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SP sēdes/divpusējās sarun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 februā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aprīl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 jūnij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 augu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septem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 un LDDK pārstāvju saru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okto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ārkārtas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okto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ārkārtas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 okto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dības un LBAS pārstāvju sanāks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 okto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TSP sēžu/divpusējo sarunu būtiskākie jautājumi 2007. gad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990720"/>
          <a:ext cx="7848720" cy="5624280"/>
        </p:xfrm>
        <a:graphic>
          <a:graphicData uri="http://schemas.openxmlformats.org/drawingml/2006/table">
            <a:tbl>
              <a:tblPr/>
              <a:tblGrid>
                <a:gridCol w="1143000"/>
                <a:gridCol w="670572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SP sēžu/divpusējo sarunu būtiskākie jautāju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 februā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Bulgārijas un Rumānijas pilsoņu pieeju Latvijas darba tirg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Koncepciju par migrācijas politiku nodarbinātības kontekst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aprīl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minimālās mēneša darba algas paaugstināšanu 2008.gad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informatīvo ziņojumu par izdienas pensiju piešķiršan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nekustamā īpašuma nodokļa pieaugumu ražojošajiem darb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ējiem un nodokļa likmes refor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 jūnij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Finanšu ministrijas sagatavoto MK noteikumu projektu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Grozījumi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stru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abineta 2002.gada 28.maija noteikumos 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219 "Kārtība, kādā atlīdzināmi ar komandējumiem un darbinieku darba braucieniem saistītie izdevumi"" (TA-87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darba grupas izstrādātajiem priekšlikumiem par minimālās   mēneša    darba algas apmēru un ar iedzīvotāju ienākuma nodokļa neapliekamā minimuma apmēru 2008.gad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darbinieku finansiālās iesaistes veicināša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 augu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2007.gada valsts budžeta grozījumu un 2008.gada valsts budžeta sagatavošanas gai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darbnespējas apmaksas pilnveidošanu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migrācijas rīcībpolitiku darba spēka piesaistes kontekst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nepieciešamību veikt grozījumus Profesionālās izglītības 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rbinātības trīspusējās sadarbības apakšpadomes (PINTSA)nolikum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NTSP sēžu/divpusējo sarunu būtiskākie jautājumi 2007. gad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1905120"/>
          <a:ext cx="7925040" cy="3882960"/>
        </p:xfrm>
        <a:graphic>
          <a:graphicData uri="http://schemas.openxmlformats.org/drawingml/2006/table">
            <a:tbl>
              <a:tblPr/>
              <a:tblGrid>
                <a:gridCol w="1154160"/>
                <a:gridCol w="6770880"/>
              </a:tblGrid>
              <a:tr h="106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septembr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Finanšu ministrijas sagatavoto informāciju par PVN likmēm (Ierobežotas pieejamības informācij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oktob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likumprojektu 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valsts budžetu 2008.gad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oktob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likumprojektu 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valsts budžetu 2008.gadam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 oktob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dības atbildes uz Latvijas Brīvo arodbiedrību savienības un Latvijas Darba devēju konfederācijas jautājumiem saistībā ar likumprojektu </a:t>
                      </a: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valsts budžetu 2008. gad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 oktob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dības un Latvijas Brīvo arodbiedrību savienības pārstāvju sarunas par likumprojektu </a:t>
                      </a:r>
                      <a:r>
                        <a:rPr b="0" i="1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valsts budžetu 2008.gadam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istībā ar darba samaksas palielināšan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tzinumi par politikas plānošanas dokumentu un tiesību aktu projekti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LDDK SNIEGUSI 74 ATZINUM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LBAS SNIEGUSI 66 ATZINUM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NTSP SEKRETARIĀ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APKOPOJIS, NOFORMĒJIS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140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ATZINUMUS UN NOSŪTĪJIS PROJEKTA IZSTRĀDĀTĀJ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IZVĒRTĒJIS VSS IZSLUDINĀŠANAI PIETEIKTOS PROJEKTUS UN PIETEICIES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641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ATZINUMA SNIEGŠAN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AGATAVOJIS VSS PROTOKOLU IZRAKSTUS UN NOSŪTĪJIS LDDK UN L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NIEDZIS INFORMĀCIJU PAR PRECIZĒTAJIEM PROJEKTIEM UN UZAICINĀJUMIEM UZ STARPINSTITŪCIJU SANĀKSMĒ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411800" y="2527200"/>
            <a:ext cx="755640" cy="828720"/>
          </a:xfrm>
          <a:prstGeom prst="downArrow">
            <a:avLst>
              <a:gd name="adj1" fmla="val 50000"/>
              <a:gd name="adj2" fmla="val 27418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743440" y="2599920"/>
            <a:ext cx="0" cy="221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967440" y="2607840"/>
            <a:ext cx="0" cy="221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8299440" y="2592000"/>
            <a:ext cx="0" cy="223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519440" y="2592000"/>
            <a:ext cx="0" cy="221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187800" y="2580840"/>
            <a:ext cx="0" cy="2235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752480"/>
            <a:ext cx="8028000" cy="773280"/>
          </a:xfrm>
          <a:prstGeom prst="rect">
            <a:avLst/>
          </a:prstGeom>
          <a:solidFill>
            <a:srgbClr val="ffcc99"/>
          </a:solidFill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Nacionālā Trīspusējās sadarbības pad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NTS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pārstāvji no  katras puses: LDDK, LBAS un M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3365640"/>
            <a:ext cx="5180040" cy="515880"/>
          </a:xfrm>
          <a:prstGeom prst="rect">
            <a:avLst/>
          </a:prstGeom>
          <a:solidFill>
            <a:srgbClr val="ffcc99"/>
          </a:solidFill>
          <a:ln w="19080">
            <a:solidFill>
              <a:srgbClr val="66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</a:rPr>
              <a:t>NTSP sekretariā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84200" y="4800600"/>
            <a:ext cx="122400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Sociālās drošības apakšpad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Irina Homk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54280" y="4800600"/>
            <a:ext cx="118764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Darba lietu trīspusējās sadarbības apakšpado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Sintija Bur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4800600"/>
            <a:ext cx="129708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Profesionālās izglītības un nodarbinātības apakšpad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Inta Ziediņ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027080" y="2580840"/>
            <a:ext cx="0" cy="2235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959440" y="3857760"/>
            <a:ext cx="0" cy="94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971800" y="3876840"/>
            <a:ext cx="0" cy="94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183440" y="3865680"/>
            <a:ext cx="0" cy="946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303800" y="3857760"/>
            <a:ext cx="0" cy="94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45200" y="4800600"/>
            <a:ext cx="118728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Reģionālās attīstības apakšpadom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Valda Smirno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89720" y="4800600"/>
            <a:ext cx="115236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Vides aizsardzības lietu apakšpado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Ilze Trušins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19840" y="4800600"/>
            <a:ext cx="1297080" cy="12175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Transporta, sakaru un informātikas lietu apakšpad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Inta Rozenšte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927080" y="2563560"/>
            <a:ext cx="0" cy="2235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106720" y="3895200"/>
            <a:ext cx="541080" cy="9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135080" y="3859200"/>
            <a:ext cx="144000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7472160" y="3895200"/>
            <a:ext cx="718920" cy="9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320" y="4800600"/>
            <a:ext cx="125892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Veselības nozares apakšpad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Skaidrīte Vasaraud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760" y="6059520"/>
            <a:ext cx="420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Sabiedrības informē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Sagatavotas 9 preses relīzes sadarbībā ar KD par: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NTSP sēžu nori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arba kārtību un pieņemtajiem lēmum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Paldies par uzmanību!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http://www.mk.gov.lv/lv/mp/vaditas-padomes/ntsp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5:56:35Z</dcterms:created>
  <dc:creator>Egle</dc:creator>
  <dc:description/>
  <cp:keywords/>
  <dc:language>en-US</dc:language>
  <cp:lastModifiedBy>Sanita Diediske</cp:lastModifiedBy>
  <cp:lastPrinted>1904-01-01T00:00:00Z</cp:lastPrinted>
  <dcterms:modified xsi:type="dcterms:W3CDTF">2008-03-28T08:31:25Z</dcterms:modified>
  <cp:revision>25</cp:revision>
  <dc:subject/>
  <dc:title>Nacionālās trīspusējās sadarbības padomes 2007.gada darbības pārskats</dc:title>
</cp:coreProperties>
</file>