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28B0-0C6A-479E-80CC-FCED2CF8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9E95-6F5A-4307-932F-94F28650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764F-CE4E-40F9-8E09-324D02DE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8FD-DA8B-45BD-8F65-B84D5A9F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6BB7-B7BB-4F30-A583-73B6A9D6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5648-F93E-4CAF-BEDA-E0435110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9999-F4D7-4D83-BBED-06BE1CE5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1B6E-6BC4-47DB-8C5A-B864BEC9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3261-9D31-43F7-A64F-E86641CA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E978-E8E5-4F9D-A828-3DE7F9BD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4949-29EC-4F57-9A7B-E267BA60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DE7C-3C22-45C3-8D5B-C811E0D7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D61F-CAB5-40E8-AE6B-F12D5E79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215C-92CA-48F3-8D6E-E0A283B0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2DF1-DFFB-434D-9BD5-E904F005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B280-934F-4FD4-A2AB-AFB9F12B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371B-CBCD-4E57-A877-7261F5DE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7F0-CB8D-451D-A0E1-6D2CD5B3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01B5-0DB3-46F6-BF23-5803B58F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2F90-3A07-4763-8185-3330312A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2926-13F3-4866-A97B-8C387C06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56A-0412-47F0-B3F2-A02CEF8A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2B3D-BC18-4009-9786-69097EF7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5EBA-BDAB-46C7-9E80-D5E4570A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0F37-7301-407D-AEB7-B1CC2FFCC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3045-EEF2-4D6F-928C-1925D5E3A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acionālās trīspusējās sadarbības padomes 2007.gada darbības pārsk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NTSP sekretā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Maija Lā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acionālās trīspusējās sadarbības padomes sēž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un divpusējo sarunu norise 2007.gad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676520" y="1676520"/>
          <a:ext cx="6400800" cy="4349520"/>
        </p:xfrm>
        <a:graphic>
          <a:graphicData uri="http://schemas.openxmlformats.org/drawingml/2006/table">
            <a:tbl>
              <a:tblPr/>
              <a:tblGrid>
                <a:gridCol w="838080"/>
                <a:gridCol w="3886200"/>
                <a:gridCol w="167652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p.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P sēdes/divpusējās sarun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februā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aprīl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jūnij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augu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eptem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 un LDDK pārstāvju saru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rkārtas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rkārtas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un LBAS pārstāvju sanāks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TSP sēžu/divpusējo sarunu būtiskākie jautājumi 2007. gad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990720"/>
          <a:ext cx="7848720" cy="5624280"/>
        </p:xfrm>
        <a:graphic>
          <a:graphicData uri="http://schemas.openxmlformats.org/drawingml/2006/table">
            <a:tbl>
              <a:tblPr/>
              <a:tblGrid>
                <a:gridCol w="1143000"/>
                <a:gridCol w="670572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P sēžu/divpusējo sarunu būtiskākie jautāju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februā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Bulgārijas un Rumānijas pilsoņu pieeju Latvijas darba tirg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Koncepciju par migrācijas politiku nodarbinātības kontekst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aprīl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minimālās mēneša darba algas paaugstināšanu 2008.gad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informatīvo ziņojumu par izdienas pensiju piešķiršan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nekustamā īpašuma nodokļa pieaugumu ražojošajiem darb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ējiem un nodokļa likmes refor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jūnij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Finanšu ministrijas sagatavoto MK noteikumu projektu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Grozījumi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ru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abineta 2002.gada 28.maija noteikumos 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219 "Kārtība, kādā atlīdzināmi ar komandējumiem un darbinieku darba braucieniem saistītie izdevumi"" (TA-8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a grupas izstrādātajiem priekšlikumiem par minimālās   mēneša    darba algas apmēru un ar iedzīvotāju ienākuma nodokļa neapliekamā minimuma apmēru 2008.gad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inieku finansiālās iesaistes veicināša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augu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2007.gada valsts budžeta grozījumu un 2008.gada valsts budžeta sagatavošanas gai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nespējas apmaksas pilnveidošanu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migrācijas rīcībpolitiku darba spēka piesaistes kontekst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nepieciešamību veikt grozījumus Profesionālās izglītības 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rbinātības trīspusējās sadarbības apakšpadomes (PINTSA)nolikum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NTSP sēžu/divpusējo sarunu būtiskākie jautājumi 2007. gad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905120"/>
          <a:ext cx="7925040" cy="3882960"/>
        </p:xfrm>
        <a:graphic>
          <a:graphicData uri="http://schemas.openxmlformats.org/drawingml/2006/table">
            <a:tbl>
              <a:tblPr/>
              <a:tblGrid>
                <a:gridCol w="1154160"/>
                <a:gridCol w="6770880"/>
              </a:tblGrid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eptemb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Finanšu ministrijas sagatavoto informāciju par PVN likmēm (Ierobežotas pieejamības informāci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likumprojektu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likumprojektu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atbildes uz Latvijas Brīvo arodbiedrību savienības un Latvijas Darba devēju konfederācijas jautājumiem saistībā ar likumprojektu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 ga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un Latvijas Brīvo arodbiedrību savienības pārstāvju sarunas par likumprojektu </a:t>
                      </a:r>
                      <a:r>
                        <a:rPr b="0" i="1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istībā ar darba samaksas palielināšan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tzinumi par politikas plānošanas dokumentu un tiesību aktu projekti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LDDK SNIEGUSI 74 ATZINU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LBAS SNIEGUSI 66 ATZINU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TSP SEKRETARIĀ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PKOPOJIS, NOFORMĒJI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ATZINUMUS UN NOSŪTĪJIS PROJEKTA IZSTRĀDĀTĀJ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IZVĒRTĒJIS VSS IZSLUDINĀŠANAI PIETEIKTOS PROJEKTUS UN PIETEICIE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641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ATZINUMA SNIEGŠAN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AGATAVOJIS VSS PROTOKOLU IZRAKSTUS UN NOSŪTĪJIS LDDK UN L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NIEDZIS INFORMĀCIJU PAR PRECIZĒTAJIEM PROJEKTIEM UN UZAICINĀJUMIEM UZ STARPINSTITŪCIJU SANĀKSMĒ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411800" y="2527200"/>
            <a:ext cx="755640" cy="828720"/>
          </a:xfrm>
          <a:prstGeom prst="downArrow">
            <a:avLst>
              <a:gd name="adj1" fmla="val 50000"/>
              <a:gd name="adj2" fmla="val 27418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743440" y="259992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967440" y="260784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8299440" y="2592000"/>
            <a:ext cx="0" cy="223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519440" y="259200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187800" y="258084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752480"/>
            <a:ext cx="8028000" cy="773280"/>
          </a:xfrm>
          <a:prstGeom prst="rect">
            <a:avLst/>
          </a:prstGeom>
          <a:solidFill>
            <a:srgbClr val="ffcc99"/>
          </a:solidFill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Nacionālā Trīspusējās sadarbības pad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NTS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pārstāvji no  katras puses: LDDK, LBAS un M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3365640"/>
            <a:ext cx="5180040" cy="515880"/>
          </a:xfrm>
          <a:prstGeom prst="rect">
            <a:avLst/>
          </a:prstGeom>
          <a:solidFill>
            <a:srgbClr val="ffcc99"/>
          </a:solidFill>
          <a:ln w="19080">
            <a:solidFill>
              <a:srgbClr val="66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NTSP sekretariā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84200" y="4800600"/>
            <a:ext cx="122400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Sociālās drošība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rina Homk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54280" y="4800600"/>
            <a:ext cx="118764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Darba lietu trīspusējās sadarbības apakšpad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Sintija Bur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4800600"/>
            <a:ext cx="12970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Profesionālās izglītības un nodarbinātība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nta Ziediņ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027080" y="258084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959440" y="385776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971800" y="387684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183440" y="3865680"/>
            <a:ext cx="0" cy="946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303800" y="385776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5200" y="4800600"/>
            <a:ext cx="11872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Reģionālās attīstības apakšpadom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Valda Smirno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9720" y="4800600"/>
            <a:ext cx="115236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Vides aizsardzības lietu apakšpad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Ilze Trušins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19840" y="4800600"/>
            <a:ext cx="1297080" cy="12175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Transporta, sakaru un informātikas lietu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nta Rozenšte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927080" y="256356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106720" y="3895200"/>
            <a:ext cx="541080" cy="9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135080" y="3859200"/>
            <a:ext cx="144000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7472160" y="3895200"/>
            <a:ext cx="718920" cy="9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320" y="4800600"/>
            <a:ext cx="125892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Veselības nozare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Skaidrīte Vasaraud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760" y="6059520"/>
            <a:ext cx="42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Sabiedrības informē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Sagatavotas 9 preses relīzes sadarbībā ar KD par: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TSP sēžu nor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kārtību un pieņemtajiem lēmum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http://www.mk.gov.lv/lv/mp/vaditas-padomes/ntsp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5:56:35Z</dcterms:created>
  <dc:creator>Egle</dc:creator>
  <dc:description/>
  <cp:keywords/>
  <dc:language>en-US</dc:language>
  <cp:lastModifiedBy>Sanita Diediske</cp:lastModifiedBy>
  <cp:lastPrinted>1904-01-01T00:00:00Z</cp:lastPrinted>
  <dcterms:modified xsi:type="dcterms:W3CDTF">2008-03-28T08:31:25Z</dcterms:modified>
  <cp:revision>25</cp:revision>
  <dc:subject/>
  <dc:title>Nacionālās trīspusējās sadarbības padomes 2007.gada darbības pārskats</dc:title>
</cp:coreProperties>
</file>