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9CA6-A5CC-418A-AAC1-3149CA9D5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1F2-64E8-4827-A9C9-7B0E0E58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0B8-816A-4078-901A-A5B86E792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3D22-07B9-4999-A232-6525AD162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6E90-09EC-46DE-83C5-B89BA288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7F35-DDF1-4CB1-8D65-DEC3E8CB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B871-BD33-4DF0-A6E5-CFCA62F0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74F8-FBFB-4EA1-BE2B-904EABA0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6531-21E8-4A23-A289-6619C221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70E3-E9F7-4E57-BF69-5A1B6E42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AF86-C6AB-43CB-BCB8-52311B67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9134-538A-4D7E-BE81-B50B5C4F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493C-79A9-46A9-87F3-EF90EF23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DD8F-30B7-4029-8DFA-8C1D4C61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76A7-94C2-45EE-B777-B920C97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EAA0-EFEB-4B34-B097-0173453AB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2872-9145-4A6A-A158-6893C5AE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46E-94D5-4831-AA07-72B961B8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518-DD2A-49DE-B6BA-DB8199A5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3DEE-B8B8-48CA-BD49-59F48C1C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4FD7-DEA8-4F7E-AE38-A1B472BC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AFA-36B0-4AD9-9450-64898265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48A-85D3-4D9D-8C76-1DBB7ADE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C27-669A-4F73-A174-B562B05B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8BF4-57A2-42F8-BFF3-36AB8B14A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1A45-49C7-42B8-AF6E-3F6E9AE83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acionālās trīspusējās sadarbības padomes 2007.gada darbības pārsk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NTSP sekretā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Maija Lā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acionālās trīspusējās sadarbības padomes sēž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un divpusējo sarunu norise 2007.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676520" y="1676520"/>
          <a:ext cx="6400800" cy="4349520"/>
        </p:xfrm>
        <a:graphic>
          <a:graphicData uri="http://schemas.openxmlformats.org/drawingml/2006/table">
            <a:tbl>
              <a:tblPr/>
              <a:tblGrid>
                <a:gridCol w="838080"/>
                <a:gridCol w="3886200"/>
                <a:gridCol w="16765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p.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des/divpusējās sarun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ārtējā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un LDDK pārstāvju sar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ārkārtas sē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BAS pārstāvju sanāks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990720"/>
          <a:ext cx="7848720" cy="5624280"/>
        </p:xfrm>
        <a:graphic>
          <a:graphicData uri="http://schemas.openxmlformats.org/drawingml/2006/table">
            <a:tbl>
              <a:tblPr/>
              <a:tblGrid>
                <a:gridCol w="1143000"/>
                <a:gridCol w="67057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P sēžu/divpusējo sarunu būtiskākie jautāj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 februā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Bulgārijas un Rumānijas pilsoņu pieeju Latvijas darba tirg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Koncepciju par migrācijas politiku nodarbinātība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aprī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nimālās mēneša darba algas paaugstināšan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informatīvo ziņojumu par izdienas pensiju piešķiršan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kustamā īpašuma nodokļa pieaugumu ražojošajiem darb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ējiem un nodokļa likmes refor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 jūnij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MK noteikumu projektu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Grozījumi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stru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abineta 2002.gada 28.maija noteikumos N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219 "Kārtība, kādā atlīdzināmi ar komandējumiem un darbinieku darba braucieniem saistītie izdevumi"" (TA-8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a grupas izstrādātajiem priekšlikumiem par minimālās   mēneša    darba algas apmēru un ar iedzīvotāju ienākuma nodokļa neapliekamā minimuma apmēru 2008.gad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inieku finansiālās iesaistes veicināša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 augu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2007.gada valsts budžeta grozījumu un 2008.gada valsts budžeta sagatavošanas ga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darbnespējas apmaksas pilnveidošanu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migrācijas rīcībpolitiku darba spēka piesaistes kontekst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nepieciešamību veikt grozījumus Profesionālās izglītības 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arbinātības trīspusējās sadarbības apakšpadomes (PINTSA)nolikum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NTSP sēžu/divpusējo sarunu būtiskākie jautājumi 2007. gad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905120"/>
          <a:ext cx="7925040" cy="3882960"/>
        </p:xfrm>
        <a:graphic>
          <a:graphicData uri="http://schemas.openxmlformats.org/drawingml/2006/table">
            <a:tbl>
              <a:tblPr/>
              <a:tblGrid>
                <a:gridCol w="1154160"/>
                <a:gridCol w="6770880"/>
              </a:tblGrid>
              <a:tr h="106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eptembr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Finanšu ministrijas sagatavoto informāciju par PVN likmēm (Ierobežotas pieejamības informācij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likumprojektu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atbildes uz Latvijas Brīvo arodbiedrību savienības un Latvijas Darba devēju konfederācijas jautājumiem saistībā ar likumprojektu </a:t>
                      </a:r>
                      <a:r>
                        <a:rPr b="0" i="1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 gad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 oktobr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dības un Latvijas Brīvo arodbiedrību savienības pārstāvju sarunas par likumprojektu </a:t>
                      </a:r>
                      <a:r>
                        <a:rPr b="0" i="1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 valsts budžetu 2008.gadam 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stībā ar darba samaksas palielināšan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tzinumi par politikas plānošanas dokumentu un tiesību aktu projekti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DDK SNIEGUSI 74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LBAS SNIEGUSI 66 ATZINU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NTSP SEKRETARIĀ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PKOPOJIS, NOFORMĒJI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40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US UN NOSŪTĪJIS PROJEKTA IZSTRĀDĀTĀJ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IZVĒRTĒJIS VSS IZSLUDINĀŠANAI PIETEIKTOS PROJEKTUS UN PIETEICIE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641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ATZINUMA SNIEGŠA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AGATAVOJIS VSS PROTOKOLU IZRAKSTUS UN NOSŪTĪJIS LDDK UN LB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SNIEDZIS INFORMĀCIJU PAR PRECIZĒTAJIEM PROJEKTIEM UN UZAICINĀJUMIEM UZ STARPINSTITŪCIJU SANĀKSMĒ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411800" y="2527200"/>
            <a:ext cx="755640" cy="828720"/>
          </a:xfrm>
          <a:prstGeom prst="downArrow">
            <a:avLst>
              <a:gd name="adj1" fmla="val 50000"/>
              <a:gd name="adj2" fmla="val 2741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743440" y="259992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967440" y="260784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8299440" y="2592000"/>
            <a:ext cx="0" cy="223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519440" y="2592000"/>
            <a:ext cx="0" cy="2212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18780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752480"/>
            <a:ext cx="8028000" cy="7732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Arial"/>
              </a:rPr>
              <a:t>Nacionālā Trīspusējās sadarbības pa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NTS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pārstāvji no  katras puses: LDDK, LBAS un M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3365640"/>
            <a:ext cx="5180040" cy="515880"/>
          </a:xfrm>
          <a:prstGeom prst="rect">
            <a:avLst/>
          </a:prstGeom>
          <a:solidFill>
            <a:srgbClr val="ffcc99"/>
          </a:solidFill>
          <a:ln w="19080">
            <a:solidFill>
              <a:srgbClr val="6600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NTSP sekretariā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84200" y="4800600"/>
            <a:ext cx="122400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ociālās droš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rina Homk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4280" y="4800600"/>
            <a:ext cx="118764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Darba lietu trīspusējās sadarbības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Sintija Bur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2970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Profesionālās izglītības un nodarbinātība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Ziediņ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027080" y="258084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95944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971800" y="387684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183440" y="3865680"/>
            <a:ext cx="0" cy="9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303800" y="3857760"/>
            <a:ext cx="0" cy="947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45200" y="4800600"/>
            <a:ext cx="1187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Reģionālās attīstības apakšpadom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alda Smirno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800600"/>
            <a:ext cx="115236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Vides aizsardzības lietu apakšpad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100" spc="-1" strike="noStrike">
                <a:solidFill>
                  <a:srgbClr val="000000"/>
                </a:solidFill>
                <a:latin typeface="Arial"/>
              </a:rPr>
              <a:t>Ilze Trušinsk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9840" y="4800600"/>
            <a:ext cx="1297080" cy="12175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Transporta, sakaru un informātikas lietu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Inta Rozenšte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27080" y="2563560"/>
            <a:ext cx="0" cy="2235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06720" y="3895200"/>
            <a:ext cx="54108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135080" y="3859200"/>
            <a:ext cx="144000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7472160" y="3895200"/>
            <a:ext cx="718920" cy="9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320" y="4800600"/>
            <a:ext cx="125892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Veselības nozares apakšpad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Skaidrīte Vasaraud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760" y="6059520"/>
            <a:ext cx="42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Sabiedrības informē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Sagatavotas 9 preses relīzes sadarbībā ar KD par: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NTSP sēžu nor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kārtību un pieņemtajiem lēmum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http://www.mk.gov.lv/lv/mp/vaditas-padomes/ntsp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56:35Z</dcterms:created>
  <dc:creator>Egle</dc:creator>
  <dc:description/>
  <cp:keywords/>
  <dc:language>en-US</dc:language>
  <cp:lastModifiedBy>Sanita Diediske</cp:lastModifiedBy>
  <cp:lastPrinted>1904-01-01T00:00:00Z</cp:lastPrinted>
  <dcterms:modified xsi:type="dcterms:W3CDTF">2008-03-28T08:31:25Z</dcterms:modified>
  <cp:revision>25</cp:revision>
  <dc:subject/>
  <dc:title>Nacionālās trīspusējās sadarbības padomes 2007.gada darbības pārskats</dc:title>
</cp:coreProperties>
</file>