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64C-ADAF-4AD9-A9EC-15DBB311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FA3-AB9D-4EEB-80F2-FF275643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4B0B-53F8-450F-9D73-54FDFDBC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54A6-D668-45FA-89EA-0D5DC528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405A-607B-4432-B7EA-4B210923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C3D7-0FE5-46B8-B559-C63687B6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9E31-8240-4D51-AD6E-92BC9C8E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8118-DE27-4C43-8153-6E01CFD5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A3B9-31AF-4D3E-9C8B-BE1B15FB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AE2E-870D-4716-9E63-39BEA671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55A9-872D-484D-8870-41E32DBF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F457-77F9-429D-9871-4C367F55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F624-BF08-4791-9748-121259A7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9744-1DA7-4184-BBF2-BBC4A629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25D3-C48A-4626-A342-E9847DFE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FF99-F884-49D7-BBCD-4B21AE02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96FF-0153-46C9-9FF0-0C65C5FA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D48-D3E2-4335-8C0B-812142BC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500-109B-4DC3-A791-B6732B41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67C1-89EF-4C14-8B48-E2385DF1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4E5-5376-4C64-9325-CDF4DDE9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1FC1-96DC-49C4-BDAF-8FC11D29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5D7-6BAD-44AA-88E6-55B24809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ECA-FC5F-4DF3-B6C7-E20EC5A4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324F-3AAA-4734-9B15-67F126A1B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DE7F-F7CE-4FBD-9A46-28E5037A5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acionālās trīspusējās sadarbības padomes 2007.gada darbības pārsk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NTSP sekretā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Maija Lā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cionālās trīspusējās sadarbības padomes sēž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n divpusējo sarunu norise 2007.gad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676520" y="1676520"/>
          <a:ext cx="6400800" cy="4349520"/>
        </p:xfrm>
        <a:graphic>
          <a:graphicData uri="http://schemas.openxmlformats.org/drawingml/2006/table">
            <a:tbl>
              <a:tblPr/>
              <a:tblGrid>
                <a:gridCol w="838080"/>
                <a:gridCol w="3886200"/>
                <a:gridCol w="167652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p.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P sēdes/divpusējās saru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februā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aprī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jūni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augu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eptem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un LDDK pārstāvju saru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rkārtas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rkārtas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un LBAS pārstāvju sanāks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TSP sēžu/divpusējo sarunu būtiskākie jautājumi 2007. gad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990720"/>
          <a:ext cx="7848720" cy="5624280"/>
        </p:xfrm>
        <a:graphic>
          <a:graphicData uri="http://schemas.openxmlformats.org/drawingml/2006/table">
            <a:tbl>
              <a:tblPr/>
              <a:tblGrid>
                <a:gridCol w="1143000"/>
                <a:gridCol w="67057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P sēžu/divpusējo sarunu būtiskākie jautāju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februā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Bulgārijas un Rumānijas pilsoņu pieeju Latvijas darba tirg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Koncepciju par migrācijas politiku nodarbinātības kontekst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aprīl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minimālās mēneša darba algas paaugstināšanu 2008.gad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informatīvo ziņojumu par izdienas pensiju piešķiršan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nekustamā īpašuma nodokļa pieaugumu ražojošajiem darb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ējiem un nodokļa likmes refor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jūnij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Finanšu ministrijas sagatavoto MK noteikumu projektu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Grozījumi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ru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abineta 2002.gada 28.maija noteikumos 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219 "Kārtība, kādā atlīdzināmi ar komandējumiem un darbinieku darba braucieniem saistītie izdevumi"" (TA-8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a grupas izstrādātajiem priekšlikumiem par minimālās   mēneša    darba algas apmēru un ar iedzīvotāju ienākuma nodokļa neapliekamā minimuma apmēru 2008.gad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inieku finansiālās iesaistes veicināša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augu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2007.gada valsts budžeta grozījumu un 2008.gada valsts budžeta sagatavošanas gai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nespējas apmaksas pilnveidošanu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migrācijas rīcībpolitiku darba spēka piesaistes kontekst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nepieciešamību veikt grozījumus Profesionālās izglītības 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rbinātības trīspusējās sadarbības apakšpadomes (PINTSA)nolikum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NTSP sēžu/divpusējo sarunu būtiskākie jautājumi 2007. gad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905120"/>
          <a:ext cx="7925040" cy="3882960"/>
        </p:xfrm>
        <a:graphic>
          <a:graphicData uri="http://schemas.openxmlformats.org/drawingml/2006/table">
            <a:tbl>
              <a:tblPr/>
              <a:tblGrid>
                <a:gridCol w="1154160"/>
                <a:gridCol w="6770880"/>
              </a:tblGrid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eptemb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Finanšu ministrijas sagatavoto informāciju par PVN likmēm (Ierobežotas pieejamības informāc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likumprojektu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likumprojektu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atbildes uz Latvijas Brīvo arodbiedrību savienības un Latvijas Darba devēju konfederācijas jautājumiem saistībā ar likumprojektu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 ga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un Latvijas Brīvo arodbiedrību savienības pārstāvju sarunas par likumprojektu </a:t>
                      </a:r>
                      <a:r>
                        <a:rPr b="0" i="1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istībā ar darba samaksas palielināšan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tzinumi par politikas plānošanas dokumentu un tiesību aktu projekti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LDDK SNIEGUSI 74 ATZINU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LBAS SNIEGUSI 66 ATZINU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TSP SEKRETARIĀ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PKOPOJIS, NOFORMĒJI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ATZINUMUS UN NOSŪTĪJIS PROJEKTA IZSTRĀDĀTĀJ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IZVĒRTĒJIS VSS IZSLUDINĀŠANAI PIETEIKTOS PROJEKTUS UN PIETEICIE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641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ATZINUMA SNIEGŠAN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AGATAVOJIS VSS PROTOKOLU IZRAKSTUS UN NOSŪTĪJIS LDDK UN L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NIEDZIS INFORMĀCIJU PAR PRECIZĒTAJIEM PROJEKTIEM UN UZAICINĀJUMIEM UZ STARPINSTITŪCIJU SANĀKSMĒ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411800" y="2527200"/>
            <a:ext cx="755640" cy="828720"/>
          </a:xfrm>
          <a:prstGeom prst="downArrow">
            <a:avLst>
              <a:gd name="adj1" fmla="val 50000"/>
              <a:gd name="adj2" fmla="val 27418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743440" y="259992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967440" y="260784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8299440" y="2592000"/>
            <a:ext cx="0" cy="223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519440" y="259200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187800" y="258084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752480"/>
            <a:ext cx="8028000" cy="773280"/>
          </a:xfrm>
          <a:prstGeom prst="rect">
            <a:avLst/>
          </a:prstGeom>
          <a:solidFill>
            <a:srgbClr val="ffcc99"/>
          </a:soli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Nacionālā Trīspusējās sadarbības pad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NTS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pārstāvji no  katras puses: LDDK, LBAS un M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3365640"/>
            <a:ext cx="5180040" cy="515880"/>
          </a:xfrm>
          <a:prstGeom prst="rect">
            <a:avLst/>
          </a:prstGeom>
          <a:solidFill>
            <a:srgbClr val="ffcc99"/>
          </a:solidFill>
          <a:ln w="1908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NTSP sekretariā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84200" y="4800600"/>
            <a:ext cx="122400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Sociālās drošība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rina Homk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54280" y="4800600"/>
            <a:ext cx="118764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Darba lietu trīspusējās sadarbības apakšpad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Sintija Bur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800600"/>
            <a:ext cx="12970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Profesionālās izglītības un nodarbinātība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nta Ziediņ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027080" y="258084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959440" y="385776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971800" y="387684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183440" y="3865680"/>
            <a:ext cx="0" cy="94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303800" y="385776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5200" y="4800600"/>
            <a:ext cx="11872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Reģionālās attīstības apakšpadom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Valda Smirn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9720" y="4800600"/>
            <a:ext cx="115236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Vides aizsardzības lietu apakšpad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Ilze Trušins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19840" y="4800600"/>
            <a:ext cx="1297080" cy="12175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Transporta, sakaru un informātikas lietu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nta Rozenšte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927080" y="256356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106720" y="3895200"/>
            <a:ext cx="541080" cy="9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135080" y="3859200"/>
            <a:ext cx="144000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7472160" y="3895200"/>
            <a:ext cx="718920" cy="9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320" y="4800600"/>
            <a:ext cx="125892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Veselības nozare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Skaidrīte Vasaraud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760" y="605952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Sabiedrības informē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Sagatavotas 9 preses relīzes sadarbībā ar KD par: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TSP sēžu nor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kārtību un pieņemtajiem lēm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http://www.mk.gov.lv/lv/mp/vaditas-padomes/ntsp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5:56:35Z</dcterms:created>
  <dc:creator>Egle</dc:creator>
  <dc:description/>
  <cp:keywords/>
  <dc:language>en-US</dc:language>
  <cp:lastModifiedBy>Sanita Diediske</cp:lastModifiedBy>
  <cp:lastPrinted>1904-01-01T00:00:00Z</cp:lastPrinted>
  <dcterms:modified xsi:type="dcterms:W3CDTF">2008-03-28T08:31:25Z</dcterms:modified>
  <cp:revision>25</cp:revision>
  <dc:subject/>
  <dc:title>Nacionālās trīspusējās sadarbības padomes 2007.gada darbības pārskats</dc:title>
</cp:coreProperties>
</file>