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6030-7903-43FC-B608-EF781738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76000" y="425880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258D-07E3-4DC3-9FEA-18680DE0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0504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ED8E-FBF2-4A38-A820-FD67877C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6872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6144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7600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6872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6144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62EF-303F-4DD7-9DF7-70BBEFE7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992E-E621-45CC-9E2E-B7979E47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65D9-59A2-4B57-8016-13E399B5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2480-3433-4A2E-9862-4F232EA5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02B-B756-496F-AD58-03E84C4E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79280" y="189000"/>
            <a:ext cx="716436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9CDB-66CB-4898-9B5A-D610B8B7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9BDC-F801-4CDB-AEF5-4413BD4C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0504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3979-407E-4165-9F4E-7F908180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9774-FF9A-446D-AF46-7AF8B8C6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2560" cy="6883200"/>
            <a:chOff x="0" y="0"/>
            <a:chExt cx="9142560" cy="688320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1979280" cy="6631200"/>
            </a:xfrm>
            <a:prstGeom prst="rect">
              <a:avLst/>
            </a:prstGeom>
            <a:solidFill>
              <a:srgbClr val="c0a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6623280"/>
              <a:ext cx="9142560" cy="259920"/>
            </a:xfrm>
            <a:prstGeom prst="rect">
              <a:avLst/>
            </a:prstGeom>
            <a:solidFill>
              <a:srgbClr val="faa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10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597360"/>
            <a:ext cx="11145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54767C-5CED-497F-AC16-A54FDDE642E5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604000" y="6597360"/>
            <a:ext cx="53820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A4C5D0-38AD-458F-A0C9-C824947BDA63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2" descr="logo"/>
          <p:cNvPicPr/>
          <p:nvPr/>
        </p:nvPicPr>
        <p:blipFill>
          <a:blip r:embed="rId2"/>
          <a:stretch/>
        </p:blipFill>
        <p:spPr>
          <a:xfrm>
            <a:off x="0" y="189000"/>
            <a:ext cx="1979640" cy="15224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8a4d4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4D11EB-1308-481D-9220-D888139945C6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C505B3-018B-46B9-8600-CE36E8C3CD31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VANA darbību 2007.gadā 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āniem 2008.gad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Vasaraud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A atbildīgā sekretā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amata normatīvais akts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elības aprūpes nozares apakšpadome (VANA) darbojas atbilstoši nolikumam, kurš ir apstiprināts ar NTSP 2001.gada 21.marta sēdes lēmum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tokols Nr.16, 5.punk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bilstoši nolikuma 14.punktā noteiktajam, VANA sēdes tiek sasauktas reizi divos mēnešos un dalībpuses ir pārstāvētas 3 dalībnieku sastāv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D0F305-C00E-4F94-947E-A9045F8399CA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7709C7-C3E5-4933-831C-880F982146FA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Apakšpadomē darbojas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ības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VM un VO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LDDK, Latvijas Slimnīcu biedrības un Veselības aprūpes darba devēju asociācijas pārstāv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dbiedrības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Latvijas Veselības un sociālās aprūpes darbinieku arodbiedrības, Latvijas Ārstniecības un aprūpes darbinieku arodsavienības un Valsts iestāžu, pašvaldību, uzņēmumu un finanšu darbinieku arodbiedrības pārstāvj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8EFE13-8695-40D6-92FD-662D18FE93A9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47C335-B5E1-4D08-B4BB-01D76AA23EDA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Jautājumi, kas ir skatīti 2007.gadā VANA sēdēs</a:t>
            </a:r>
            <a:r>
              <a:rPr b="1" lang="lv-LV" sz="4000" spc="-1" strike="noStrike">
                <a:solidFill>
                  <a:srgbClr val="8a4d48"/>
                </a:solidFill>
                <a:latin typeface="Verdana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sstundu uzskaites un apmaksas uzlabošana veselības aprūpes nozar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 skatījums uz tarifu veidošanas principiem un konkrēti priekšlikumi tarifu uzlabošan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ības puses prezentācija par tarifu veidošanas principi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 skatījums uz tarifu veidošanas principiem un konkrēti priekšlikumi tarifu uzlabošan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610C9F-ECDF-447A-B5E8-186F6F981935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7D24AB-D077-4E57-ACA8-B4D659C6624B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Programmas cilvēkresursu nodrošināšanai veselības aprūpē izpildes gaita darba samaksas un sociālo garantiju jomā.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Priekšlikumi MK 2006.gada 19.decembra noteikumu Nr.1046 „Veselības aprūpes organizēšanas un finansēšanas kārtība” grozījumi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selības aprūpes budžets 2008.gad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93CB55-1C5B-412F-8440-A401AAE1125A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912B41-8137-44E7-8B98-EF3768BABB56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0" lang="lv-LV" sz="3600" spc="-1" strike="noStrike">
                <a:solidFill>
                  <a:srgbClr val="8a4d48"/>
                </a:solidFill>
                <a:latin typeface="Verdana"/>
              </a:rPr>
              <a:t>Jautājumi, kas ir skatīti 2007.gadā VANA sēdēs</a:t>
            </a:r>
            <a:r>
              <a:rPr b="1" lang="lv-LV" sz="3600" spc="-1" strike="noStrike">
                <a:solidFill>
                  <a:srgbClr val="8a4d48"/>
                </a:solidFill>
                <a:latin typeface="Verdana"/>
              </a:rPr>
              <a:t>:</a:t>
            </a:r>
            <a:br>
              <a:rPr sz="3600"/>
            </a:br>
            <a:r>
              <a:rPr b="0" lang="lv-LV" sz="3600" spc="-1" strike="noStrike">
                <a:solidFill>
                  <a:srgbClr val="8a4d48"/>
                </a:solidFill>
                <a:latin typeface="Verdana"/>
              </a:rPr>
              <a:t>(turpinājums)</a:t>
            </a:r>
            <a:br>
              <a:rPr sz="3600"/>
            </a:br>
            <a:endParaRPr b="0" lang="en-US" sz="3600" spc="-1" strike="noStrike">
              <a:solidFill>
                <a:srgbClr val="8a4d4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lānots skatīt 2008.gadā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kšlikumi par nepieciešamību veikt grozījumus normatīvajos aktos, lai nodrošinātu NMP brigāžu darba uzlaboša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sstundu uzskaites un apmaksas uzlabošana veselības aprūpes nozar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īgumu apjoma izpildes gada rezultā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.gada budžeta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ildpieprasīj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0C2593-47D0-4A17-A286-AF1C8B2A0EDE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4C2CEA-66EA-4E90-A7AD-2EB1A0818D6F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lānots skatīt 2008.gadā (turpinājums)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krēti priekšlikumi par konkrētiem pakalpojumiem, kurus jāizslēdz 2009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dā no valst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maksājamajiem pakalpojumiem ar pamatojumu kāpēc un kādi pakalpojumi jāliek to viet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unās veselības politikas iniciatī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716EDD-306D-4DF2-B910-54AD6D50E2F1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228566-0422-4D75-8E64-3B56F91D5DFE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dies par uzmanīb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82A75F-2F8E-44F1-840E-78FE0928D527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F48E65-962F-4CBE-A915-B4551C36C5D0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1:21:59Z</dcterms:created>
  <dc:creator>svasaraudze</dc:creator>
  <dc:description/>
  <dc:language>en-US</dc:language>
  <cp:lastModifiedBy>Sanita Diediske</cp:lastModifiedBy>
  <dcterms:modified xsi:type="dcterms:W3CDTF">2008-05-09T08:35:05Z</dcterms:modified>
  <cp:revision>6</cp:revision>
  <dc:subject/>
  <dc:title>Slide 1</dc:title>
</cp:coreProperties>
</file>