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ED148-D9A2-43B4-A6C7-CF2EBB966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79280" y="189000"/>
            <a:ext cx="716436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8a4d48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76000" y="1700280"/>
            <a:ext cx="766764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476000" y="4258800"/>
            <a:ext cx="766764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4182A-6A66-4114-9F87-B2A550782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79280" y="189000"/>
            <a:ext cx="716436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8a4d48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76000" y="1700280"/>
            <a:ext cx="3741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405040" y="1700280"/>
            <a:ext cx="3741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476000" y="4258800"/>
            <a:ext cx="3741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405040" y="4258800"/>
            <a:ext cx="3741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ECA9D-E4DF-4D92-A89A-5706F4B98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79280" y="189000"/>
            <a:ext cx="716436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8a4d48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476000" y="1700280"/>
            <a:ext cx="24688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068720" y="1700280"/>
            <a:ext cx="24688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661440" y="1700280"/>
            <a:ext cx="24688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476000" y="4258800"/>
            <a:ext cx="24688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4068720" y="4258800"/>
            <a:ext cx="24688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661440" y="4258800"/>
            <a:ext cx="24688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04B6B-EF6B-4B8A-90F1-EF9EB6C27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79280" y="189000"/>
            <a:ext cx="716436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8a4d4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476000" y="1700280"/>
            <a:ext cx="766764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1E551-29FA-48D0-8768-12C9C23C7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79280" y="189000"/>
            <a:ext cx="716436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8a4d4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476000" y="1700280"/>
            <a:ext cx="766764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FA8B7-6552-492B-904B-2383B728A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79280" y="189000"/>
            <a:ext cx="716436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8a4d48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476000" y="1700280"/>
            <a:ext cx="37414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405040" y="1700280"/>
            <a:ext cx="37414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1683D-ED20-48F9-AC28-B347A6526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79280" y="189000"/>
            <a:ext cx="716436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8a4d4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217FA-745F-4577-9F30-1FA9D2695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79280" y="189000"/>
            <a:ext cx="7164360" cy="70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49D0F-62B8-42CA-8D14-11D17CBE2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79280" y="189000"/>
            <a:ext cx="716436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8a4d48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76000" y="1700280"/>
            <a:ext cx="3741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05040" y="1700280"/>
            <a:ext cx="37414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476000" y="4258800"/>
            <a:ext cx="3741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C502B-4310-4454-9A84-9FA49CFAB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79280" y="189000"/>
            <a:ext cx="716436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8a4d48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76000" y="1700280"/>
            <a:ext cx="37414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05040" y="1700280"/>
            <a:ext cx="3741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05040" y="4258800"/>
            <a:ext cx="3741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3F9F7-C14D-4AEE-A9B7-71D3B063E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79280" y="189000"/>
            <a:ext cx="716436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8a4d48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76000" y="1700280"/>
            <a:ext cx="3741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05040" y="1700280"/>
            <a:ext cx="3741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476000" y="4258800"/>
            <a:ext cx="766764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746C3-E253-402D-918D-8B3EE3222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"/>
          <p:cNvGrpSpPr/>
          <p:nvPr/>
        </p:nvGrpSpPr>
        <p:grpSpPr>
          <a:xfrm>
            <a:off x="0" y="0"/>
            <a:ext cx="9142560" cy="6883200"/>
            <a:chOff x="0" y="0"/>
            <a:chExt cx="9142560" cy="6883200"/>
          </a:xfrm>
        </p:grpSpPr>
        <p:sp>
          <p:nvSpPr>
            <p:cNvPr id="1" name="Rectangle 2"/>
            <p:cNvSpPr/>
            <p:nvPr/>
          </p:nvSpPr>
          <p:spPr>
            <a:xfrm>
              <a:off x="0" y="0"/>
              <a:ext cx="1979280" cy="6631200"/>
            </a:xfrm>
            <a:prstGeom prst="rect">
              <a:avLst/>
            </a:prstGeom>
            <a:solidFill>
              <a:srgbClr val="c0a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spcBef>
                  <a:spcPts val="1500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Rectangle 3"/>
            <p:cNvSpPr/>
            <p:nvPr/>
          </p:nvSpPr>
          <p:spPr>
            <a:xfrm>
              <a:off x="0" y="6623280"/>
              <a:ext cx="9142560" cy="259920"/>
            </a:xfrm>
            <a:prstGeom prst="rect">
              <a:avLst/>
            </a:prstGeom>
            <a:solidFill>
              <a:srgbClr val="faaa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spcBef>
                  <a:spcPts val="1500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1476000" y="1700280"/>
            <a:ext cx="766764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-6080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88920" indent="-53172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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51040" indent="-3794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Balt Times Omni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208240" indent="-3794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Balt Times Omni"/>
              <a:buChar char="»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208240" indent="-3794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Balt Times Omni"/>
              <a:buChar char="»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208240" indent="-3794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Balt Times Omni"/>
              <a:buChar char="»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0" y="6597360"/>
            <a:ext cx="1114560" cy="3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lv-LV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45F667A-3115-421C-B94E-23BD849084E4}" type="datetime">
              <a:rPr b="1" lang="lv-LV" sz="1400" spc="-1" strike="noStrike">
                <a:solidFill>
                  <a:srgbClr val="000000"/>
                </a:solidFill>
                <a:latin typeface="Arial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1187280" y="6605640"/>
            <a:ext cx="6910560" cy="2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agatavots Veselības ministrij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604000" y="6597360"/>
            <a:ext cx="538200" cy="3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D700D29-2690-49D2-B38B-9F7C2E9999FA}" type="slidenum">
              <a:rPr b="1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22" descr="logo"/>
          <p:cNvPicPr/>
          <p:nvPr/>
        </p:nvPicPr>
        <p:blipFill>
          <a:blip r:embed="rId2"/>
          <a:stretch/>
        </p:blipFill>
        <p:spPr>
          <a:xfrm>
            <a:off x="0" y="189000"/>
            <a:ext cx="1979640" cy="152244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1979280" y="189000"/>
            <a:ext cx="7164360" cy="151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8a4d48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8a4d4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Date Placeholder 3"/>
          <p:cNvSpPr/>
          <p:nvPr/>
        </p:nvSpPr>
        <p:spPr>
          <a:xfrm>
            <a:off x="0" y="6597720"/>
            <a:ext cx="11145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EEC2E40-7528-4CAE-9B6A-4B69FFAD2335}" type="datetime">
              <a:rPr b="1" lang="lv-LV" sz="1400" spc="-1" strike="noStrike">
                <a:solidFill>
                  <a:srgbClr val="000000"/>
                </a:solidFill>
                <a:latin typeface="Arial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Footer Placeholder 4"/>
          <p:cNvSpPr/>
          <p:nvPr/>
        </p:nvSpPr>
        <p:spPr>
          <a:xfrm>
            <a:off x="1187280" y="6605640"/>
            <a:ext cx="691056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agatavots Veselības ministrij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Slide Number Placeholder 5"/>
          <p:cNvSpPr/>
          <p:nvPr/>
        </p:nvSpPr>
        <p:spPr>
          <a:xfrm>
            <a:off x="8604360" y="6597720"/>
            <a:ext cx="5382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1A9D747-F4A8-49AD-96CE-86B041A8623D}" type="slidenum">
              <a:rPr b="1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979280" y="189000"/>
            <a:ext cx="7164360" cy="151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GB" sz="4000" spc="-1" strike="noStrike">
              <a:solidFill>
                <a:srgbClr val="8a4d4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76000" y="1700280"/>
            <a:ext cx="766764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580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580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580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lv-LV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lv-LV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 VANA darbību 2007.gadā u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9580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lv-LV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lv-LV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lv-LV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lv-LV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lv-LV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lv-LV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āniem 2008.gad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9580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580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580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580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lv-LV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lv-LV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.Vasaraud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580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lv-LV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NA atbildīgā sekretā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580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580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79280" y="189000"/>
            <a:ext cx="7164360" cy="151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lv-LV" sz="4000" spc="-1" strike="noStrike">
                <a:solidFill>
                  <a:srgbClr val="8a4d48"/>
                </a:solidFill>
                <a:latin typeface="Verdana"/>
              </a:rPr>
              <a:t>Pamata normatīvais akts</a:t>
            </a:r>
            <a:endParaRPr b="0" lang="en-US" sz="4000" spc="-1" strike="noStrike">
              <a:solidFill>
                <a:srgbClr val="8a4d48"/>
              </a:solidFill>
              <a:latin typeface="Verdana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1476000" y="1700280"/>
            <a:ext cx="766764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-608040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v-LV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selības aprūpes nozares apakšpadome (VANA) darbojas atbilstoši nolikumam, kurš ir apstiprināts ar NTSP 2001.gada 21.marta sēdes lēmumu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lv-LV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protokols Nr.16, 5.punkt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Atbilstoši nolikuma 14.punktā noteiktajam, VANA sēdes tiek sasauktas reizi divos mēnešos un dalībpuses ir pārstāvētas 3 dalībnieku sastāv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0" y="6597720"/>
            <a:ext cx="11145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A11A459-33A4-4867-B259-54C3ECA6C147}" type="datetime">
              <a:rPr b="1" lang="lv-LV" sz="1400" spc="-1" strike="noStrike">
                <a:solidFill>
                  <a:srgbClr val="000000"/>
                </a:solidFill>
                <a:latin typeface="Arial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Footer Placeholder 4"/>
          <p:cNvSpPr/>
          <p:nvPr/>
        </p:nvSpPr>
        <p:spPr>
          <a:xfrm>
            <a:off x="1187280" y="6605640"/>
            <a:ext cx="691056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agatavots Veselības ministrij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lide Number Placeholder 5"/>
          <p:cNvSpPr/>
          <p:nvPr/>
        </p:nvSpPr>
        <p:spPr>
          <a:xfrm>
            <a:off x="8604360" y="6597720"/>
            <a:ext cx="5382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81813EB-1405-45C3-AB80-7FA675B1CCB0}" type="slidenum">
              <a:rPr b="1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79280" y="189000"/>
            <a:ext cx="7164360" cy="151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lv-LV" sz="4000" spc="-1" strike="noStrike">
                <a:solidFill>
                  <a:srgbClr val="8a4d48"/>
                </a:solidFill>
                <a:latin typeface="Verdana"/>
              </a:rPr>
              <a:t>Apakšpadomē darbojas</a:t>
            </a:r>
            <a:endParaRPr b="0" lang="en-US" sz="4000" spc="-1" strike="noStrike">
              <a:solidFill>
                <a:srgbClr val="8a4d48"/>
              </a:solidFill>
              <a:latin typeface="Verdana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1476000" y="1700280"/>
            <a:ext cx="766764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-6080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ldības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use: VM un VOA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rba devēju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use: LDDK, Latvijas Slimnīcu biedrības un Veselības aprūpes darba devēju asociācijas pārstāvj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odbiedrības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use: Latvijas Veselības un sociālās aprūpes darbinieku arodbiedrības, Latvijas Ārstniecības un aprūpes darbinieku arodsavienības un Valsts iestāžu, pašvaldību, uzņēmumu un finanšu darbinieku arodbiedrības pārstāvj</a:t>
            </a:r>
            <a:r>
              <a:rPr b="0" lang="lv-LV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Date Placeholder 3"/>
          <p:cNvSpPr/>
          <p:nvPr/>
        </p:nvSpPr>
        <p:spPr>
          <a:xfrm>
            <a:off x="0" y="6597720"/>
            <a:ext cx="11145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7C38F97-A629-4F3C-A6EB-FD80D9BDC891}" type="datetime">
              <a:rPr b="1" lang="lv-LV" sz="1400" spc="-1" strike="noStrike">
                <a:solidFill>
                  <a:srgbClr val="000000"/>
                </a:solidFill>
                <a:latin typeface="Arial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Footer Placeholder 4"/>
          <p:cNvSpPr/>
          <p:nvPr/>
        </p:nvSpPr>
        <p:spPr>
          <a:xfrm>
            <a:off x="1187280" y="6605640"/>
            <a:ext cx="691056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agatavots Veselības ministrij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Slide Number Placeholder 5"/>
          <p:cNvSpPr/>
          <p:nvPr/>
        </p:nvSpPr>
        <p:spPr>
          <a:xfrm>
            <a:off x="8604360" y="6597720"/>
            <a:ext cx="5382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B0402ED-8F17-4E87-8B9F-FF5B6CF48CE8}" type="slidenum">
              <a:rPr b="1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979280" y="189000"/>
            <a:ext cx="7164360" cy="151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4000"/>
            </a:br>
            <a:r>
              <a:rPr b="0" lang="lv-LV" sz="4000" spc="-1" strike="noStrike">
                <a:solidFill>
                  <a:srgbClr val="8a4d48"/>
                </a:solidFill>
                <a:latin typeface="Verdana"/>
              </a:rPr>
              <a:t>Jautājumi, kas ir skatīti 2007.gadā VANA sēdēs</a:t>
            </a:r>
            <a:r>
              <a:rPr b="1" lang="lv-LV" sz="4000" spc="-1" strike="noStrike">
                <a:solidFill>
                  <a:srgbClr val="8a4d48"/>
                </a:solidFill>
                <a:latin typeface="Verdana"/>
              </a:rPr>
              <a:t>:</a:t>
            </a:r>
            <a:br>
              <a:rPr sz="4000"/>
            </a:br>
            <a:endParaRPr b="0" lang="en-US" sz="4000" spc="-1" strike="noStrike">
              <a:solidFill>
                <a:srgbClr val="8a4d48"/>
              </a:solidFill>
              <a:latin typeface="Verdana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1476000" y="1700280"/>
            <a:ext cx="766764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1920" indent="-60192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rsstundu uzskaites un apmaksas uzlabošana veselības aprūpes nozar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1920" indent="-60192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rba devēju skatījums uz tarifu veidošanas principiem un konkrēti priekšlikumi tarifu uzlabošana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1920" indent="-60192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ldības puses prezentācija par tarifu veidošanas principi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1920" indent="-60192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rba devēju skatījums uz tarifu veidošanas principiem un konkrēti priekšlikumi tarifu uzlabošana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1920" indent="-60192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Date Placeholder 3"/>
          <p:cNvSpPr/>
          <p:nvPr/>
        </p:nvSpPr>
        <p:spPr>
          <a:xfrm>
            <a:off x="0" y="6597720"/>
            <a:ext cx="11145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0AA420F-7936-4241-B49B-D6FA068040AD}" type="datetime">
              <a:rPr b="1" lang="lv-LV" sz="1400" spc="-1" strike="noStrike">
                <a:solidFill>
                  <a:srgbClr val="000000"/>
                </a:solidFill>
                <a:latin typeface="Arial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Footer Placeholder 4"/>
          <p:cNvSpPr/>
          <p:nvPr/>
        </p:nvSpPr>
        <p:spPr>
          <a:xfrm>
            <a:off x="1187280" y="6605640"/>
            <a:ext cx="691056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agatavots Veselības ministrij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Slide Number Placeholder 5"/>
          <p:cNvSpPr/>
          <p:nvPr/>
        </p:nvSpPr>
        <p:spPr>
          <a:xfrm>
            <a:off x="8604360" y="6597720"/>
            <a:ext cx="5382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06B7807-E50C-4245-8ADA-624A55D25BAE}" type="slidenum">
              <a:rPr b="1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1476000" y="1700280"/>
            <a:ext cx="766764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-608040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Programmas cilvēkresursu nodrošināšanai veselības aprūpē izpildes gaita darba samaksas un sociālo garantiju jomā.</a:t>
            </a:r>
            <a:r>
              <a:rPr b="0" lang="lv-LV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Priekšlikumi MK 2006.gada 19.decembra noteikumu Nr.1046 „Veselības aprūpes organizēšanas un finansēšanas kārtība” grozījumi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eselības aprūpes budžets 2008.gad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Date Placeholder 3"/>
          <p:cNvSpPr/>
          <p:nvPr/>
        </p:nvSpPr>
        <p:spPr>
          <a:xfrm>
            <a:off x="0" y="6597720"/>
            <a:ext cx="11145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8DCF549-A481-4E04-8F15-47BA244A0F7C}" type="datetime">
              <a:rPr b="1" lang="lv-LV" sz="1400" spc="-1" strike="noStrike">
                <a:solidFill>
                  <a:srgbClr val="000000"/>
                </a:solidFill>
                <a:latin typeface="Arial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Footer Placeholder 4"/>
          <p:cNvSpPr/>
          <p:nvPr/>
        </p:nvSpPr>
        <p:spPr>
          <a:xfrm>
            <a:off x="1187280" y="6605640"/>
            <a:ext cx="691056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agatavots Veselības ministrij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Slide Number Placeholder 5"/>
          <p:cNvSpPr/>
          <p:nvPr/>
        </p:nvSpPr>
        <p:spPr>
          <a:xfrm>
            <a:off x="8604360" y="6597720"/>
            <a:ext cx="5382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A40A3C2-B8F2-4FCB-B839-698D6D492198}" type="slidenum">
              <a:rPr b="1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979280" y="189000"/>
            <a:ext cx="7164360" cy="151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4000"/>
            </a:br>
            <a:r>
              <a:rPr b="0" lang="lv-LV" sz="3600" spc="-1" strike="noStrike">
                <a:solidFill>
                  <a:srgbClr val="8a4d48"/>
                </a:solidFill>
                <a:latin typeface="Verdana"/>
              </a:rPr>
              <a:t>Jautājumi, kas ir skatīti 2007.gadā VANA sēdēs</a:t>
            </a:r>
            <a:r>
              <a:rPr b="1" lang="lv-LV" sz="3600" spc="-1" strike="noStrike">
                <a:solidFill>
                  <a:srgbClr val="8a4d48"/>
                </a:solidFill>
                <a:latin typeface="Verdana"/>
              </a:rPr>
              <a:t>:</a:t>
            </a:r>
            <a:br>
              <a:rPr sz="3600"/>
            </a:br>
            <a:r>
              <a:rPr b="0" lang="lv-LV" sz="3600" spc="-1" strike="noStrike">
                <a:solidFill>
                  <a:srgbClr val="8a4d48"/>
                </a:solidFill>
                <a:latin typeface="Verdana"/>
              </a:rPr>
              <a:t>(turpinājums)</a:t>
            </a:r>
            <a:br>
              <a:rPr sz="3600"/>
            </a:br>
            <a:endParaRPr b="0" lang="en-US" sz="3600" spc="-1" strike="noStrike">
              <a:solidFill>
                <a:srgbClr val="8a4d4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979280" y="189000"/>
            <a:ext cx="7164360" cy="151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lv-LV" sz="4000" spc="-1" strike="noStrike">
                <a:solidFill>
                  <a:srgbClr val="8a4d48"/>
                </a:solidFill>
                <a:latin typeface="Verdana"/>
              </a:rPr>
              <a:t>Plānots skatīt 2008.gadā</a:t>
            </a:r>
            <a:endParaRPr b="0" lang="en-US" sz="4000" spc="-1" strike="noStrike">
              <a:solidFill>
                <a:srgbClr val="8a4d48"/>
              </a:solidFill>
              <a:latin typeface="Verdana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1476000" y="1700280"/>
            <a:ext cx="766764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-6080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ekšlikumi par nepieciešamību veikt grozījumus normatīvajos aktos, lai nodrošinātu NMP brigāžu darba uzlabošan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rsstundu uzskaites un apmaksas uzlabošana veselības aprūpes nozar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īgumu apjoma izpildes gada rezultā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09.gada budžeta</a:t>
            </a:r>
            <a:r>
              <a:rPr b="0" lang="lv-LV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pildpieprasīju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Date Placeholder 3"/>
          <p:cNvSpPr/>
          <p:nvPr/>
        </p:nvSpPr>
        <p:spPr>
          <a:xfrm>
            <a:off x="0" y="6597720"/>
            <a:ext cx="11145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A7D3168-0DBF-43FA-AE35-37841374B5AD}" type="datetime">
              <a:rPr b="1" lang="lv-LV" sz="1400" spc="-1" strike="noStrike">
                <a:solidFill>
                  <a:srgbClr val="000000"/>
                </a:solidFill>
                <a:latin typeface="Arial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Footer Placeholder 4"/>
          <p:cNvSpPr/>
          <p:nvPr/>
        </p:nvSpPr>
        <p:spPr>
          <a:xfrm>
            <a:off x="1187280" y="6605640"/>
            <a:ext cx="691056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agatavots Veselības ministrij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Slide Number Placeholder 5"/>
          <p:cNvSpPr/>
          <p:nvPr/>
        </p:nvSpPr>
        <p:spPr>
          <a:xfrm>
            <a:off x="8604360" y="6597720"/>
            <a:ext cx="5382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E0AE6FA-18FC-4EA6-8F7C-436FCF4A4198}" type="slidenum">
              <a:rPr b="1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79280" y="189000"/>
            <a:ext cx="7164360" cy="151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lv-LV" sz="4000" spc="-1" strike="noStrike">
                <a:solidFill>
                  <a:srgbClr val="8a4d48"/>
                </a:solidFill>
                <a:latin typeface="Verdana"/>
              </a:rPr>
              <a:t>Plānots skatīt 2008.gadā (turpinājums)</a:t>
            </a:r>
            <a:endParaRPr b="0" lang="en-US" sz="4000" spc="-1" strike="noStrike">
              <a:solidFill>
                <a:srgbClr val="8a4d48"/>
              </a:solidFill>
              <a:latin typeface="Verdana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1476000" y="1700280"/>
            <a:ext cx="766764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-608040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onkrēti priekšlikumi par konkrētiem pakalpojumiem, kurus jāizslēdz 2009.</a:t>
            </a: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dā no valsts</a:t>
            </a: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maksājamajiem pakalpojumiem ar pamatojumu kāpēc un kādi pakalpojumi jāliek to viet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unās veselības politikas iniciatīv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Date Placeholder 3"/>
          <p:cNvSpPr/>
          <p:nvPr/>
        </p:nvSpPr>
        <p:spPr>
          <a:xfrm>
            <a:off x="0" y="6597720"/>
            <a:ext cx="11145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06E6534-19C0-4334-B470-8D76B9E86842}" type="datetime">
              <a:rPr b="1" lang="lv-LV" sz="1400" spc="-1" strike="noStrike">
                <a:solidFill>
                  <a:srgbClr val="000000"/>
                </a:solidFill>
                <a:latin typeface="Arial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Footer Placeholder 4"/>
          <p:cNvSpPr/>
          <p:nvPr/>
        </p:nvSpPr>
        <p:spPr>
          <a:xfrm>
            <a:off x="1187280" y="6605640"/>
            <a:ext cx="691056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agatavots Veselības ministrij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Slide Number Placeholder 5"/>
          <p:cNvSpPr/>
          <p:nvPr/>
        </p:nvSpPr>
        <p:spPr>
          <a:xfrm>
            <a:off x="8604360" y="6597720"/>
            <a:ext cx="5382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154A436-DC2A-49F9-8C0A-AABCBDB9D864}" type="slidenum">
              <a:rPr b="1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979280" y="189000"/>
            <a:ext cx="7164360" cy="151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GB" sz="4000" spc="-1" strike="noStrike">
              <a:solidFill>
                <a:srgbClr val="8a4d48"/>
              </a:solidFill>
              <a:latin typeface="Verdana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1476000" y="1700280"/>
            <a:ext cx="766764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-6080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lv-LV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lv-LV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lv-LV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ldies par uzmanību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Date Placeholder 3"/>
          <p:cNvSpPr/>
          <p:nvPr/>
        </p:nvSpPr>
        <p:spPr>
          <a:xfrm>
            <a:off x="0" y="6597720"/>
            <a:ext cx="11145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A260A24-8470-4691-B3A9-5DD43A08FE06}" type="datetime">
              <a:rPr b="1" lang="lv-LV" sz="1400" spc="-1" strike="noStrike">
                <a:solidFill>
                  <a:srgbClr val="000000"/>
                </a:solidFill>
                <a:latin typeface="Arial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Footer Placeholder 4"/>
          <p:cNvSpPr/>
          <p:nvPr/>
        </p:nvSpPr>
        <p:spPr>
          <a:xfrm>
            <a:off x="1187280" y="6605640"/>
            <a:ext cx="691056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agatavots Veselības ministrij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Slide Number Placeholder 5"/>
          <p:cNvSpPr/>
          <p:nvPr/>
        </p:nvSpPr>
        <p:spPr>
          <a:xfrm>
            <a:off x="8604360" y="6597720"/>
            <a:ext cx="5382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19400A0-C578-424E-A711-C75BE9848DC8}" type="slidenum">
              <a:rPr b="1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7T11:21:59Z</dcterms:created>
  <dc:creator>svasaraudze</dc:creator>
  <dc:description/>
  <dc:language>en-US</dc:language>
  <cp:lastModifiedBy>Sanita Diediske</cp:lastModifiedBy>
  <dcterms:modified xsi:type="dcterms:W3CDTF">2008-05-09T08:35:05Z</dcterms:modified>
  <cp:revision>6</cp:revision>
  <dc:subject/>
  <dc:title>Slide 1</dc:title>
</cp:coreProperties>
</file>