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806B-0310-4C88-9DA9-57E0833E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76000" y="425880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8EB0-990C-4C66-879C-8212C9A3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0504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BC81-F25D-45C9-AA97-1AEFF502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6872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6144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7600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6872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6144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8C97-4C8F-4DAD-8676-C36C8E61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6844-9731-4556-BBDD-CD9F0388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F503-9C26-4579-9CF5-560A4BDC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81AC-192C-49AF-AD43-C6D44488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5908-8D86-478F-B2BD-0418FCBE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79280" y="189000"/>
            <a:ext cx="716436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0F0F-2FDB-4039-8BF9-3060BA0F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706D-5224-4EF1-B46E-5BA80998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0504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E8A7-93B1-45EE-97E3-E3BAF9B0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72EE-197A-45DB-A87E-9A1BF4C3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2560" cy="6883200"/>
            <a:chOff x="0" y="0"/>
            <a:chExt cx="9142560" cy="688320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1979280" cy="6631200"/>
            </a:xfrm>
            <a:prstGeom prst="rect">
              <a:avLst/>
            </a:prstGeom>
            <a:solidFill>
              <a:srgbClr val="c0a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6623280"/>
              <a:ext cx="9142560" cy="259920"/>
            </a:xfrm>
            <a:prstGeom prst="rect">
              <a:avLst/>
            </a:prstGeom>
            <a:solidFill>
              <a:srgbClr val="faa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10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597360"/>
            <a:ext cx="11145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BCA32C-6F5D-4EC7-9470-CBB1AE568BC7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604000" y="6597360"/>
            <a:ext cx="53820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5E26FD-7ECB-4F69-B129-032305B7F6B3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2" descr="logo"/>
          <p:cNvPicPr/>
          <p:nvPr/>
        </p:nvPicPr>
        <p:blipFill>
          <a:blip r:embed="rId2"/>
          <a:stretch/>
        </p:blipFill>
        <p:spPr>
          <a:xfrm>
            <a:off x="0" y="189000"/>
            <a:ext cx="1979640" cy="15224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8a4d4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47703C-314C-423B-BAFA-79BBF97BF41F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73B7AE-B7B2-4CB9-94D6-4E3CEC009F41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VANA darbību 2007.gadā 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āniem 2008.gad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Vasaraud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A atbildīgā sekretā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amata normatīvais akts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elības aprūpes nozares apakšpadome (VANA) darbojas atbilstoši nolikumam, kurš ir apstiprināts ar NTSP 2001.gada 21.marta sēdes lēmum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tokols Nr.16, 5.punk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bilstoši nolikuma 14.punktā noteiktajam, VANA sēdes tiek sasauktas reizi divos mēnešos un dalībpuses ir pārstāvētas 3 dalībnieku sastāv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F2A383-DA7F-4B66-A4E5-684E67E2C9A5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C71ACA-B062-4CFF-8752-E49BB8D79861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Apakšpadomē darbojas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ības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VM un VO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LDDK, Latvijas Slimnīcu biedrības un Veselības aprūpes darba devēju asociācijas pārstāv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dbiedrības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Latvijas Veselības un sociālās aprūpes darbinieku arodbiedrības, Latvijas Ārstniecības un aprūpes darbinieku arodsavienības un Valsts iestāžu, pašvaldību, uzņēmumu un finanšu darbinieku arodbiedrības pārstāvj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FB77BE-D6E3-4632-99C2-CDD61C3DD94C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97E136-9B60-4EA7-B5A7-4436AE49B469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Jautājumi, kas ir skatīti 2007.gadā VANA sēdēs</a:t>
            </a:r>
            <a:r>
              <a:rPr b="1" lang="lv-LV" sz="4000" spc="-1" strike="noStrike">
                <a:solidFill>
                  <a:srgbClr val="8a4d48"/>
                </a:solidFill>
                <a:latin typeface="Verdana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sstundu uzskaites un apmaksas uzlabošana veselības aprūpes nozar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 skatījums uz tarifu veidošanas principiem un konkrēti priekšlikumi tarifu uzlabošan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ības puses prezentācija par tarifu veidošanas principi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 skatījums uz tarifu veidošanas principiem un konkrēti priekšlikumi tarifu uzlabošan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7BE9B5-0BB9-420C-BBB5-8A5E2C18523F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5EA555-12D7-4B49-9F5F-A8E79682DBE9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Programmas cilvēkresursu nodrošināšanai veselības aprūpē izpildes gaita darba samaksas un sociālo garantiju jomā.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Priekšlikumi MK 2006.gada 19.decembra noteikumu Nr.1046 „Veselības aprūpes organizēšanas un finansēšanas kārtība” grozījumi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selības aprūpes budžets 2008.gad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E77324-3246-4657-8F03-ABCFEFA09CD6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F3A7D1-06BE-4551-950F-B739292A778B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0" lang="lv-LV" sz="3600" spc="-1" strike="noStrike">
                <a:solidFill>
                  <a:srgbClr val="8a4d48"/>
                </a:solidFill>
                <a:latin typeface="Verdana"/>
              </a:rPr>
              <a:t>Jautājumi, kas ir skatīti 2007.gadā VANA sēdēs</a:t>
            </a:r>
            <a:r>
              <a:rPr b="1" lang="lv-LV" sz="3600" spc="-1" strike="noStrike">
                <a:solidFill>
                  <a:srgbClr val="8a4d48"/>
                </a:solidFill>
                <a:latin typeface="Verdana"/>
              </a:rPr>
              <a:t>:</a:t>
            </a:r>
            <a:br>
              <a:rPr sz="3600"/>
            </a:br>
            <a:r>
              <a:rPr b="0" lang="lv-LV" sz="3600" spc="-1" strike="noStrike">
                <a:solidFill>
                  <a:srgbClr val="8a4d48"/>
                </a:solidFill>
                <a:latin typeface="Verdana"/>
              </a:rPr>
              <a:t>(turpinājums)</a:t>
            </a:r>
            <a:br>
              <a:rPr sz="3600"/>
            </a:br>
            <a:endParaRPr b="0" lang="en-US" sz="3600" spc="-1" strike="noStrike">
              <a:solidFill>
                <a:srgbClr val="8a4d4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lānots skatīt 2008.gadā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kšlikumi par nepieciešamību veikt grozījumus normatīvajos aktos, lai nodrošinātu NMP brigāžu darba uzlaboša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sstundu uzskaites un apmaksas uzlabošana veselības aprūpes nozar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īgumu apjoma izpildes gada rezultā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.gada budžeta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ildpieprasīj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AD950F-3B9C-4660-BFBF-14F44C21780D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641E3E-B1DD-4C1C-A1E3-220AD5ABE782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lānots skatīt 2008.gadā (turpinājums)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krēti priekšlikumi par konkrētiem pakalpojumiem, kurus jāizslēdz 2009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dā no valst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maksājamajiem pakalpojumiem ar pamatojumu kāpēc un kādi pakalpojumi jāliek to viet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unās veselības politikas iniciatī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DAAAAA-632F-4DF5-9901-EBD27B075FDC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C563F9-3123-406F-854E-E2F7825BDBAD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dies par uzmanīb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2B6F3B-A2BC-4B99-81D1-1249C5989B53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72B829-84DF-4B6B-856B-04D69633A314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1:21:59Z</dcterms:created>
  <dc:creator>svasaraudze</dc:creator>
  <dc:description/>
  <dc:language>en-US</dc:language>
  <cp:lastModifiedBy>Sanita Diediske</cp:lastModifiedBy>
  <dcterms:modified xsi:type="dcterms:W3CDTF">2008-05-09T08:35:05Z</dcterms:modified>
  <cp:revision>6</cp:revision>
  <dc:subject/>
  <dc:title>Slide 1</dc:title>
</cp:coreProperties>
</file>