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1D0-273A-416C-BFD0-A9621152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C01-0D17-40BA-856F-BB90DA46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B94F-DA7B-40D7-98F8-E4A6105D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6872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6144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6872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6144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AFF-E8F3-42FF-B645-405DA02B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0DD-5961-4D34-B589-80FE0031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58D-D56D-45EB-8BB5-31E99BB5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023-FB3C-42D8-908A-F7087F2C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ED6-D785-469C-A825-34229EB4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280" y="189000"/>
            <a:ext cx="716436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295-8B61-4FF2-B183-1CD8518B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062-B1CA-41C4-B110-DB75DDC4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E22-FFBE-4549-A9D2-114663E5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7F3-0D9B-44A9-B69D-04DFFDF2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83200"/>
            <a:chOff x="0" y="0"/>
            <a:chExt cx="9142560" cy="68832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979280" cy="6631200"/>
            </a:xfrm>
            <a:prstGeom prst="rect">
              <a:avLst/>
            </a:prstGeom>
            <a:solidFill>
              <a:srgbClr val="c0a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6623280"/>
              <a:ext cx="9142560" cy="259920"/>
            </a:xfrm>
            <a:prstGeom prst="rect">
              <a:avLst/>
            </a:prstGeom>
            <a:solidFill>
              <a:srgbClr val="fa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597360"/>
            <a:ext cx="1114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51CB3A-6FC0-4E5E-B5F7-8277974CB086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604000" y="6597360"/>
            <a:ext cx="5382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54BD8C-A438-449B-BAD8-FBEF24073FE5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2" descr="logo"/>
          <p:cNvPicPr/>
          <p:nvPr/>
        </p:nvPicPr>
        <p:blipFill>
          <a:blip r:embed="rId2"/>
          <a:stretch/>
        </p:blipFill>
        <p:spPr>
          <a:xfrm>
            <a:off x="0" y="189000"/>
            <a:ext cx="1979640" cy="1522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8a4d4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92929C-FC17-497A-A9AF-E1689D6A411E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EE1B30-9454-4BBA-8BF6-AE74ACCA3B24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VANA darbību 2007.gadā 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āniem 2008.gad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Vasaraud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A atbildīgā sekretā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amata normatīvais akt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elības aprūpes nozares apakšpadome (VANA) darbojas atbilstoši nolikumam, kurš ir apstiprināts ar NTSP 2001.gada 21.marta sēdes lēmum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okols Nr.16, 5.punk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bilstoši nolikuma 14.punktā noteiktajam, VANA sēdes tiek sasauktas reizi divos mēnešos un dalībpuses ir pārstāvētas 3 dalībnieku sastāv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38F5C3-5EC9-48FD-B11E-82A112EDFC32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EFEF94-7506-42C9-8121-64AB46E11221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Apakšpadomē darboja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VM un VO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DDK, Latvijas Slimnīcu biedrības un Veselības aprūpes darba devēju asociācijas pārstāv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dbiedr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atvijas Veselības un sociālās aprūpes darbinieku arodbiedrības, Latvijas Ārstniecības un aprūpes darbinieku arodsavienības un Valsts iestāžu, pašvaldību, uzņēmumu un finanšu darbinieku arodbiedrības pārstāvj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305115-C4B7-4B10-98B7-3708D8ED0D1C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B55D0B-A749-45D5-970F-C0F6C0CEB75B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40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 puses prezentācija par tarifu veidošanas principi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A8C947-9F7A-4FDD-B878-B64735DAD036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F7F389-F05C-4E40-A9D5-54638476FDD2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Programmas cilvēkresursu nodrošināšanai veselības aprūpē izpildes gaita darba samaksas un sociālo garantiju jomā.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riekšlikumi MK 2006.gada 19.decembra noteikumu Nr.1046 „Veselības aprūpes organizēšanas un finansēšanas kārtība” grozījumi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selības aprūpes budžets 2008.ga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87B5D2-5358-4CDA-B3D2-9A3CFD37A418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3033FE-AF16-409E-A15D-3F256D6650FB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36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36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(turpinājums)</a:t>
            </a:r>
            <a:br>
              <a:rPr sz="3600"/>
            </a:br>
            <a:endParaRPr b="0" lang="en-US" sz="36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kšlikumi par nepieciešamību veikt grozījumus normatīvajos aktos, lai nodrošinātu NMP brigāžu darba uzlaboša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gumu apjoma izpildes gada rezultā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.gada budžeta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pieprasīj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B96D55-1311-450F-A4F0-D3AA25AB02A7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707341-80C2-416D-8EA1-FE80C46E2249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 (turpinājums)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krēti priekšlikumi par konkrētiem pakalpojumiem, kurus jāizslēdz 2009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dā no vals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aksājamajiem pakalpojumiem ar pamatojumu kāpēc un kādi pakalpojumi jāliek to viet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unās veselības politikas iniciatī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6C3089-957D-4007-A544-EBACC2357427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84FE72-29AD-4903-9849-D2B6C3983068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dies par uzmanīb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26DEEA-E0E5-4C4A-9A23-545F56CCAA1F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A82DC9-D99B-48A7-B0FC-E5F94E6FC672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21:59Z</dcterms:created>
  <dc:creator>svasaraudze</dc:creator>
  <dc:description/>
  <dc:language>en-US</dc:language>
  <cp:lastModifiedBy>Sanita Diediske</cp:lastModifiedBy>
  <dcterms:modified xsi:type="dcterms:W3CDTF">2008-05-09T08:35:05Z</dcterms:modified>
  <cp:revision>6</cp:revision>
  <dc:subject/>
  <dc:title>Slide 1</dc:title>
</cp:coreProperties>
</file>