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20AC-8200-48BC-8035-78188C49C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79280" y="189000"/>
            <a:ext cx="71643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8a4d48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76000" y="1700280"/>
            <a:ext cx="76676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476000" y="4258800"/>
            <a:ext cx="76676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CAFD-D19E-41B1-BADD-C6465AEE9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79280" y="189000"/>
            <a:ext cx="71643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8a4d48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76000" y="1700280"/>
            <a:ext cx="3741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405040" y="1700280"/>
            <a:ext cx="3741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476000" y="4258800"/>
            <a:ext cx="3741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405040" y="4258800"/>
            <a:ext cx="3741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3872-FF7F-403E-A541-FBF15923A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79280" y="189000"/>
            <a:ext cx="71643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8a4d48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476000" y="1700280"/>
            <a:ext cx="24688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068720" y="1700280"/>
            <a:ext cx="24688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661440" y="1700280"/>
            <a:ext cx="24688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476000" y="4258800"/>
            <a:ext cx="24688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068720" y="4258800"/>
            <a:ext cx="24688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661440" y="4258800"/>
            <a:ext cx="24688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48C7-0F0D-4255-BF3C-A3452DBCF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79280" y="189000"/>
            <a:ext cx="71643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8a4d4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476000" y="1700280"/>
            <a:ext cx="766764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AA6D-7C85-47D6-92B8-DF4651E7A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79280" y="189000"/>
            <a:ext cx="71643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8a4d4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76000" y="1700280"/>
            <a:ext cx="76676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F771-17DB-45FE-8DB8-B90567A1B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79280" y="189000"/>
            <a:ext cx="71643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8a4d48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476000" y="1700280"/>
            <a:ext cx="37414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405040" y="1700280"/>
            <a:ext cx="37414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3D6E-9BB5-40C5-A6B3-177DA42C5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79280" y="189000"/>
            <a:ext cx="71643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8a4d4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114E-398B-4C8C-BFA7-B37FFF50F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79280" y="189000"/>
            <a:ext cx="7164360" cy="70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FC9D-6BFA-4431-9AA1-00AD18E8E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79280" y="189000"/>
            <a:ext cx="71643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8a4d48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76000" y="1700280"/>
            <a:ext cx="3741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05040" y="1700280"/>
            <a:ext cx="37414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476000" y="4258800"/>
            <a:ext cx="3741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CD65-9FC4-4829-AEC3-7903FFD90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79280" y="189000"/>
            <a:ext cx="71643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8a4d48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76000" y="1700280"/>
            <a:ext cx="37414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05040" y="1700280"/>
            <a:ext cx="3741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05040" y="4258800"/>
            <a:ext cx="3741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0616-0C1E-4032-BDC6-149AE7B9A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79280" y="189000"/>
            <a:ext cx="71643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8a4d48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76000" y="1700280"/>
            <a:ext cx="3741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05040" y="1700280"/>
            <a:ext cx="3741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476000" y="4258800"/>
            <a:ext cx="76676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8887-4123-4195-8CC6-6CDD9E8BF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0" y="0"/>
            <a:ext cx="9142560" cy="6883200"/>
            <a:chOff x="0" y="0"/>
            <a:chExt cx="9142560" cy="6883200"/>
          </a:xfrm>
        </p:grpSpPr>
        <p:sp>
          <p:nvSpPr>
            <p:cNvPr id="1" name="Rectangle 2"/>
            <p:cNvSpPr/>
            <p:nvPr/>
          </p:nvSpPr>
          <p:spPr>
            <a:xfrm>
              <a:off x="0" y="0"/>
              <a:ext cx="1979280" cy="6631200"/>
            </a:xfrm>
            <a:prstGeom prst="rect">
              <a:avLst/>
            </a:prstGeom>
            <a:solidFill>
              <a:srgbClr val="c0a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spcBef>
                  <a:spcPts val="1500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Rectangle 3"/>
            <p:cNvSpPr/>
            <p:nvPr/>
          </p:nvSpPr>
          <p:spPr>
            <a:xfrm>
              <a:off x="0" y="6623280"/>
              <a:ext cx="9142560" cy="259920"/>
            </a:xfrm>
            <a:prstGeom prst="rect">
              <a:avLst/>
            </a:prstGeom>
            <a:solidFill>
              <a:srgbClr val="faaa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spcBef>
                  <a:spcPts val="1500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1476000" y="1700280"/>
            <a:ext cx="76676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-608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88920" indent="-53172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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51040" indent="-3794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Balt Times Omni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208240" indent="-3794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Balt Times Omni"/>
              <a:buChar char="»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208240" indent="-3794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Balt Times Omni"/>
              <a:buChar char="»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208240" indent="-3794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Balt Times Omni"/>
              <a:buChar char="»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0" y="6597360"/>
            <a:ext cx="1114560" cy="3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lv-LV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F6C7958-2903-40D0-B416-5899B8EC2A56}" type="datetime">
              <a:rPr b="1" lang="lv-LV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1187280" y="6605640"/>
            <a:ext cx="6910560" cy="2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gatavots Veselības ministrij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604000" y="6597360"/>
            <a:ext cx="538200" cy="3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23D913A-9DCF-4EE5-B77B-8ACF888D87D8}" type="slidenum">
              <a:rPr b="1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22" descr="logo"/>
          <p:cNvPicPr/>
          <p:nvPr/>
        </p:nvPicPr>
        <p:blipFill>
          <a:blip r:embed="rId2"/>
          <a:stretch/>
        </p:blipFill>
        <p:spPr>
          <a:xfrm>
            <a:off x="0" y="189000"/>
            <a:ext cx="1979640" cy="152244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1979280" y="189000"/>
            <a:ext cx="7164360" cy="151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8a4d48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8a4d4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Date Placeholder 3"/>
          <p:cNvSpPr/>
          <p:nvPr/>
        </p:nvSpPr>
        <p:spPr>
          <a:xfrm>
            <a:off x="0" y="6597720"/>
            <a:ext cx="11145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2AB3ADD-21FE-49FD-BE54-C65BD0BFDA71}" type="datetime">
              <a:rPr b="1" lang="lv-LV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Footer Placeholder 4"/>
          <p:cNvSpPr/>
          <p:nvPr/>
        </p:nvSpPr>
        <p:spPr>
          <a:xfrm>
            <a:off x="1187280" y="6605640"/>
            <a:ext cx="691056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gatavots Veselības ministrij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Slide Number Placeholder 5"/>
          <p:cNvSpPr/>
          <p:nvPr/>
        </p:nvSpPr>
        <p:spPr>
          <a:xfrm>
            <a:off x="8604360" y="6597720"/>
            <a:ext cx="538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0FDE745-5F2C-47C2-ABB8-AD993BC4FCF7}" type="slidenum">
              <a:rPr b="1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79280" y="189000"/>
            <a:ext cx="7164360" cy="151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GB" sz="4000" spc="-1" strike="noStrike">
              <a:solidFill>
                <a:srgbClr val="8a4d4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76000" y="1700280"/>
            <a:ext cx="76676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580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580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580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 VANA darbību 2007.gadā u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9580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lv-LV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āniem 2008.gad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9580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580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580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580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lv-LV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.Vasaraud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580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lv-LV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NA atbildīgā sekretā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580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580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79280" y="189000"/>
            <a:ext cx="7164360" cy="151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lv-LV" sz="4000" spc="-1" strike="noStrike">
                <a:solidFill>
                  <a:srgbClr val="8a4d48"/>
                </a:solidFill>
                <a:latin typeface="Verdana"/>
              </a:rPr>
              <a:t>Pamata normatīvais akts</a:t>
            </a:r>
            <a:endParaRPr b="0" lang="en-US" sz="4000" spc="-1" strike="noStrike">
              <a:solidFill>
                <a:srgbClr val="8a4d48"/>
              </a:solidFill>
              <a:latin typeface="Verdana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476000" y="1700280"/>
            <a:ext cx="76676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-60804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selības aprūpes nozares apakšpadome (VANA) darbojas atbilstoši nolikumam, kurš ir apstiprināts ar NTSP 2001.gada 21.marta sēdes lēmumu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v-LV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rotokols Nr.16, 5.punkt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Atbilstoši nolikuma 14.punktā noteiktajam, VANA sēdes tiek sasauktas reizi divos mēnešos un dalībpuses ir pārstāvētas 3 dalībnieku sastāv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0" y="6597720"/>
            <a:ext cx="11145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B81A707-3184-4582-BD2F-3E3E1C93BF57}" type="datetime">
              <a:rPr b="1" lang="lv-LV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ooter Placeholder 4"/>
          <p:cNvSpPr/>
          <p:nvPr/>
        </p:nvSpPr>
        <p:spPr>
          <a:xfrm>
            <a:off x="1187280" y="6605640"/>
            <a:ext cx="691056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gatavots Veselības ministrij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lide Number Placeholder 5"/>
          <p:cNvSpPr/>
          <p:nvPr/>
        </p:nvSpPr>
        <p:spPr>
          <a:xfrm>
            <a:off x="8604360" y="6597720"/>
            <a:ext cx="538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DC7ED1C-4762-4F2F-9B10-6484D0947C74}" type="slidenum">
              <a:rPr b="1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79280" y="189000"/>
            <a:ext cx="7164360" cy="151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lv-LV" sz="4000" spc="-1" strike="noStrike">
                <a:solidFill>
                  <a:srgbClr val="8a4d48"/>
                </a:solidFill>
                <a:latin typeface="Verdana"/>
              </a:rPr>
              <a:t>Apakšpadomē darbojas</a:t>
            </a:r>
            <a:endParaRPr b="0" lang="en-US" sz="4000" spc="-1" strike="noStrike">
              <a:solidFill>
                <a:srgbClr val="8a4d48"/>
              </a:solidFill>
              <a:latin typeface="Verdana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476000" y="1700280"/>
            <a:ext cx="76676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-608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dības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use: VM un VO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rba devēju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use: LDDK, Latvijas Slimnīcu biedrības un Veselības aprūpes darba devēju asociācijas pārstāvj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odbiedrības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use: Latvijas Veselības un sociālās aprūpes darbinieku arodbiedrības, Latvijas Ārstniecības un aprūpes darbinieku arodsavienības un Valsts iestāžu, pašvaldību, uzņēmumu un finanšu darbinieku arodbiedrības pārstāvj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Date Placeholder 3"/>
          <p:cNvSpPr/>
          <p:nvPr/>
        </p:nvSpPr>
        <p:spPr>
          <a:xfrm>
            <a:off x="0" y="6597720"/>
            <a:ext cx="11145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0630AC8-A51A-44C8-93A6-874C5AD863CB}" type="datetime">
              <a:rPr b="1" lang="lv-LV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ooter Placeholder 4"/>
          <p:cNvSpPr/>
          <p:nvPr/>
        </p:nvSpPr>
        <p:spPr>
          <a:xfrm>
            <a:off x="1187280" y="6605640"/>
            <a:ext cx="691056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gatavots Veselības ministrij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lide Number Placeholder 5"/>
          <p:cNvSpPr/>
          <p:nvPr/>
        </p:nvSpPr>
        <p:spPr>
          <a:xfrm>
            <a:off x="8604360" y="6597720"/>
            <a:ext cx="538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044DE88-8A68-47BE-9818-70C7A0BAB744}" type="slidenum">
              <a:rPr b="1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979280" y="189000"/>
            <a:ext cx="7164360" cy="151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4000"/>
            </a:br>
            <a:r>
              <a:rPr b="0" lang="lv-LV" sz="4000" spc="-1" strike="noStrike">
                <a:solidFill>
                  <a:srgbClr val="8a4d48"/>
                </a:solidFill>
                <a:latin typeface="Verdana"/>
              </a:rPr>
              <a:t>Jautājumi, kas ir skatīti 2007.gadā VANA sēdēs</a:t>
            </a:r>
            <a:r>
              <a:rPr b="1" lang="lv-LV" sz="4000" spc="-1" strike="noStrike">
                <a:solidFill>
                  <a:srgbClr val="8a4d48"/>
                </a:solidFill>
                <a:latin typeface="Verdana"/>
              </a:rPr>
              <a:t>:</a:t>
            </a:r>
            <a:br>
              <a:rPr sz="4000"/>
            </a:br>
            <a:endParaRPr b="0" lang="en-US" sz="4000" spc="-1" strike="noStrike">
              <a:solidFill>
                <a:srgbClr val="8a4d48"/>
              </a:solidFill>
              <a:latin typeface="Verdana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476000" y="1700280"/>
            <a:ext cx="76676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1920" indent="-60192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rsstundu uzskaites un apmaksas uzlabošana veselības aprūpes nozar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1920" indent="-60192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rba devēju skatījums uz tarifu veidošanas principiem un konkrēti priekšlikumi tarifu uzlabošana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1920" indent="-60192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dības puses prezentācija par tarifu veidošanas principi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1920" indent="-60192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rba devēju skatījums uz tarifu veidošanas principiem un konkrēti priekšlikumi tarifu uzlabošana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1920" indent="-60192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Date Placeholder 3"/>
          <p:cNvSpPr/>
          <p:nvPr/>
        </p:nvSpPr>
        <p:spPr>
          <a:xfrm>
            <a:off x="0" y="6597720"/>
            <a:ext cx="11145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6B5548A-F03E-4485-BE71-409C56ACA13D}" type="datetime">
              <a:rPr b="1" lang="lv-LV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Footer Placeholder 4"/>
          <p:cNvSpPr/>
          <p:nvPr/>
        </p:nvSpPr>
        <p:spPr>
          <a:xfrm>
            <a:off x="1187280" y="6605640"/>
            <a:ext cx="691056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gatavots Veselības ministrij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lide Number Placeholder 5"/>
          <p:cNvSpPr/>
          <p:nvPr/>
        </p:nvSpPr>
        <p:spPr>
          <a:xfrm>
            <a:off x="8604360" y="6597720"/>
            <a:ext cx="538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A1C175C-542B-4620-950B-44CE1C62D7C2}" type="slidenum">
              <a:rPr b="1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1476000" y="1700280"/>
            <a:ext cx="76676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-60804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Programmas cilvēkresursu nodrošināšanai veselības aprūpē izpildes gaita darba samaksas un sociālo garantiju jomā.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Priekšlikumi MK 2006.gada 19.decembra noteikumu Nr.1046 „Veselības aprūpes organizēšanas un finansēšanas kārtība” grozījumi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eselības aprūpes budžets 2008.gad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Date Placeholder 3"/>
          <p:cNvSpPr/>
          <p:nvPr/>
        </p:nvSpPr>
        <p:spPr>
          <a:xfrm>
            <a:off x="0" y="6597720"/>
            <a:ext cx="11145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C58553C-8390-44E3-AB3C-F10B54BD215E}" type="datetime">
              <a:rPr b="1" lang="lv-LV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Footer Placeholder 4"/>
          <p:cNvSpPr/>
          <p:nvPr/>
        </p:nvSpPr>
        <p:spPr>
          <a:xfrm>
            <a:off x="1187280" y="6605640"/>
            <a:ext cx="691056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gatavots Veselības ministrij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lide Number Placeholder 5"/>
          <p:cNvSpPr/>
          <p:nvPr/>
        </p:nvSpPr>
        <p:spPr>
          <a:xfrm>
            <a:off x="8604360" y="6597720"/>
            <a:ext cx="538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F60047C-6D62-49E0-BDE8-E202FD60CC4A}" type="slidenum">
              <a:rPr b="1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979280" y="189000"/>
            <a:ext cx="7164360" cy="151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4000"/>
            </a:br>
            <a:r>
              <a:rPr b="0" lang="lv-LV" sz="3600" spc="-1" strike="noStrike">
                <a:solidFill>
                  <a:srgbClr val="8a4d48"/>
                </a:solidFill>
                <a:latin typeface="Verdana"/>
              </a:rPr>
              <a:t>Jautājumi, kas ir skatīti 2007.gadā VANA sēdēs</a:t>
            </a:r>
            <a:r>
              <a:rPr b="1" lang="lv-LV" sz="3600" spc="-1" strike="noStrike">
                <a:solidFill>
                  <a:srgbClr val="8a4d48"/>
                </a:solidFill>
                <a:latin typeface="Verdana"/>
              </a:rPr>
              <a:t>:</a:t>
            </a:r>
            <a:br>
              <a:rPr sz="3600"/>
            </a:br>
            <a:r>
              <a:rPr b="0" lang="lv-LV" sz="3600" spc="-1" strike="noStrike">
                <a:solidFill>
                  <a:srgbClr val="8a4d48"/>
                </a:solidFill>
                <a:latin typeface="Verdana"/>
              </a:rPr>
              <a:t>(turpinājums)</a:t>
            </a:r>
            <a:br>
              <a:rPr sz="3600"/>
            </a:br>
            <a:endParaRPr b="0" lang="en-US" sz="3600" spc="-1" strike="noStrike">
              <a:solidFill>
                <a:srgbClr val="8a4d4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79280" y="189000"/>
            <a:ext cx="7164360" cy="151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lv-LV" sz="4000" spc="-1" strike="noStrike">
                <a:solidFill>
                  <a:srgbClr val="8a4d48"/>
                </a:solidFill>
                <a:latin typeface="Verdana"/>
              </a:rPr>
              <a:t>Plānots skatīt 2008.gadā</a:t>
            </a:r>
            <a:endParaRPr b="0" lang="en-US" sz="4000" spc="-1" strike="noStrike">
              <a:solidFill>
                <a:srgbClr val="8a4d48"/>
              </a:solidFill>
              <a:latin typeface="Verdana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476000" y="1700280"/>
            <a:ext cx="76676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-608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ekšlikumi par nepieciešamību veikt grozījumus normatīvajos aktos, lai nodrošinātu NMP brigāžu darba uzlabošan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rsstundu uzskaites un apmaksas uzlabošana veselības aprūpes nozar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īgumu apjoma izpildes gada rezultā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9.gada budžeta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pildpieprasīju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Date Placeholder 3"/>
          <p:cNvSpPr/>
          <p:nvPr/>
        </p:nvSpPr>
        <p:spPr>
          <a:xfrm>
            <a:off x="0" y="6597720"/>
            <a:ext cx="11145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69BCC2D-1885-40B5-BF0F-916E938A4E54}" type="datetime">
              <a:rPr b="1" lang="lv-LV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ooter Placeholder 4"/>
          <p:cNvSpPr/>
          <p:nvPr/>
        </p:nvSpPr>
        <p:spPr>
          <a:xfrm>
            <a:off x="1187280" y="6605640"/>
            <a:ext cx="691056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gatavots Veselības ministrij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Slide Number Placeholder 5"/>
          <p:cNvSpPr/>
          <p:nvPr/>
        </p:nvSpPr>
        <p:spPr>
          <a:xfrm>
            <a:off x="8604360" y="6597720"/>
            <a:ext cx="538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CAED4C0-186D-4E58-BEBF-91D3E4475551}" type="slidenum">
              <a:rPr b="1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79280" y="189000"/>
            <a:ext cx="7164360" cy="151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lv-LV" sz="4000" spc="-1" strike="noStrike">
                <a:solidFill>
                  <a:srgbClr val="8a4d48"/>
                </a:solidFill>
                <a:latin typeface="Verdana"/>
              </a:rPr>
              <a:t>Plānots skatīt 2008.gadā (turpinājums)</a:t>
            </a:r>
            <a:endParaRPr b="0" lang="en-US" sz="4000" spc="-1" strike="noStrike">
              <a:solidFill>
                <a:srgbClr val="8a4d48"/>
              </a:solidFill>
              <a:latin typeface="Verdana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476000" y="1700280"/>
            <a:ext cx="76676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-60804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nkrēti priekšlikumi par konkrētiem pakalpojumiem, kurus jāizslēdz 2009.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dā no valsts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maksājamajiem pakalpojumiem ar pamatojumu kāpēc un kādi pakalpojumi jāliek to viet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unās veselības politikas iniciatī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Date Placeholder 3"/>
          <p:cNvSpPr/>
          <p:nvPr/>
        </p:nvSpPr>
        <p:spPr>
          <a:xfrm>
            <a:off x="0" y="6597720"/>
            <a:ext cx="11145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01D13A4-163E-483B-9EBC-6EBCA0BA35FB}" type="datetime">
              <a:rPr b="1" lang="lv-LV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ooter Placeholder 4"/>
          <p:cNvSpPr/>
          <p:nvPr/>
        </p:nvSpPr>
        <p:spPr>
          <a:xfrm>
            <a:off x="1187280" y="6605640"/>
            <a:ext cx="691056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gatavots Veselības ministrij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lide Number Placeholder 5"/>
          <p:cNvSpPr/>
          <p:nvPr/>
        </p:nvSpPr>
        <p:spPr>
          <a:xfrm>
            <a:off x="8604360" y="6597720"/>
            <a:ext cx="538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9EAA5A5-692E-4B5F-91CC-B43ACBCDE35F}" type="slidenum">
              <a:rPr b="1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979280" y="189000"/>
            <a:ext cx="7164360" cy="151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GB" sz="4000" spc="-1" strike="noStrike">
              <a:solidFill>
                <a:srgbClr val="8a4d48"/>
              </a:solidFill>
              <a:latin typeface="Verdana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1476000" y="1700280"/>
            <a:ext cx="76676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-608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v-LV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v-LV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ldies par uzmanību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Date Placeholder 3"/>
          <p:cNvSpPr/>
          <p:nvPr/>
        </p:nvSpPr>
        <p:spPr>
          <a:xfrm>
            <a:off x="0" y="6597720"/>
            <a:ext cx="11145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9C5E104-85A2-473F-A329-05E28E02C79E}" type="datetime">
              <a:rPr b="1" lang="lv-LV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ooter Placeholder 4"/>
          <p:cNvSpPr/>
          <p:nvPr/>
        </p:nvSpPr>
        <p:spPr>
          <a:xfrm>
            <a:off x="1187280" y="6605640"/>
            <a:ext cx="691056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gatavots Veselības ministrij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lide Number Placeholder 5"/>
          <p:cNvSpPr/>
          <p:nvPr/>
        </p:nvSpPr>
        <p:spPr>
          <a:xfrm>
            <a:off x="8604360" y="6597720"/>
            <a:ext cx="538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601F7F3-7931-406F-B382-3596E74A9B40}" type="slidenum">
              <a:rPr b="1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7T11:21:59Z</dcterms:created>
  <dc:creator>svasaraudze</dc:creator>
  <dc:description/>
  <dc:language>en-US</dc:language>
  <cp:lastModifiedBy>Sanita Diediske</cp:lastModifiedBy>
  <dcterms:modified xsi:type="dcterms:W3CDTF">2008-05-09T08:35:05Z</dcterms:modified>
  <cp:revision>6</cp:revision>
  <dc:subject/>
  <dc:title>Slide 1</dc:title>
</cp:coreProperties>
</file>