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A2974-17FB-46F6-BFE7-486B41B8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BDF39-4318-4AB3-A4B2-41402923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870E-BFF9-4D6F-9227-C97DFBABF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CF88A-6B6E-4B4E-8AC4-9CEE07F2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B404-A81D-4DCD-8EB4-EF2D6FE1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D6E0-A12B-422D-9F6E-1B7DDA5E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E6A3-5451-470D-AD22-96451ACC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E600-355E-42C5-B8A1-D2E27784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13EC-1D88-4A59-896A-0A6BA5CE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40AD-8EAC-4BB7-9279-FFDC686E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FA04-57C9-4ABE-8127-BAF616CC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5AB6C-66C4-4530-830C-FEFF5C16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4EC2-628F-41CE-8831-99E2F3DE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BD1D-AD47-4D5C-9CCF-34918A74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940B-DE8B-4643-9424-530A1FBA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B319-4763-4116-9F26-A64DC837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9706-F374-4528-ACF3-917EABBD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1BB55-0B5E-40CE-8478-CE2FA3FC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DA6C8-2C6F-4B29-963B-DA145C83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0A77F-A163-44AC-94B6-DBA2047A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57C4A-013E-42CE-9ACA-2D014B286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4251-8FD4-4144-801D-6D604A70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A16FA-2103-4308-9962-863408C4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F7C6B-859C-4CFD-A29E-40126221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F07D-A63B-44F5-9E2D-09F5091268ED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CB1F-2226-456B-A067-ED76DF0832ED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1828800"/>
            <a:ext cx="7444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600" spc="-1" strike="noStrike">
                <a:solidFill>
                  <a:srgbClr val="000000"/>
                </a:solidFill>
                <a:latin typeface="Arial"/>
              </a:rPr>
              <a:t>Reģionālās attīstības </a:t>
            </a:r>
            <a:br>
              <a:rPr sz="4600"/>
            </a:br>
            <a:r>
              <a:rPr b="1" lang="lv-LV" sz="4600" spc="-1" strike="noStrike">
                <a:solidFill>
                  <a:srgbClr val="000000"/>
                </a:solidFill>
                <a:latin typeface="Arial"/>
              </a:rPr>
              <a:t>tīspusējās sadarbības apakšpadome (RATSA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Ziņo: Valda Smirnov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RAPL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TSA uzdevu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drošināt un veicināt valsts, pašvaldību, darba devēju organizāciju un to apvienību un darbinieku arodbiedrību sadarbību un līdzdalību reģionālās attīstības nodrošināšan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SA 2007.gada darbī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kušas 3 sē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tītie jautāju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Valsts ilgtspējīgas attīstības stratēģijas izstrā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LM darbības stratēģ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pilnvērtīgu novadu pašvaldību izveidošanu un esošo reģionālo struktūru funkciju pārņemša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pašvaldību informatizāciju un interneta pieejamīb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rajonu reorganizāci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reģionu attīstību Latvijā 2006.gad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blēmas RATSA darb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0280" y="2004480"/>
            <a:ext cx="7931160" cy="33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alībpuses problēmas neidentificēja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(RATSA 25.02.2008. sē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8.gada sēžu graf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21.aprīl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acionālā attīstības plāna ieviešanas galvenie darbības virzieni 2008.gad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dlīniju projekts valsts, reģionālā un vietējā līmeņa pārvaldes institūcijām plānošanas sistēmas efektīvas darbības nodrošināš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lv-LV" sz="1800" spc="-1" strike="noStrike">
                <a:solidFill>
                  <a:srgbClr val="000000"/>
                </a:solidFill>
                <a:latin typeface="Arial"/>
              </a:rPr>
              <a:t>(OECD LEED un RAPLM izstrādātas)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6.jūnij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ar pašvaldību finanšu izlīdzināšanas modeli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5.septem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Informācija par administratīvi teritoriālās reformas gaitu un paveikto 2008.gadā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20.okto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lsētu politikas pamatnostādņu izstrādes gaita (Pilsētu politikas pamatnostādņu 1.redakcijas izskatīšana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8.decem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lsts pārvaldes dekoncentrācija un reģionālā pārvaldes līmeņa attīstī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eģionālās politikas pamatnostādņu vidusposma izvērtējuma izskatīšana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437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utājums, kuru būtu jāvirza izskatīšanai uz NTSP sēd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nformācija par administratīvi teritoriālās reformas gaitu 2008.gad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lānotais laiks 2008.gada II pusg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rosinātājs Līvija Marcinkēviča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2000" spc="-1" strike="noStrike">
                <a:solidFill>
                  <a:srgbClr val="000000"/>
                </a:solidFill>
                <a:latin typeface="Arial"/>
              </a:rPr>
              <a:t>LBAS priekšsēdētāja vietniece, RATSA vadītājs no LBAS p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ldies par uzmanību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07:27:34Z</dcterms:created>
  <dc:creator>user</dc:creator>
  <dc:description/>
  <dc:language>en-US</dc:language>
  <cp:lastModifiedBy>Sanita Diediske</cp:lastModifiedBy>
  <cp:lastPrinted>2006-08-14T10:58:26Z</cp:lastPrinted>
  <dcterms:modified xsi:type="dcterms:W3CDTF">2008-05-09T08:35:15Z</dcterms:modified>
  <cp:revision>30</cp:revision>
  <dc:subject/>
  <dc:title>Mērķis</dc:title>
</cp:coreProperties>
</file>