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C6259-1FB9-450B-9479-660E9FEFE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00DCD-439B-48E7-9694-8D3FF09F6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95FB7-1FDC-430F-B03F-7BFDC9161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752EB-4EFD-4D4D-88D7-4D8AC5D02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97A3A-2238-4382-8EAA-DE135BB6D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A542F-A1F4-4940-97BE-23D084F63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34A26-3C5C-4240-83FE-358F7A5A5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4CC66-B5B4-4B54-8D91-629CBD97F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D1738-C9BD-49C0-AD1A-C456A4965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5929E-E145-4E3C-BCCF-56ED4E544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B78D0-87C1-476A-9336-719DE3052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6F1DF-EAFF-4A5D-A7BC-7F4B7514B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20852-A8A3-4A21-8CC5-9454B3FAC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B9973-ABF9-4010-95C1-16E677278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A5881-7291-4400-8435-95212D06A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87692-03EE-4AE4-84B7-173FB92A7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15DFC-051D-4D34-9379-C03D9D8E2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5B4E9-7643-45FC-816C-5655DC12C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6FDB9-0854-4CAA-B5E5-8D682A9A9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96F44-B9B2-4760-9C56-C9B1CD7B3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2E199-765D-4E35-A2A3-F43DD429B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A8297-535A-4575-B76B-0BBF03FA3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305CE-94B6-41BB-B373-223C53D4F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0CF54-EAF4-455C-A3C5-604AB53B0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7014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45522-CA13-41FC-B082-6EA84848CF9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7014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B12A8-56C3-4A4B-B5D6-07A1A7D2274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mailto:Ilze.Trusinska@vidm.gov.lv" TargetMode="External"/><Relationship Id="rId2" Type="http://schemas.openxmlformats.org/officeDocument/2006/relationships/hyperlink" Target="http://www.vidm.gov.lv/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7014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6000" spc="-1" strike="noStrike">
                <a:solidFill>
                  <a:srgbClr val="ffff00"/>
                </a:solidFill>
                <a:latin typeface="Arial"/>
              </a:rPr>
              <a:t>Vides aizsardzības lietu trīspusējās sadarbības apakšpadomes darbība</a:t>
            </a:r>
            <a:endParaRPr b="0" lang="en-US" sz="60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7014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981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b2b2b2"/>
                </a:solidFill>
                <a:latin typeface="Arial"/>
              </a:rPr>
              <a:t>Vides aizsardzības lietu trīspusējās sadarbības apakšpadomes </a:t>
            </a:r>
            <a:br>
              <a:rPr sz="4000"/>
            </a:br>
            <a:r>
              <a:rPr b="1" lang="lv-LV" sz="4000" spc="-1" strike="noStrike">
                <a:solidFill>
                  <a:srgbClr val="b2b2b2"/>
                </a:solidFill>
                <a:latin typeface="Arial"/>
              </a:rPr>
              <a:t>(turpmāk VALTSA) </a:t>
            </a:r>
            <a:br>
              <a:rPr sz="4000"/>
            </a:br>
            <a:r>
              <a:rPr b="1" lang="lv-LV" sz="4000" spc="-1" strike="noStrike">
                <a:solidFill>
                  <a:srgbClr val="b2b2b2"/>
                </a:solidFill>
                <a:latin typeface="Arial"/>
              </a:rPr>
              <a:t>sastāvs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39640" y="3068280"/>
            <a:ext cx="822960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ides aizsardzības lietu trīspusējās sadarbības apakšpadomē ir 15 pārstāvji (pa 5 no katras puses), kurus deleģē Vides ministrija, Latvijas Brīvo Arodbiedrību savienība un Latvijas Darba Devēju konfederācij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7014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2b2b2"/>
                </a:solidFill>
                <a:latin typeface="Arial"/>
              </a:rPr>
              <a:t>VALTSA uzdevumi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26560" y="1557000"/>
            <a:ext cx="79930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zskatīt politikas plānošanas un normatīvo aktu projektus, valsts budžeta projekta pamatnostādnes vides aizsardzības jautājum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iedalīties vides aizsardzības normatīvo aktu pilnveidošan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iedalīties priekšlikumu izstrādāšanā un izskatīt Latvijas nacionālās pozīcijas vides aizsardzības jautājum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7014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Darbības metode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astāvīga informācijas apmaiņ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ikšanā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domes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ēd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reizi divos mēnešos(2007. gadā notikušas 5 sanāksm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stāvīga elektroniskā komunikācij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7014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95280" y="76464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2b2b2"/>
                </a:solidFill>
                <a:latin typeface="Arial"/>
              </a:rPr>
              <a:t>2007. gadā VALTSA sēdēs skatītie jautājumi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68360" y="2327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misijas kvotu sadales plāna 2008.-2012. gadam apstiprināšanas gaita Eiropas Komisij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viācijas iekļaušana Eiropas Savienības emisiju kvotu tirdzniecības sistēm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jaunojamo energoresursu izmantošanas pamatnostādņu  2006.-2013. g. ieviešana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teikumu projekts „Noteikumi par elektroenerģijas ražošanu izmantojot atjaunojamos energoresursus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cionālais pārskats par Ilgtspējīgas attīstības stratēģijas īstenošan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kumprojekts „Grozījumi atkritumu apsaimniekošanas likumā”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gtspējīga patēriņa, ražošanas Rīcības plān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Zaļā iepirkuma veicināšana Latvij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iropas Savienības Vides ministru padomes darba kārtības jautājum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7014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2008. gada plānotie jautājumi VALTSA sēdē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Enerģētikas  un klimata paket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rektīvas projekts par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S emisijas kvotu tirdzniecības sistēm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pārskatīšanu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ēmuma projekts par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ltumnīcefekta gāzu emisijām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kuras neaptver ES emisijas kvotu tirdzniecības sistēma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rektīvas projekts par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jaunojamo energoresursu avotu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zmantošanu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viācijas radītā ietekme uz klimata pārmaiņā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Eiropas Savienības Vides padomju izskatāmie darba kārtības jautājum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Zaļais iepirku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7014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Paldies par uzmanību!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ffff"/>
                </a:solidFill>
                <a:latin typeface="Arial"/>
              </a:rPr>
              <a:t>Ilze Trušinska</a:t>
            </a:r>
            <a:r>
              <a:rPr b="0" lang="lv-LV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ffffff"/>
                </a:solidFill>
                <a:latin typeface="Arial"/>
              </a:rPr>
              <a:t>Vides aizsardzības lietu trīspusējās sadarbības apakšpadomes sekretā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 u="sng">
                <a:solidFill>
                  <a:srgbClr val="ffffcc"/>
                </a:solidFill>
                <a:uFillTx/>
                <a:latin typeface="Arial"/>
                <a:hlinkClick r:id="rId1"/>
              </a:rPr>
              <a:t>Ilze.Trusinska@vidm.gov.lv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ffffff"/>
                </a:solidFill>
                <a:latin typeface="Arial"/>
              </a:rPr>
              <a:t>t. 6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0" lang="lv-LV" sz="24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lv-LV" sz="2400" spc="-1" strike="noStrike">
                <a:solidFill>
                  <a:srgbClr val="ffffff"/>
                </a:solidFill>
                <a:latin typeface="Arial"/>
              </a:rPr>
              <a:t>65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lv-LV" sz="24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 u="sng">
                <a:solidFill>
                  <a:srgbClr val="ffffcc"/>
                </a:solidFill>
                <a:uFillTx/>
                <a:latin typeface="Arial"/>
                <a:hlinkClick r:id="rId2"/>
              </a:rPr>
              <a:t>http://www.vidm.gov.lv/</a:t>
            </a:r>
            <a:r>
              <a:rPr b="1" i="1" lang="lv-LV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ffffff"/>
                </a:solidFill>
                <a:latin typeface="Arial"/>
              </a:rPr>
              <a:t>sadaļā padomes un konsultatīvās padomes „Vides aizsardzības lietu trīspusējās sadarbības apakšpad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3T20:27:45Z</dcterms:created>
  <dc:creator>Aija</dc:creator>
  <dc:description/>
  <dc:language>en-US</dc:language>
  <cp:lastModifiedBy>Sanita Diediske</cp:lastModifiedBy>
  <dcterms:modified xsi:type="dcterms:W3CDTF">2008-05-09T08:36:32Z</dcterms:modified>
  <cp:revision>17</cp:revision>
  <dc:subject/>
  <dc:title>Stratēģijas un koordinācijas departament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708320886</vt:r8>
  </property>
  <property fmtid="{D5CDD505-2E9C-101B-9397-08002B2CF9AE}" pid="3" name="_AuthorEmail">
    <vt:lpwstr>Ilze.Trusinska@vidm.gov.lv</vt:lpwstr>
  </property>
  <property fmtid="{D5CDD505-2E9C-101B-9397-08002B2CF9AE}" pid="4" name="_AuthorEmailDisplayName">
    <vt:lpwstr>Ilze Trušinska</vt:lpwstr>
  </property>
  <property fmtid="{D5CDD505-2E9C-101B-9397-08002B2CF9AE}" pid="5" name="_EmailSubject">
    <vt:lpwstr>VALTSA darbība_2007. gads</vt:lpwstr>
  </property>
  <property fmtid="{D5CDD505-2E9C-101B-9397-08002B2CF9AE}" pid="6" name="_ReviewingToolsShownOnce">
    <vt:lpwstr/>
  </property>
</Properties>
</file>