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41A9-A2AE-4AC0-A87A-DE1344A51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6676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76000" y="4258800"/>
            <a:ext cx="76676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9A5B-3616-4700-BE66-D62D0A52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76000" y="425880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05040" y="425880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F4FB-832E-4F49-A79F-764CDFBC0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68720" y="170028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61440" y="170028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76000" y="425880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68720" y="425880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61440" y="425880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4881-BBCF-4927-9F8B-330D5879F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C0F1-657D-43B8-98EC-1E3A7A48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5516-0F75-48AC-B22B-00BE5068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5017-F4C4-4E39-8340-8D7E61A4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EE68-AD1C-4B46-A99D-8779AE0E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79280" y="189000"/>
            <a:ext cx="716436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E66C-CF02-44EB-84B9-9C77C4C1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76000" y="425880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0ABB-7E71-415C-90DD-03C8C669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05040" y="425880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744E-2D7D-4CC0-9788-175622AC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76000" y="4258800"/>
            <a:ext cx="76676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5BF9-0807-4847-8294-A6925561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42560" cy="6883200"/>
            <a:chOff x="0" y="0"/>
            <a:chExt cx="9142560" cy="688320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1979280" cy="6631200"/>
            </a:xfrm>
            <a:prstGeom prst="rect">
              <a:avLst/>
            </a:prstGeom>
            <a:solidFill>
              <a:srgbClr val="c0a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6623280"/>
              <a:ext cx="9142560" cy="259920"/>
            </a:xfrm>
            <a:prstGeom prst="rect">
              <a:avLst/>
            </a:prstGeom>
            <a:solidFill>
              <a:srgbClr val="faa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1040" indent="-3794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Balt Times Omni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8240" indent="-3794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Balt Times Omni"/>
              <a:buChar char="»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08240" indent="-3794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Balt Times Omni"/>
              <a:buChar char="»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08240" indent="-3794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Balt Times Omni"/>
              <a:buChar char="»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0" y="6597360"/>
            <a:ext cx="11145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391C5AC-69C5-40FC-B2D5-AEF5150729FF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604000" y="6597360"/>
            <a:ext cx="53820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C335E24-E90E-4EC6-95E1-97D02BFDD873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2" descr="logo"/>
          <p:cNvPicPr/>
          <p:nvPr/>
        </p:nvPicPr>
        <p:blipFill>
          <a:blip r:embed="rId2"/>
          <a:stretch/>
        </p:blipFill>
        <p:spPr>
          <a:xfrm>
            <a:off x="0" y="189000"/>
            <a:ext cx="1979640" cy="15224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8a4d48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6050E4-E795-4104-90CF-EEBFC5D56245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0F73D0-0CF1-4D12-BA1B-E0508EB9865B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VANA darbību 2007.gadā 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āniem 2008.gad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Vasaraud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A atbildīgā sekretā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Pamata normatīvais akts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elības aprūpes nozares apakšpadome (VANA) darbojas atbilstoši nolikumam, kurš ir apstiprināts ar NTSP 2001.gada 21.marta sēdes lēmum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otokols Nr.16, 5.punk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tbilstoši nolikuma 14.punktā noteiktajam, VANA sēdes tiek sasauktas reizi divos mēnešos un dalībpuses ir pārstāvētas 3 dalībnieku sastāv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8E70A4-63B6-42D0-98E6-9814431BD04E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762335-9DAB-4925-B818-68F98F22314B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Apakšpadomē darbojas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dības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se: VM un VO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ba devēju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se: LDDK, Latvijas Slimnīcu biedrības un Veselības aprūpes darba devēju asociācijas pārstāv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dbiedrības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se: Latvijas Veselības un sociālās aprūpes darbinieku arodbiedrības, Latvijas Ārstniecības un aprūpes darbinieku arodsavienības un Valsts iestāžu, pašvaldību, uzņēmumu un finanšu darbinieku arodbiedrības pārstāvj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12A8ED-85C1-4B64-9E13-2FB40BABDCC3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2B8B2F-5952-43C9-95C8-9AC8477DA461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Jautājumi, kas ir skatīti 2007.gadā VANA sēdēs</a:t>
            </a:r>
            <a:r>
              <a:rPr b="1" lang="lv-LV" sz="4000" spc="-1" strike="noStrike">
                <a:solidFill>
                  <a:srgbClr val="8a4d48"/>
                </a:solidFill>
                <a:latin typeface="Verdana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sstundu uzskaites un apmaksas uzlabošana veselības aprūpes nozar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ba devēju skatījums uz tarifu veidošanas principiem un konkrēti priekšlikumi tarifu uzlabošan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dības puses prezentācija par tarifu veidošanas principi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ba devēju skatījums uz tarifu veidošanas principiem un konkrēti priekšlikumi tarifu uzlabošan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3E76A4-CB75-41D4-B91C-07F0093842B8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69FFC7C-B99D-4BA4-9357-92716083513F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Programmas cilvēkresursu nodrošināšanai veselības aprūpē izpildes gaita darba samaksas un sociālo garantiju jomā.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Priekšlikumi MK 2006.gada 19.decembra noteikumu Nr.1046 „Veselības aprūpes organizēšanas un finansēšanas kārtība” grozījumi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selības aprūpes budžets 2008.gad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FFA1841-A335-4F00-A1F5-D90A35566AED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432946-34C8-449E-A41D-12BEA815E61A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r>
              <a:rPr b="0" lang="lv-LV" sz="3600" spc="-1" strike="noStrike">
                <a:solidFill>
                  <a:srgbClr val="8a4d48"/>
                </a:solidFill>
                <a:latin typeface="Verdana"/>
              </a:rPr>
              <a:t>Jautājumi, kas ir skatīti 2007.gadā VANA sēdēs</a:t>
            </a:r>
            <a:r>
              <a:rPr b="1" lang="lv-LV" sz="3600" spc="-1" strike="noStrike">
                <a:solidFill>
                  <a:srgbClr val="8a4d48"/>
                </a:solidFill>
                <a:latin typeface="Verdana"/>
              </a:rPr>
              <a:t>:</a:t>
            </a:r>
            <a:br>
              <a:rPr sz="3600"/>
            </a:br>
            <a:r>
              <a:rPr b="0" lang="lv-LV" sz="3600" spc="-1" strike="noStrike">
                <a:solidFill>
                  <a:srgbClr val="8a4d48"/>
                </a:solidFill>
                <a:latin typeface="Verdana"/>
              </a:rPr>
              <a:t>(turpinājums)</a:t>
            </a:r>
            <a:br>
              <a:rPr sz="3600"/>
            </a:br>
            <a:endParaRPr b="0" lang="en-US" sz="3600" spc="-1" strike="noStrike">
              <a:solidFill>
                <a:srgbClr val="8a4d4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Plānots skatīt 2008.gadā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ekšlikumi par nepieciešamību veikt grozījumus normatīvajos aktos, lai nodrošinātu NMP brigāžu darba uzlaboša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sstundu uzskaites un apmaksas uzlabošana veselības aprūpes nozar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īgumu apjoma izpildes gada rezultā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.gada budžeta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ildpieprasīj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225963-9AD4-479E-A8C2-87DFDA66A0C1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4B5C530-2AA9-43DC-9161-6DEDAABE2ABA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Plānots skatīt 2008.gadā (turpinājums)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krēti priekšlikumi par konkrētiem pakalpojumiem, kurus jāizslēdz 2009.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dā no valsts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maksājamajiem pakalpojumiem ar pamatojumu kāpēc un kādi pakalpojumi jāliek to viet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unās veselības politikas iniciatī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8D7337-CD04-4E64-A18A-50899E11EEDE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39719A9-297A-430E-8D40-EBAF8EEE6244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dies par uzmanīb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E8C3F0-FD2D-4234-AA4B-9F363E36A1B6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686648-5AAB-4A11-B724-01825FBE9B1A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1:21:59Z</dcterms:created>
  <dc:creator>svasaraudze</dc:creator>
  <dc:description/>
  <dc:language>en-US</dc:language>
  <cp:lastModifiedBy>Sanita Diediske</cp:lastModifiedBy>
  <dcterms:modified xsi:type="dcterms:W3CDTF">2008-05-09T08:35:05Z</dcterms:modified>
  <cp:revision>6</cp:revision>
  <dc:subject/>
  <dc:title>Slide 1</dc:title>
</cp:coreProperties>
</file>