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4CE5-F0DC-4DA9-8BB7-A1509FD97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76676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76000" y="4258800"/>
            <a:ext cx="76676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3D23-29B4-412A-B029-CBBFEEE00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3741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405040" y="1700280"/>
            <a:ext cx="3741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76000" y="4258800"/>
            <a:ext cx="3741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405040" y="4258800"/>
            <a:ext cx="3741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ADAA-80E4-4E20-BBEE-69DB25E03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24688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068720" y="1700280"/>
            <a:ext cx="24688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61440" y="1700280"/>
            <a:ext cx="24688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76000" y="4258800"/>
            <a:ext cx="24688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068720" y="4258800"/>
            <a:ext cx="24688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61440" y="4258800"/>
            <a:ext cx="24688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B6E4-5112-43C7-8B93-BAF7DD19A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76000" y="1700280"/>
            <a:ext cx="766764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026A-C2CE-454E-A6F9-5446399B7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7667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8FE6-7A9C-4398-9C3B-76A65532C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3741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405040" y="1700280"/>
            <a:ext cx="3741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B1CB-618F-4CAD-9B12-C68FCECAF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1EB8-9D5C-4187-A6A2-BF43B0029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79280" y="189000"/>
            <a:ext cx="716436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15E9-E126-4BEE-8D17-445C154FF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3741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05040" y="1700280"/>
            <a:ext cx="3741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76000" y="4258800"/>
            <a:ext cx="3741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F697-2DFF-47D1-8D51-F5AF631ED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3741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05040" y="1700280"/>
            <a:ext cx="3741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05040" y="4258800"/>
            <a:ext cx="3741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7B6B-9098-4098-8A86-D790BC96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3741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05040" y="1700280"/>
            <a:ext cx="3741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76000" y="4258800"/>
            <a:ext cx="76676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7F0A-E897-42CB-AF75-12E88B3DE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0"/>
            <a:ext cx="9142560" cy="6883200"/>
            <a:chOff x="0" y="0"/>
            <a:chExt cx="9142560" cy="6883200"/>
          </a:xfrm>
        </p:grpSpPr>
        <p:sp>
          <p:nvSpPr>
            <p:cNvPr id="1" name="Rectangle 2"/>
            <p:cNvSpPr/>
            <p:nvPr/>
          </p:nvSpPr>
          <p:spPr>
            <a:xfrm>
              <a:off x="0" y="0"/>
              <a:ext cx="1979280" cy="6631200"/>
            </a:xfrm>
            <a:prstGeom prst="rect">
              <a:avLst/>
            </a:prstGeom>
            <a:solidFill>
              <a:srgbClr val="c0a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spcBef>
                  <a:spcPts val="15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0" y="6623280"/>
              <a:ext cx="9142560" cy="259920"/>
            </a:xfrm>
            <a:prstGeom prst="rect">
              <a:avLst/>
            </a:prstGeom>
            <a:solidFill>
              <a:srgbClr val="faa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spcBef>
                  <a:spcPts val="15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1476000" y="1700280"/>
            <a:ext cx="7667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5317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51040" indent="-3794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Balt Times Omni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08240" indent="-3794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Balt Times Omni"/>
              <a:buChar char="»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208240" indent="-3794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Balt Times Omni"/>
              <a:buChar char="»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208240" indent="-3794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Balt Times Omni"/>
              <a:buChar char="»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0" y="6597360"/>
            <a:ext cx="111456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551F51B-A9EA-4CA2-AD66-5B2C11C1FFB9}" type="datetime">
              <a:rPr b="1" lang="lv-LV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1187280" y="6605640"/>
            <a:ext cx="691056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gatavots Veselības ministrij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604000" y="6597360"/>
            <a:ext cx="53820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A2E8881-9168-449F-A19B-616E4E04DEF2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22" descr="logo"/>
          <p:cNvPicPr/>
          <p:nvPr/>
        </p:nvPicPr>
        <p:blipFill>
          <a:blip r:embed="rId2"/>
          <a:stretch/>
        </p:blipFill>
        <p:spPr>
          <a:xfrm>
            <a:off x="0" y="189000"/>
            <a:ext cx="1979640" cy="15224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8a4d48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Date Placeholder 3"/>
          <p:cNvSpPr/>
          <p:nvPr/>
        </p:nvSpPr>
        <p:spPr>
          <a:xfrm>
            <a:off x="0" y="6597720"/>
            <a:ext cx="11145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C076704-2E9C-4F98-93B2-27A0EDC6FFE8}" type="datetime">
              <a:rPr b="1" lang="lv-LV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ooter Placeholder 4"/>
          <p:cNvSpPr/>
          <p:nvPr/>
        </p:nvSpPr>
        <p:spPr>
          <a:xfrm>
            <a:off x="1187280" y="6605640"/>
            <a:ext cx="69105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gatavots Veselības ministrij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lide Number Placeholder 5"/>
          <p:cNvSpPr/>
          <p:nvPr/>
        </p:nvSpPr>
        <p:spPr>
          <a:xfrm>
            <a:off x="8604360" y="6597720"/>
            <a:ext cx="538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CE1BC3E-2D8C-4236-90AC-989E19B2662D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GB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7667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5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5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5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 VANA darbību 2007.gadā 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95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āniem 2008.gad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95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5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5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5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.Vasaraud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5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NA atbildīgā sekretā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5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5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lv-LV" sz="4000" spc="-1" strike="noStrike">
                <a:solidFill>
                  <a:srgbClr val="8a4d48"/>
                </a:solidFill>
                <a:latin typeface="Verdana"/>
              </a:rPr>
              <a:t>Pamata normatīvais akts</a:t>
            </a: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476000" y="1700280"/>
            <a:ext cx="7667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selības aprūpes nozares apakšpadome (VANA) darbojas atbilstoši nolikumam, kurš ir apstiprināts ar NTSP 2001.gada 21.marta sēdes lēmumu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rotokols Nr.16, 5.punkt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Atbilstoši nolikuma 14.punktā noteiktajam, VANA sēdes tiek sasauktas reizi divos mēnešos un dalībpuses ir pārstāvētas 3 dalībnieku sastāv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0" y="6597720"/>
            <a:ext cx="11145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F122BD1-8FDB-4514-81C5-0FF314586445}" type="datetime">
              <a:rPr b="1" lang="lv-LV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1187280" y="6605640"/>
            <a:ext cx="69105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gatavots Veselības ministrij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lide Number Placeholder 5"/>
          <p:cNvSpPr/>
          <p:nvPr/>
        </p:nvSpPr>
        <p:spPr>
          <a:xfrm>
            <a:off x="8604360" y="6597720"/>
            <a:ext cx="538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312FC5C-5BFE-403F-99EE-28A3B0EC25F3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lv-LV" sz="4000" spc="-1" strike="noStrike">
                <a:solidFill>
                  <a:srgbClr val="8a4d48"/>
                </a:solidFill>
                <a:latin typeface="Verdana"/>
              </a:rPr>
              <a:t>Apakšpadomē darbojas</a:t>
            </a: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476000" y="1700280"/>
            <a:ext cx="7667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dības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use: VM un VO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rba devēju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use: LDDK, Latvijas Slimnīcu biedrības un Veselības aprūpes darba devēju asociācijas pārstāv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odbiedrības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use: Latvijas Veselības un sociālās aprūpes darbinieku arodbiedrības, Latvijas Ārstniecības un aprūpes darbinieku arodsavienības un Valsts iestāžu, pašvaldību, uzņēmumu un finanšu darbinieku arodbiedrības pārstāvj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Date Placeholder 3"/>
          <p:cNvSpPr/>
          <p:nvPr/>
        </p:nvSpPr>
        <p:spPr>
          <a:xfrm>
            <a:off x="0" y="6597720"/>
            <a:ext cx="11145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FD51E48-E52D-496C-BDA1-00DA70D949C8}" type="datetime">
              <a:rPr b="1" lang="lv-LV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4"/>
          <p:cNvSpPr/>
          <p:nvPr/>
        </p:nvSpPr>
        <p:spPr>
          <a:xfrm>
            <a:off x="1187280" y="6605640"/>
            <a:ext cx="69105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gatavots Veselības ministrij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5"/>
          <p:cNvSpPr/>
          <p:nvPr/>
        </p:nvSpPr>
        <p:spPr>
          <a:xfrm>
            <a:off x="8604360" y="6597720"/>
            <a:ext cx="538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FC8B25E-99DF-4082-85DC-0847F2B90165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000"/>
            </a:br>
            <a:r>
              <a:rPr b="0" lang="lv-LV" sz="4000" spc="-1" strike="noStrike">
                <a:solidFill>
                  <a:srgbClr val="8a4d48"/>
                </a:solidFill>
                <a:latin typeface="Verdana"/>
              </a:rPr>
              <a:t>Jautājumi, kas ir skatīti 2007.gadā VANA sēdēs</a:t>
            </a:r>
            <a:r>
              <a:rPr b="1" lang="lv-LV" sz="4000" spc="-1" strike="noStrike">
                <a:solidFill>
                  <a:srgbClr val="8a4d48"/>
                </a:solidFill>
                <a:latin typeface="Verdana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476000" y="1700280"/>
            <a:ext cx="7667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1920" indent="-6019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sstundu uzskaites un apmaksas uzlabošana veselības aprūpes nozar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1920" indent="-6019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rba devēju skatījums uz tarifu veidošanas principiem un konkrēti priekšlikumi tarifu uzlabošan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1920" indent="-6019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dības puses prezentācija par tarifu veidošanas principi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1920" indent="-6019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rba devēju skatījums uz tarifu veidošanas principiem un konkrēti priekšlikumi tarifu uzlabošan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1920" indent="-6019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Date Placeholder 3"/>
          <p:cNvSpPr/>
          <p:nvPr/>
        </p:nvSpPr>
        <p:spPr>
          <a:xfrm>
            <a:off x="0" y="6597720"/>
            <a:ext cx="11145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8C0B654-56A0-4A2F-B8C3-A6DEADC32D97}" type="datetime">
              <a:rPr b="1" lang="lv-LV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ooter Placeholder 4"/>
          <p:cNvSpPr/>
          <p:nvPr/>
        </p:nvSpPr>
        <p:spPr>
          <a:xfrm>
            <a:off x="1187280" y="6605640"/>
            <a:ext cx="69105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gatavots Veselības ministrij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5"/>
          <p:cNvSpPr/>
          <p:nvPr/>
        </p:nvSpPr>
        <p:spPr>
          <a:xfrm>
            <a:off x="8604360" y="6597720"/>
            <a:ext cx="538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B60C4D6-13D4-4946-A4C4-4651A9FA6D7B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476000" y="1700280"/>
            <a:ext cx="7667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Programmas cilvēkresursu nodrošināšanai veselības aprūpē izpildes gaita darba samaksas un sociālo garantiju jomā.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Priekšlikumi MK 2006.gada 19.decembra noteikumu Nr.1046 „Veselības aprūpes organizēšanas un finansēšanas kārtība” grozījumi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eselības aprūpes budžets 2008.gad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ate Placeholder 3"/>
          <p:cNvSpPr/>
          <p:nvPr/>
        </p:nvSpPr>
        <p:spPr>
          <a:xfrm>
            <a:off x="0" y="6597720"/>
            <a:ext cx="11145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738469B-DFD3-4047-AE13-3E7DD6A3DB3C}" type="datetime">
              <a:rPr b="1" lang="lv-LV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ooter Placeholder 4"/>
          <p:cNvSpPr/>
          <p:nvPr/>
        </p:nvSpPr>
        <p:spPr>
          <a:xfrm>
            <a:off x="1187280" y="6605640"/>
            <a:ext cx="69105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gatavots Veselības ministrij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5"/>
          <p:cNvSpPr/>
          <p:nvPr/>
        </p:nvSpPr>
        <p:spPr>
          <a:xfrm>
            <a:off x="8604360" y="6597720"/>
            <a:ext cx="538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61B2BC8-B272-4D5C-8D26-47E6EFE0C22F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000"/>
            </a:br>
            <a:r>
              <a:rPr b="0" lang="lv-LV" sz="3600" spc="-1" strike="noStrike">
                <a:solidFill>
                  <a:srgbClr val="8a4d48"/>
                </a:solidFill>
                <a:latin typeface="Verdana"/>
              </a:rPr>
              <a:t>Jautājumi, kas ir skatīti 2007.gadā VANA sēdēs</a:t>
            </a:r>
            <a:r>
              <a:rPr b="1" lang="lv-LV" sz="3600" spc="-1" strike="noStrike">
                <a:solidFill>
                  <a:srgbClr val="8a4d48"/>
                </a:solidFill>
                <a:latin typeface="Verdana"/>
              </a:rPr>
              <a:t>:</a:t>
            </a:r>
            <a:br>
              <a:rPr sz="3600"/>
            </a:br>
            <a:r>
              <a:rPr b="0" lang="lv-LV" sz="3600" spc="-1" strike="noStrike">
                <a:solidFill>
                  <a:srgbClr val="8a4d48"/>
                </a:solidFill>
                <a:latin typeface="Verdana"/>
              </a:rPr>
              <a:t>(turpinājums)</a:t>
            </a:r>
            <a:br>
              <a:rPr sz="3600"/>
            </a:br>
            <a:endParaRPr b="0" lang="en-US" sz="3600" spc="-1" strike="noStrike">
              <a:solidFill>
                <a:srgbClr val="8a4d4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lv-LV" sz="4000" spc="-1" strike="noStrike">
                <a:solidFill>
                  <a:srgbClr val="8a4d48"/>
                </a:solidFill>
                <a:latin typeface="Verdana"/>
              </a:rPr>
              <a:t>Plānots skatīt 2008.gadā</a:t>
            </a: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476000" y="1700280"/>
            <a:ext cx="7667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ekšlikumi par nepieciešamību veikt grozījumus normatīvajos aktos, lai nodrošinātu NMP brigāžu darba uzlaboša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sstundu uzskaites un apmaksas uzlabošana veselības aprūpes nozar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īgumu apjoma izpildes gada rezultā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9.gada budžeta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pildpieprasīju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ate Placeholder 3"/>
          <p:cNvSpPr/>
          <p:nvPr/>
        </p:nvSpPr>
        <p:spPr>
          <a:xfrm>
            <a:off x="0" y="6597720"/>
            <a:ext cx="11145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E996AE7-3DE2-4064-98FD-E9DFA07F19C8}" type="datetime">
              <a:rPr b="1" lang="lv-LV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ooter Placeholder 4"/>
          <p:cNvSpPr/>
          <p:nvPr/>
        </p:nvSpPr>
        <p:spPr>
          <a:xfrm>
            <a:off x="1187280" y="6605640"/>
            <a:ext cx="69105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gatavots Veselības ministrij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ide Number Placeholder 5"/>
          <p:cNvSpPr/>
          <p:nvPr/>
        </p:nvSpPr>
        <p:spPr>
          <a:xfrm>
            <a:off x="8604360" y="6597720"/>
            <a:ext cx="538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4E3FFCE-2223-4954-A38C-061CAE7029C3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lv-LV" sz="4000" spc="-1" strike="noStrike">
                <a:solidFill>
                  <a:srgbClr val="8a4d48"/>
                </a:solidFill>
                <a:latin typeface="Verdana"/>
              </a:rPr>
              <a:t>Plānots skatīt 2008.gadā (turpinājums)</a:t>
            </a: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476000" y="1700280"/>
            <a:ext cx="7667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nkrēti priekšlikumi par konkrētiem pakalpojumiem, kurus jāizslēdz 2009.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dā no valsts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maksājamajiem pakalpojumiem ar pamatojumu kāpēc un kādi pakalpojumi jāliek to viet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unās veselības politikas iniciatī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Date Placeholder 3"/>
          <p:cNvSpPr/>
          <p:nvPr/>
        </p:nvSpPr>
        <p:spPr>
          <a:xfrm>
            <a:off x="0" y="6597720"/>
            <a:ext cx="11145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05B4E6D-2BA3-4320-A5AA-8AFC177506D2}" type="datetime">
              <a:rPr b="1" lang="lv-LV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ooter Placeholder 4"/>
          <p:cNvSpPr/>
          <p:nvPr/>
        </p:nvSpPr>
        <p:spPr>
          <a:xfrm>
            <a:off x="1187280" y="6605640"/>
            <a:ext cx="69105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gatavots Veselības ministrij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5"/>
          <p:cNvSpPr/>
          <p:nvPr/>
        </p:nvSpPr>
        <p:spPr>
          <a:xfrm>
            <a:off x="8604360" y="6597720"/>
            <a:ext cx="538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229BB64-9810-46E1-A78B-93382C50F418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GB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476000" y="1700280"/>
            <a:ext cx="7667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ldies par uzmanību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Date Placeholder 3"/>
          <p:cNvSpPr/>
          <p:nvPr/>
        </p:nvSpPr>
        <p:spPr>
          <a:xfrm>
            <a:off x="0" y="6597720"/>
            <a:ext cx="11145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E8D85B2-D3BF-45CD-B135-739632120D34}" type="datetime">
              <a:rPr b="1" lang="lv-LV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ooter Placeholder 4"/>
          <p:cNvSpPr/>
          <p:nvPr/>
        </p:nvSpPr>
        <p:spPr>
          <a:xfrm>
            <a:off x="1187280" y="6605640"/>
            <a:ext cx="69105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gatavots Veselības ministrij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5"/>
          <p:cNvSpPr/>
          <p:nvPr/>
        </p:nvSpPr>
        <p:spPr>
          <a:xfrm>
            <a:off x="8604360" y="6597720"/>
            <a:ext cx="538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5838BB0-1692-4E2D-A303-E4A8AF77D084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7T11:21:59Z</dcterms:created>
  <dc:creator>svasaraudze</dc:creator>
  <dc:description/>
  <dc:language>en-US</dc:language>
  <cp:lastModifiedBy>Sanita Diediske</cp:lastModifiedBy>
  <dcterms:modified xsi:type="dcterms:W3CDTF">2008-05-09T08:35:05Z</dcterms:modified>
  <cp:revision>6</cp:revision>
  <dc:subject/>
  <dc:title>Slide 1</dc:title>
</cp:coreProperties>
</file>