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831C5CC-4D0D-4D4D-A8D9-FA747185549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36760" y="509760"/>
            <a:ext cx="3400560" cy="2549520"/>
          </a:xfrm>
          <a:prstGeom prst="rect">
            <a:avLst/>
          </a:prstGeom>
          <a:ln w="0">
            <a:noFill/>
          </a:ln>
        </p:spPr>
      </p:sp>
      <p:sp>
        <p:nvSpPr>
          <p:cNvPr id="203"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4"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07B0020-1B90-4C93-8341-5EF20DD9690B}"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36760" y="509760"/>
            <a:ext cx="3400560" cy="2549520"/>
          </a:xfrm>
          <a:prstGeom prst="rect">
            <a:avLst/>
          </a:prstGeom>
          <a:ln w="0">
            <a:noFill/>
          </a:ln>
        </p:spPr>
      </p:sp>
      <p:sp>
        <p:nvSpPr>
          <p:cNvPr id="206"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7"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B9B80C8-982A-4A98-9412-09C714DAC73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36760" y="509760"/>
            <a:ext cx="3400560" cy="2549520"/>
          </a:xfrm>
          <a:prstGeom prst="rect">
            <a:avLst/>
          </a:prstGeom>
          <a:ln w="0">
            <a:noFill/>
          </a:ln>
        </p:spPr>
      </p:sp>
      <p:sp>
        <p:nvSpPr>
          <p:cNvPr id="20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30A6C2B-3042-4D5D-848C-E9C81CD9C953}"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36760" y="509760"/>
            <a:ext cx="3400560" cy="2549520"/>
          </a:xfrm>
          <a:prstGeom prst="rect">
            <a:avLst/>
          </a:prstGeom>
          <a:ln w="0">
            <a:noFill/>
          </a:ln>
        </p:spPr>
      </p:sp>
      <p:sp>
        <p:nvSpPr>
          <p:cNvPr id="21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05EF00D-5159-4888-9564-A807DCB1099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36760" y="509760"/>
            <a:ext cx="3400560" cy="2549520"/>
          </a:xfrm>
          <a:prstGeom prst="rect">
            <a:avLst/>
          </a:prstGeom>
          <a:ln w="0">
            <a:noFill/>
          </a:ln>
        </p:spPr>
      </p:sp>
      <p:sp>
        <p:nvSpPr>
          <p:cNvPr id="21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822ACDA-0716-4E80-B578-B9102249EEC2}"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E169C5E-0947-4373-9C74-60F1D0D9BE6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3238560" y="509760"/>
            <a:ext cx="3397320" cy="2547720"/>
          </a:xfrm>
          <a:prstGeom prst="rect">
            <a:avLst/>
          </a:prstGeom>
          <a:ln w="0">
            <a:noFill/>
          </a:ln>
        </p:spPr>
      </p:sp>
      <p:sp>
        <p:nvSpPr>
          <p:cNvPr id="21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36760" y="509760"/>
            <a:ext cx="3400560" cy="2549520"/>
          </a:xfrm>
          <a:prstGeom prst="rect">
            <a:avLst/>
          </a:prstGeom>
          <a:ln w="0">
            <a:noFill/>
          </a:ln>
        </p:spPr>
      </p:sp>
      <p:sp>
        <p:nvSpPr>
          <p:cNvPr id="17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EC795BC-D04C-43EF-91F5-CD8E400B1D38}"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36760" y="509760"/>
            <a:ext cx="3400560" cy="2549520"/>
          </a:xfrm>
          <a:prstGeom prst="rect">
            <a:avLst/>
          </a:prstGeom>
          <a:ln w="0">
            <a:noFill/>
          </a:ln>
        </p:spPr>
      </p:sp>
      <p:sp>
        <p:nvSpPr>
          <p:cNvPr id="18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1CDB200-D218-4E72-9381-669BE27EBAE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36760" y="509760"/>
            <a:ext cx="3400560" cy="2549520"/>
          </a:xfrm>
          <a:prstGeom prst="rect">
            <a:avLst/>
          </a:prstGeom>
          <a:ln w="0">
            <a:noFill/>
          </a:ln>
        </p:spPr>
      </p:sp>
      <p:sp>
        <p:nvSpPr>
          <p:cNvPr id="18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95F3DA1-2113-4BC2-97B8-5F56B733962C}"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36760" y="509760"/>
            <a:ext cx="3400560" cy="2549520"/>
          </a:xfrm>
          <a:prstGeom prst="rect">
            <a:avLst/>
          </a:prstGeom>
          <a:ln w="0">
            <a:noFill/>
          </a:ln>
        </p:spPr>
      </p:sp>
      <p:sp>
        <p:nvSpPr>
          <p:cNvPr id="188"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9"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CE8B204-1F82-4429-9177-76671BAB94CB}"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36760" y="509760"/>
            <a:ext cx="3400560" cy="2549520"/>
          </a:xfrm>
          <a:prstGeom prst="rect">
            <a:avLst/>
          </a:prstGeom>
          <a:ln w="0">
            <a:noFill/>
          </a:ln>
        </p:spPr>
      </p:sp>
      <p:sp>
        <p:nvSpPr>
          <p:cNvPr id="191"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2"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0A6C5A6-7277-4980-89BE-BF529137E35F}"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36760" y="509760"/>
            <a:ext cx="3400560" cy="2549520"/>
          </a:xfrm>
          <a:prstGeom prst="rect">
            <a:avLst/>
          </a:prstGeom>
          <a:ln w="0">
            <a:noFill/>
          </a:ln>
        </p:spPr>
      </p:sp>
      <p:sp>
        <p:nvSpPr>
          <p:cNvPr id="194"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5"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33F914E-0300-481F-8E46-CC74C2257796}"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36760" y="509760"/>
            <a:ext cx="3400560" cy="2549520"/>
          </a:xfrm>
          <a:prstGeom prst="rect">
            <a:avLst/>
          </a:prstGeom>
          <a:ln w="0">
            <a:noFill/>
          </a:ln>
        </p:spPr>
      </p:sp>
      <p:sp>
        <p:nvSpPr>
          <p:cNvPr id="19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8"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B44EB25-CC6D-4F5D-A765-0259E781695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236760" y="509760"/>
            <a:ext cx="3400560" cy="2549520"/>
          </a:xfrm>
          <a:prstGeom prst="rect">
            <a:avLst/>
          </a:prstGeom>
          <a:ln w="0">
            <a:noFill/>
          </a:ln>
        </p:spPr>
      </p:sp>
      <p:sp>
        <p:nvSpPr>
          <p:cNvPr id="200"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1"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613FB6A-70FB-4707-8480-B9F30D0106BD}"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3A476-A7A5-4710-971C-8FDE83769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6C0EA-E854-4EF4-9D24-5BA221C89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3A0B5-CE33-413E-924A-0A11E286C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D2F83-1528-4313-92C3-E2879A210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C5A94-8E75-49AC-B5A4-90C303EA5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D1A74-35C2-40D2-810D-C11B40504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81C48-B726-4ECE-B286-8448840CE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3653B-CBD6-45DE-B215-B52278513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AD78B-118E-4B0F-A8EF-92931CCBE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48C83-ECC4-407B-88B8-D285B3B47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F3DEE-FEB2-4BB7-B1F2-C9B8CA687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E82CE-BCEB-4765-B207-5D5CA0374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C8E01-CD65-4F58-A6F0-EDB7924E1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9619F-6B51-4DB7-98AE-ADB2AFA42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E3C9B-534C-41F2-A49C-6B675DCF6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386FC-150E-41A3-A923-E13138891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E3ADA-40D6-44CB-AE17-B46E345C0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2AF1B-8ECE-4BCF-A2C1-3AE754A92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BAF2E-F687-444C-8467-5FB8E5C95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C884A-A02C-4928-B62D-615B3450D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92A9A-CCFD-4160-A72C-BE4EB2D8E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E9FC5-6469-4560-8B9C-4D8DE57D7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2E63F-0E53-49EB-9EBE-A3A1BB08E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123B9-82C5-46F7-838A-47A4FE78B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20C1-B406-48A8-9B0C-79C228064E79}"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F71F-BB91-436B-A91E-9C054BDFB20E}"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22EE-4BD4-41E5-83FD-03DAA8AC9A2C}"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5EE0-9724-4AD6-955F-F7025DC62457}"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92000" y="765000"/>
            <a:ext cx="6840360" cy="411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800"/>
            </a:br>
            <a:br>
              <a:rPr sz="2800"/>
            </a:br>
            <a:r>
              <a:rPr b="1" lang="lv-LV" sz="2800" spc="-1" strike="noStrike">
                <a:solidFill>
                  <a:srgbClr val="000000"/>
                </a:solidFill>
                <a:latin typeface="Arial"/>
              </a:rPr>
              <a:t>LDDK pozīcija par valsts budžeta veidošanas pasākumiem ar mērķi samazināt valsts budžeta deficītu par 500 miljoniem latu</a:t>
            </a:r>
            <a:br>
              <a:rPr sz="2800"/>
            </a:br>
            <a:br>
              <a:rPr sz="1800"/>
            </a:br>
            <a:br>
              <a:rPr sz="1800"/>
            </a:br>
            <a:br>
              <a:rPr sz="1800"/>
            </a:br>
            <a:endParaRPr b="1" lang="en-US" sz="2800" spc="-1" strike="noStrike">
              <a:solidFill>
                <a:srgbClr val="000000"/>
              </a:solidFill>
              <a:latin typeface="Arial"/>
            </a:endParaRPr>
          </a:p>
        </p:txBody>
      </p:sp>
      <p:sp>
        <p:nvSpPr>
          <p:cNvPr id="131" name="PlaceHolder 2"/>
          <p:cNvSpPr>
            <a:spLocks noGrp="1"/>
          </p:cNvSpPr>
          <p:nvPr>
            <p:ph type="subTitle"/>
          </p:nvPr>
        </p:nvSpPr>
        <p:spPr>
          <a:xfrm>
            <a:off x="856800" y="4928760"/>
            <a:ext cx="6915240" cy="1319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Rīgā, 2009.gada 26.oktobrī</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4)</a:t>
            </a:r>
            <a:endParaRPr b="1" lang="en-US" sz="2800" spc="-1" strike="noStrike">
              <a:solidFill>
                <a:srgbClr val="000000"/>
              </a:solidFill>
              <a:latin typeface="Arial"/>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93A6-FB08-4BCF-8822-5E75D0FBA841}"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1" name=""/>
          <p:cNvSpPr txBox="1"/>
          <p:nvPr/>
        </p:nvSpPr>
        <p:spPr>
          <a:xfrm>
            <a:off x="1071360" y="134100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āvātās nodokļu izmaiņas 2010.gadā tiešā veidā samazinās darb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lgas fondu valstī vidēji par </a:t>
            </a:r>
            <a:r>
              <a:rPr b="1" lang="lv-LV" sz="2000" spc="-1" strike="noStrike">
                <a:solidFill>
                  <a:srgbClr val="0d0d0d"/>
                </a:solidFill>
                <a:latin typeface="Arial"/>
              </a:rPr>
              <a:t>2%,</a:t>
            </a:r>
            <a:r>
              <a:rPr b="0" lang="lv-LV" sz="2000" spc="-1" strike="noStrike">
                <a:solidFill>
                  <a:srgbClr val="0d0d0d"/>
                </a:solidFill>
                <a:latin typeface="Arial"/>
              </a:rPr>
              <a:t> kā arī:</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10.gadā prognozējams 10% darba algu kritums dēļ peļņas un apgrozījuma krituma 2009.gadā;</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9.gadā prognozējams darba algu samazinājuma  20% - 30%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Kopējais algu fonds valstī: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8.GADS</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09.GADS (prognoze)</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10.GAD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5 156 000 000 latu</a:t>
            </a:r>
            <a:r>
              <a:rPr b="1" lang="lv-LV" sz="2000" spc="-1" strike="noStrike">
                <a:solidFill>
                  <a:srgbClr val="800000"/>
                </a:solidFill>
                <a:latin typeface="Arial"/>
              </a:rPr>
              <a:t>	</a:t>
            </a:r>
            <a:r>
              <a:rPr b="1" lang="lv-LV" sz="2000" spc="-1" strike="noStrike">
                <a:solidFill>
                  <a:srgbClr val="800000"/>
                </a:solidFill>
                <a:latin typeface="Arial"/>
              </a:rPr>
              <a:t>4 026 000 000 latu</a:t>
            </a:r>
            <a:r>
              <a:rPr b="1" lang="lv-LV" sz="2000" spc="-1" strike="noStrike">
                <a:solidFill>
                  <a:srgbClr val="800000"/>
                </a:solidFill>
                <a:latin typeface="Arial"/>
              </a:rPr>
              <a:t>	</a:t>
            </a:r>
            <a:r>
              <a:rPr b="1" lang="lv-LV" sz="2000" spc="-1" strike="noStrike">
                <a:solidFill>
                  <a:srgbClr val="800000"/>
                </a:solidFill>
                <a:latin typeface="Arial"/>
              </a:rPr>
              <a:t>	</a:t>
            </a:r>
            <a:r>
              <a:rPr b="1" lang="lv-LV" sz="2000" spc="-1" strike="noStrike">
                <a:solidFill>
                  <a:srgbClr val="800000"/>
                </a:solidFill>
                <a:latin typeface="Arial"/>
              </a:rPr>
              <a:t> - 12% ?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5)</a:t>
            </a:r>
            <a:endParaRPr b="1" lang="en-US" sz="28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B257-77E3-47E0-B651-3AEA861251BD}"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4" name=""/>
          <p:cNvSpPr txBox="1"/>
          <p:nvPr/>
        </p:nvSpPr>
        <p:spPr>
          <a:xfrm>
            <a:off x="971640" y="1773000"/>
            <a:ext cx="799632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augstinot nodokļa likmi pašnodarbinātajiem no 15% uz 23%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lānots palielināt budžeta ieņēmumus par </a:t>
            </a:r>
            <a:r>
              <a:rPr b="1" lang="lv-LV" sz="2000" spc="-1" strike="noStrike">
                <a:solidFill>
                  <a:srgbClr val="0d0d0d"/>
                </a:solidFill>
                <a:latin typeface="Arial"/>
              </a:rPr>
              <a:t>3 329 912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dāvājums nav atbalstāms, ja vienlaicīgi netiek ieviest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entmaksas un samazināts nodokļu slogs mikro un mazajie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tādejādi, sasniedzot mikrouzņēmumu atbalst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cepcijas mērķi – risināt sarežģīto situāciju ar </a:t>
            </a:r>
            <a:r>
              <a:rPr b="1" lang="lv-LV" sz="2000" spc="-1" strike="noStrike">
                <a:solidFill>
                  <a:srgbClr val="800000"/>
                </a:solidFill>
                <a:latin typeface="Arial"/>
              </a:rPr>
              <a:t>nodarbinātību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stimulēt iedzīvotājus nodarboties ar uzņēmējdarbību</a:t>
            </a:r>
            <a:r>
              <a:rPr b="0" lang="lv-LV" sz="2000" spc="-1" strike="noStrike">
                <a:solidFill>
                  <a:srgbClr val="8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6)</a:t>
            </a:r>
            <a:endParaRPr b="1" lang="en-US" sz="28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A943-9B55-4182-8B85-28316210E6D3}"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7"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nodokļa likmi zemei un saimnieciskajā darbīb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mantojamām ēkām līdz 1,5% papildus budžetā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gūt 13 0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Diskutējams. Nodokļu likmes palielinājums par 0,5% negatīvi ietekmē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jošo uzņēmumu konkurētspēju. Kāda ir kadastra vērtību izmaiņ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etekme un kādā veidā tiks attiecināts 25%  nodokļu likm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auguma ierobežoj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7)</a:t>
            </a:r>
            <a:endParaRPr b="1" lang="en-US" sz="2800" spc="-1" strike="noStrike">
              <a:solidFill>
                <a:srgbClr val="000000"/>
              </a:solidFill>
              <a:latin typeface="Arial"/>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3BFC-B35E-44A0-8E7A-830A9C6F3AA1}"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0" name=""/>
          <p:cNvSpPr txBox="1"/>
          <p:nvPr/>
        </p:nvSpPr>
        <p:spPr>
          <a:xfrm>
            <a:off x="1071360" y="162828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akcīzes nodokli alkaholam papildus budžetā ar akcīz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nodokli iecerēts iegūt </a:t>
            </a:r>
            <a:r>
              <a:rPr b="1" lang="lv-LV" sz="2000" spc="-1" strike="noStrike">
                <a:solidFill>
                  <a:srgbClr val="0d0d0d"/>
                </a:solidFill>
                <a:latin typeface="Arial"/>
              </a:rPr>
              <a:t>555 271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ozare prognozē 2010. gadā kopējo nomaksāto nodokļu apjom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amazināšanos par </a:t>
            </a:r>
            <a:r>
              <a:rPr b="1" lang="lv-LV" sz="2000" spc="-1" strike="noStrike">
                <a:solidFill>
                  <a:srgbClr val="800000"/>
                </a:solidFill>
                <a:latin typeface="Arial"/>
              </a:rPr>
              <a:t>8 100 000</a:t>
            </a:r>
            <a:r>
              <a:rPr b="0" lang="lv-LV" sz="2000" spc="-1" strike="noStrike">
                <a:solidFill>
                  <a:srgbClr val="800000"/>
                </a:solidFill>
                <a:latin typeface="Arial"/>
              </a:rPr>
              <a:t> latu (nelegālā aprite un māj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šan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minimālo akzīzes nodokļa līmeni cigaretēm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budžetā plānots iegūt </a:t>
            </a:r>
            <a:r>
              <a:rPr b="1" lang="lv-LV" sz="2000" spc="-1" strike="noStrike">
                <a:solidFill>
                  <a:srgbClr val="0d0d0d"/>
                </a:solidFill>
                <a:latin typeface="Arial"/>
              </a:rPr>
              <a:t>6 5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bos gadījumos šīs ir sociāli jūtīgas preces ar augstu nelegālā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tirdzniecības apjomu kam ir tendence pieaugt un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 nodokļi vispār netiek iekasēt. Izmaiņām ir</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s negatīvs efekt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0960" y="189000"/>
            <a:ext cx="8032680" cy="133488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d0d0d"/>
                </a:solidFill>
                <a:latin typeface="Arial"/>
              </a:rPr>
              <a:t>Iebildumi par izdevumu samazināšanas priekšlikumiem</a:t>
            </a:r>
            <a:endParaRPr b="1" lang="en-US" sz="32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93FE-A07E-4F0C-AB64-8D829B2271CC}"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3" name=""/>
          <p:cNvSpPr txBox="1"/>
          <p:nvPr/>
        </p:nvSpPr>
        <p:spPr>
          <a:xfrm>
            <a:off x="1042560" y="1196640"/>
            <a:ext cx="8325000" cy="507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dāvāto nodokļu izmaiņu budžeta ieņēmumu prognozes i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pamatoti optimistiskas, tādēļ izdevumu sadaļā līdzšinējai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mazinājums nav pietiekams un ir </a:t>
            </a:r>
            <a:r>
              <a:rPr b="1" lang="lv-LV" sz="2000" spc="-1" strike="noStrike">
                <a:solidFill>
                  <a:srgbClr val="000000"/>
                </a:solidFill>
                <a:latin typeface="Arial"/>
              </a:rPr>
              <a:t>jāturpina meklēt resursi</a:t>
            </a:r>
            <a:r>
              <a:rPr b="0" lang="lv-LV"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ai iegūtu papildus samazinājumu, kuru īslaicīgi iespēja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mpensēt ar ES fondu palīdzību</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frastruktūrai (SM pozīcijas) </a:t>
            </a:r>
            <a:r>
              <a:rPr b="0" lang="lv-LV" sz="1800" spc="-1" strike="noStrike">
                <a:solidFill>
                  <a:srgbClr val="800000"/>
                </a:solidFill>
                <a:latin typeface="Arial"/>
              </a:rPr>
              <a:t> un izglītībai un zinātnei </a:t>
            </a:r>
            <a:r>
              <a:rPr b="0" lang="en-US" sz="1800" spc="-1" strike="noStrike">
                <a:solidFill>
                  <a:srgbClr val="800000"/>
                </a:solidFill>
                <a:latin typeface="Arial"/>
              </a:rPr>
              <a:t>plānota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zdevumu samazinājums ir</a:t>
            </a:r>
            <a:r>
              <a:rPr b="0" lang="lv-LV" sz="1800" spc="-1" strike="noStrike">
                <a:solidFill>
                  <a:srgbClr val="800000"/>
                </a:solidFill>
                <a:latin typeface="Arial"/>
              </a:rPr>
              <a:t> </a:t>
            </a:r>
            <a:r>
              <a:rPr b="0" lang="en-US" sz="1800" spc="-1" strike="noStrike">
                <a:solidFill>
                  <a:srgbClr val="800000"/>
                </a:solidFill>
                <a:latin typeface="Arial"/>
              </a:rPr>
              <a:t>attaisnojams,  ja tas tiek kompensēts n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S fondiem</a:t>
            </a:r>
            <a:r>
              <a:rPr b="0" lang="lv-LV" sz="1800" spc="-1" strike="noStrike">
                <a:solidFill>
                  <a:srgbClr val="8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Vissliktākie apguves ES fondu apguves rādītāji ir:</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izglītības nozarē - līdz finansējuma saņēmējiem nonākuši tikai 5 milj. no pieejamajiem 312 milj.;</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zinātnes nozarē - pieejami 188 milj., bet nav vel noslēgts neviens līgu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258920" y="1844640"/>
            <a:ext cx="748836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Paldies par uzmanību!</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zaugsmei un labklājībai!</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Sabiedrībai - www.lddk.lv</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Biedriem - www.lobijs.lv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5" name="Picture 4" descr=""/>
          <p:cNvPicPr/>
          <p:nvPr/>
        </p:nvPicPr>
        <p:blipFill>
          <a:blip r:embed="rId1"/>
          <a:stretch/>
        </p:blipFill>
        <p:spPr>
          <a:xfrm>
            <a:off x="1042920" y="5734080"/>
            <a:ext cx="828720" cy="809640"/>
          </a:xfrm>
          <a:prstGeom prst="rect">
            <a:avLst/>
          </a:prstGeom>
          <a:ln w="0">
            <a:noFill/>
          </a:ln>
        </p:spPr>
      </p:pic>
      <p:pic>
        <p:nvPicPr>
          <p:cNvPr id="176" name="Picture 6" descr="biac_logo-1"/>
          <p:cNvPicPr/>
          <p:nvPr/>
        </p:nvPicPr>
        <p:blipFill>
          <a:blip r:embed="rId2"/>
          <a:stretch/>
        </p:blipFill>
        <p:spPr>
          <a:xfrm>
            <a:off x="1908000" y="5805360"/>
            <a:ext cx="2448000" cy="717840"/>
          </a:xfrm>
          <a:prstGeom prst="rect">
            <a:avLst/>
          </a:prstGeom>
          <a:ln w="0">
            <a:noFill/>
          </a:ln>
        </p:spPr>
      </p:pic>
      <p:pic>
        <p:nvPicPr>
          <p:cNvPr id="177" name="Picture 11" descr="Logo[2]"/>
          <p:cNvPicPr/>
          <p:nvPr/>
        </p:nvPicPr>
        <p:blipFill>
          <a:blip r:embed="rId3"/>
          <a:stretch/>
        </p:blipFill>
        <p:spPr>
          <a:xfrm>
            <a:off x="4284720" y="5877000"/>
            <a:ext cx="273672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74"/>
                                        </p:tgtEl>
                                        <p:attrNameLst>
                                          <p:attrName>style.visibility</p:attrName>
                                        </p:attrNameLst>
                                      </p:cBhvr>
                                      <p:to>
                                        <p:strVal val="visible"/>
                                      </p:to>
                                    </p:set>
                                    <p:animEffect filter="barn(inHorizontal)"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0960" y="189000"/>
            <a:ext cx="7708680" cy="5976720"/>
          </a:xfrm>
          <a:prstGeom prst="rect">
            <a:avLst/>
          </a:prstGeom>
          <a:noFill/>
          <a:ln w="0">
            <a:noFill/>
          </a:ln>
        </p:spPr>
        <p:txBody>
          <a:bodyPr anchor="b">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	</a:t>
            </a:r>
            <a:br>
              <a:rPr sz="2000"/>
            </a:br>
            <a:br>
              <a:rPr sz="2000"/>
            </a:br>
            <a:endParaRPr b="1" lang="en-US" sz="20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2EB5-CCBC-4600-9D7F-FEC9B34FD90D}"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4" name=""/>
          <p:cNvSpPr txBox="1"/>
          <p:nvPr/>
        </p:nvSpPr>
        <p:spPr>
          <a:xfrm>
            <a:off x="1042560" y="259920"/>
            <a:ext cx="8101080" cy="39625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Valdības piedāvātā budžeta konsolidācija </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507 005 093 latu apmērā sastāv no divām daļām:</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devumu daļas, kurā apkopti pasākumi budžeta izdevumu samazināšanai atbilstoši funkciju izvērtējumam </a:t>
            </a:r>
            <a:r>
              <a:rPr b="1" lang="lv-LV" sz="2000" spc="-1" strike="noStrike">
                <a:solidFill>
                  <a:srgbClr val="0d0d0d"/>
                </a:solidFill>
                <a:latin typeface="Arial"/>
              </a:rPr>
              <a:t>301 571 688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ņēmumu daļas, kurā apkopoti pasākumi budžeta ieņēmumu palielināšanai no nodokļiem </a:t>
            </a:r>
            <a:r>
              <a:rPr b="1" lang="lv-LV" sz="2000" spc="-1" strike="noStrike">
                <a:solidFill>
                  <a:srgbClr val="0d0d0d"/>
                </a:solidFill>
                <a:latin typeface="Arial"/>
              </a:rPr>
              <a:t>187 433 406 </a:t>
            </a:r>
            <a:r>
              <a:rPr b="0" lang="lv-LV" sz="2000" spc="-1" strike="noStrike">
                <a:solidFill>
                  <a:srgbClr val="0d0d0d"/>
                </a:solidFill>
                <a:latin typeface="Arial"/>
              </a:rPr>
              <a:t>latu apmērā un neonodokļiem </a:t>
            </a:r>
            <a:r>
              <a:rPr b="1" lang="lv-LV" sz="2000" spc="-1" strike="noStrike">
                <a:solidFill>
                  <a:srgbClr val="0d0d0d"/>
                </a:solidFill>
                <a:latin typeface="Arial"/>
              </a:rPr>
              <a:t>18 000 000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	</a:t>
            </a:r>
            <a:r>
              <a:rPr b="0" lang="lv-LV" sz="2000" spc="-1" strike="noStrike">
                <a:solidFill>
                  <a:srgbClr val="800000"/>
                </a:solidFill>
                <a:latin typeface="Arial"/>
              </a:rPr>
              <a:t>Ja tiek precizēti atsevišķi jautājumi, kas attiecas uz izdevumu </a:t>
            </a:r>
            <a:br>
              <a:rPr sz="2000"/>
            </a:br>
            <a:r>
              <a:rPr b="0" lang="lv-LV" sz="2000" spc="-1" strike="noStrike">
                <a:solidFill>
                  <a:srgbClr val="800000"/>
                </a:solidFill>
                <a:latin typeface="Arial"/>
              </a:rPr>
              <a:t>samazinājumu un ieņēmumu palielinājumu LDDK, ņemot vērā uzņemtās starptautiskās saistības, atbalsta valdības sagatavoto budžeta projektu</a:t>
            </a:r>
            <a:br>
              <a:rPr sz="2000"/>
            </a:b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6DDA-1D97-44B7-A708-0A19C6ACF65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6" name=""/>
          <p:cNvSpPr txBox="1"/>
          <p:nvPr/>
        </p:nvSpPr>
        <p:spPr>
          <a:xfrm>
            <a:off x="1115640" y="0"/>
            <a:ext cx="7534440" cy="2060640"/>
          </a:xfrm>
          <a:prstGeom prst="rect">
            <a:avLst/>
          </a:prstGeom>
          <a:noFill/>
          <a:ln w="0">
            <a:noFill/>
          </a:ln>
        </p:spPr>
        <p:txBody>
          <a:bodyPr anchor="t">
            <a:normAutofit fontScale="55000"/>
          </a:bodyPr>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0" lang="lv-LV" sz="2400" spc="-1" strike="noStrike">
                <a:solidFill>
                  <a:srgbClr val="000000"/>
                </a:solidFill>
                <a:latin typeface="Arial"/>
              </a:rPr>
              <a:t>Nepieciešamību palielināt ieņēmumu daļu ar nodokļu palīdzību FM pamato arī ar to, ka Latvijā saskaņā ar </a:t>
            </a:r>
            <a:r>
              <a:rPr b="1" lang="lv-LV" sz="2400" spc="-1" strike="noStrike">
                <a:solidFill>
                  <a:srgbClr val="800000"/>
                </a:solidFill>
                <a:latin typeface="Arial"/>
              </a:rPr>
              <a:t>2007.</a:t>
            </a:r>
            <a:r>
              <a:rPr b="0" lang="lv-LV" sz="2400" spc="-1" strike="noStrike">
                <a:solidFill>
                  <a:srgbClr val="800000"/>
                </a:solidFill>
                <a:latin typeface="Arial"/>
              </a:rPr>
              <a:t> gada</a:t>
            </a:r>
            <a:r>
              <a:rPr b="0" lang="lv-LV" sz="2400" spc="-1" strike="noStrike">
                <a:solidFill>
                  <a:srgbClr val="000000"/>
                </a:solidFill>
                <a:latin typeface="Arial"/>
              </a:rPr>
              <a:t> datiem ir viens no zemākajiem nodokļu slogiem Eiropā – 30,5 %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1" lang="lv-LV" sz="2400" spc="-1" strike="noStrike">
                <a:solidFill>
                  <a:srgbClr val="800000"/>
                </a:solidFill>
                <a:latin typeface="Arial"/>
              </a:rPr>
              <a:t>Kāda ir mūsu konkurētspēja nodokļu sloga ziņā</a:t>
            </a:r>
            <a:br>
              <a:rPr sz="2400"/>
            </a:br>
            <a:r>
              <a:rPr b="1" lang="lv-LV" sz="2400" spc="-1" strike="noStrike">
                <a:solidFill>
                  <a:srgbClr val="800000"/>
                </a:solidFill>
                <a:latin typeface="Arial"/>
              </a:rPr>
              <a:t>2009. gadā un kāda tā būs turpmākos gados, </a:t>
            </a:r>
            <a:br>
              <a:rPr sz="2400"/>
            </a:br>
            <a:r>
              <a:rPr b="1" lang="lv-LV" sz="2400" spc="-1" strike="noStrike">
                <a:solidFill>
                  <a:srgbClr val="800000"/>
                </a:solidFill>
                <a:latin typeface="Arial"/>
              </a:rPr>
              <a:t>atbalstot budžeta likumprojektu?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endParaRPr b="0" lang="en-US" sz="24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 descr=""/>
          <p:cNvPicPr/>
          <p:nvPr/>
        </p:nvPicPr>
        <p:blipFill>
          <a:blip r:embed="rId1"/>
          <a:stretch/>
        </p:blipFill>
        <p:spPr>
          <a:xfrm>
            <a:off x="1187280" y="3357720"/>
            <a:ext cx="6013800" cy="2919240"/>
          </a:xfrm>
          <a:prstGeom prst="rect">
            <a:avLst/>
          </a:prstGeom>
          <a:ln w="0">
            <a:noFill/>
          </a:ln>
        </p:spPr>
      </p:pic>
      <p:sp>
        <p:nvSpPr>
          <p:cNvPr id="138" name="Text Box 6"/>
          <p:cNvSpPr/>
          <p:nvPr/>
        </p:nvSpPr>
        <p:spPr>
          <a:xfrm>
            <a:off x="1600200" y="560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780444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dokļu reformas citās ES valstīs un </a:t>
            </a:r>
            <a:br>
              <a:rPr sz="2400"/>
            </a:br>
            <a:r>
              <a:rPr b="1" lang="fr-FR" sz="2400" spc="-1" strike="noStrike">
                <a:solidFill>
                  <a:srgbClr val="000000"/>
                </a:solidFill>
                <a:latin typeface="Arial"/>
              </a:rPr>
              <a:t>neprognozējamas nodokļu izmaiņas Latvijā kopš </a:t>
            </a:r>
            <a:br>
              <a:rPr sz="2400"/>
            </a:br>
            <a:r>
              <a:rPr b="1" lang="fr-FR" sz="2400" spc="-1" strike="noStrike">
                <a:solidFill>
                  <a:srgbClr val="000000"/>
                </a:solidFill>
                <a:latin typeface="Arial"/>
              </a:rPr>
              <a:t>2009. gada janvāra negatīvi ietekmējušas Latvijas </a:t>
            </a:r>
            <a:br>
              <a:rPr sz="2400"/>
            </a:br>
            <a:r>
              <a:rPr b="1" lang="fr-FR" sz="2400" spc="-1" strike="noStrike">
                <a:solidFill>
                  <a:srgbClr val="000000"/>
                </a:solidFill>
                <a:latin typeface="Arial"/>
              </a:rPr>
              <a:t>uzņēmumu konkurētspēju un ekonomisko </a:t>
            </a:r>
            <a:br>
              <a:rPr sz="2400"/>
            </a:br>
            <a:r>
              <a:rPr b="1" lang="fr-FR" sz="2400" spc="-1" strike="noStrike">
                <a:solidFill>
                  <a:srgbClr val="000000"/>
                </a:solidFill>
                <a:latin typeface="Arial"/>
              </a:rPr>
              <a:t>izaugsmi</a:t>
            </a:r>
            <a:br>
              <a:rPr sz="2400"/>
            </a:br>
            <a:endParaRPr b="1" lang="en-US" sz="2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01AA-8D7A-40E2-9F9D-92D0E4F9172C}"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1" name=""/>
          <p:cNvSpPr txBox="1"/>
          <p:nvPr/>
        </p:nvSpPr>
        <p:spPr>
          <a:xfrm>
            <a:off x="1142640" y="1981080"/>
            <a:ext cx="7534440" cy="6019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eraugoties uz būtiskām izmaiņām nodokļu normatīvajos akto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s stājās spēkā 2009. gada 1.janvārī, 2010. gad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budžetā ir iekļautas plašas nodokļu izmaiņas par kuru praktisk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mērošana vēl 2 mēnešus pirms to spēkā stāšanā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kaidrības – Latvijas nodokļu politikas izmaiņa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FM mājas lapā joprojām pieejmas nodokļu un nodev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istēmas attīstības pamatnostādnes, kuras valdībā ir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stiprinātas 2003. gadā un pēdējo reizi grozītas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5.gada februārī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188640"/>
            <a:ext cx="8032680" cy="628812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800000"/>
                </a:solidFill>
                <a:latin typeface="Arial"/>
              </a:rPr>
              <a:t>Vai ir pamats cerētu uz šādu</a:t>
            </a:r>
            <a:br>
              <a:rPr sz="2400"/>
            </a:br>
            <a:r>
              <a:rPr b="1" lang="lv-LV" sz="2400" spc="-1" strike="noStrike">
                <a:solidFill>
                  <a:srgbClr val="800000"/>
                </a:solidFill>
                <a:latin typeface="Arial"/>
              </a:rPr>
              <a:t>izaugsmes prognozi?</a:t>
            </a:r>
            <a:endParaRPr b="1" lang="en-US" sz="2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FA29-F40E-492C-8881-7785DD811CC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4" name=""/>
          <p:cNvSpPr txBox="1"/>
          <p:nvPr/>
        </p:nvSpPr>
        <p:spPr>
          <a:xfrm>
            <a:off x="1042920" y="691920"/>
            <a:ext cx="7655040" cy="518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EM prognozē ekonomikas atvesļošan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2010. gadā nogalē</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1403280" y="1744560"/>
            <a:ext cx="7047000" cy="37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8640"/>
            <a:ext cx="8032680" cy="6288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lv-LV" sz="2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D04C-5C5F-48DA-B9CE-D1E0240E4BF6}"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8" name=""/>
          <p:cNvSpPr txBox="1"/>
          <p:nvPr/>
        </p:nvSpPr>
        <p:spPr>
          <a:xfrm>
            <a:off x="1186920" y="228600"/>
            <a:ext cx="7534440" cy="410040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Ekonomisko atveseļošanos EM prognozē, balstoties uz ārējā pieprasījuma palielināšanos</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1116000" y="134136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a:t>
            </a:r>
            <a:endParaRPr b="1" lang="en-US" sz="28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64B3-EDB7-4CDB-95B2-B2EDC2A7B456}"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2"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lašinot IIN bāzi, iekļaujot visus kapitāla ienākumus t.s. dividend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liekot ar 2010. gadu plānots budžetā iegūt papild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21 871 400 latu.</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ikumprojektā jānosaka, ka ar IIN tiek aplikti kapitāla ienākumi, kuri iegūti par 2010. gadu, nepieļaujot situāciju, ka nodoklis tiek piemērots ienākumiem kuri ir uzkrāti no iepriekšējiem gadiem, bet iek izmaksāti 2010. gadā</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ai nodokļa administrēšanas izmaksas nepārsniegtu pašu kapitāla pieauguma nodokļa maksājuma apmērus ir apsverama doma noteikt minimālo summu no kuras tiek maksāts kapitāla pieauguma nodoklis (līdzīgs princips ir iestrādāts arī likumprojektā par NĪ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2)</a:t>
            </a:r>
            <a:endParaRPr b="1" lang="en-US" sz="2800" spc="-1" strike="noStrike">
              <a:solidFill>
                <a:srgbClr val="000000"/>
              </a:solidFill>
              <a:latin typeface="Arial"/>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F091-E718-49B7-B6E3-ADE2A0D917DC}"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5"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darba devēja ar IIN neapliekamo dāvanu apmēru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minimālās mēnešalgas (Ls 180) līdz 0 budžetā papildus no IIN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SAOI plānots iegūt attiecīgi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8 766 533 + 17 175 480 =  </a:t>
            </a:r>
            <a:r>
              <a:rPr b="1" lang="lv-LV" sz="2000" spc="-1" strike="noStrike">
                <a:solidFill>
                  <a:srgbClr val="0d0d0d"/>
                </a:solidFill>
                <a:latin typeface="Arial"/>
              </a:rPr>
              <a:t>25 942 013 lat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ar IIN neapliekamo minimumu uz 25 latiem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ildus budžetā iegūt</a:t>
            </a:r>
            <a:r>
              <a:rPr b="1" lang="lv-LV" sz="2000" spc="-1" strike="noStrike">
                <a:solidFill>
                  <a:srgbClr val="0d0d0d"/>
                </a:solidFill>
                <a:latin typeface="Arial"/>
              </a:rPr>
              <a:t> 17 175 48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Šādas izmaiņas būtiski samazina iedzīvotājiem pieejamos līdzekļ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tstājot negatīvu ietekmi uz patēriņu – pirktspēju, kā arī rada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piedienu uz atalgojumu un konkurētspēj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3)</a:t>
            </a:r>
            <a:endParaRPr b="1" lang="en-US" sz="28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F77E-336C-4A6D-BCEF-9E1A59A870A7}"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8"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r IIN un VSAOI apliekot gūto labumu no darba devēja (uzņēmuma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erošā vieglā pašažieru automobiļa izmantošanas personīgā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ajadzībām plānots papildus budžetā ieņem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15 725 417 + 22 730 400 = </a:t>
            </a:r>
            <a:r>
              <a:rPr b="1" lang="lv-LV" sz="2000" spc="-1" strike="noStrike">
                <a:solidFill>
                  <a:srgbClr val="0d0d0d"/>
                </a:solidFill>
                <a:latin typeface="Arial"/>
              </a:rPr>
              <a:t>38 455 817 la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av atbalstāms, ja nav skaidra nodokļa piemērošanas kārtība! Taj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 laikā šim priekšlikumam plānota vislielākā pozitīvā fiskālā ietekme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 budže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papildus spiediens uz atalgojumu, kur automašīn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zmantošana bijuši daļa no motivācijas sistēmas, netieša ietekme uz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kurētspē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7:15:52Z</dcterms:created>
  <dc:creator>Maija Lace</dc:creator>
  <dc:description/>
  <dc:language>en-US</dc:language>
  <cp:lastModifiedBy>Maija Lace</cp:lastModifiedBy>
  <cp:lastPrinted>2009-06-18T06:34:41Z</cp:lastPrinted>
  <dcterms:modified xsi:type="dcterms:W3CDTF">2009-10-30T11:23:15Z</dcterms:modified>
  <cp:revision>8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