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53A2BA1-5E50-4F08-86EE-BB85ACE2C39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FB2F7B8-D0CA-4D96-AE2F-BCD3E5360CF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AFBF9-2988-46EF-B4D2-9052887D7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09387-DB34-4146-BBB1-AC42D71FE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C74F4-356F-4841-A3E8-4E1955FE5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C7C81-B744-49AC-B9E3-50864B303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3D290-7ED4-4C4A-8054-2C92BFDAE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249A5-085B-497E-8CA7-DB4159DD9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098EA-0BC3-466A-A491-12F334158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FF754-D301-4E8A-9B54-F0D992ACB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21AE1-8A10-4378-B0BC-BF23461BE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19BB6-1B10-4969-8D0E-04E6FD6A8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1AEBA-B554-40CD-B6B0-F80173EBD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8570C-6DBF-4A08-B938-4C9029E06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43151-DDC2-408E-92E4-39261DD76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1D969-655A-4130-A58A-571EC0295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C8B79-ED74-4FF4-938E-732C3EFE3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F4E2F-48D7-462B-9EBE-30054F89B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55AE1-19A5-4054-9249-8448672DE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82691-49CD-4B09-89A7-60F59D4D2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25F5E-6D82-4BE3-8FEE-66BAF68FD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6FE53-0279-4303-890B-02E784C6F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7240D-C196-4681-940A-8D6A402A2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ABB3-5480-42CB-B7C4-998212C1B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80F6E-6819-4058-9E97-D59433D20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0410C-11AD-4FAC-B36D-0EB19DB27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0BC5-E886-4EFF-B5DC-E996897E01A3}" type="datetime">
              <a:rPr b="0" lang="lv-LV" sz="1200" spc="-1" strike="noStrike">
                <a:solidFill>
                  <a:srgbClr val="898989"/>
                </a:solidFill>
                <a:latin typeface="Calibri"/>
              </a:rPr>
              <a:t>29.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02F4-60D6-44ED-B9A8-BDBA28056489}"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EF1F-4852-47CA-9F95-30F24A9E553E}" type="datetime">
              <a:rPr b="0" lang="lv-LV" sz="1200" spc="-1" strike="noStrike">
                <a:solidFill>
                  <a:srgbClr val="898989"/>
                </a:solidFill>
                <a:latin typeface="Calibri"/>
              </a:rPr>
              <a:t>29.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34F9-1E3F-4CC0-AEAF-D287AED46717}"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