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F5D5D19-7EC7-44F8-B741-C36ACE4F1B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E6C5ACA-6F23-47D9-ACE5-9F549CC7D5B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A9AEC-2E4E-4A7C-9F4B-84B343D80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D911-B1E8-40CB-BEEB-CF549C360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C0E5A-2731-4C0F-9BF4-A789C029D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9D70-6469-475A-8251-C97520DF1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092F8-B302-4F0D-8CA7-81F26EC89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4597A-0D24-4F16-BD75-0C942F745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96FF8-E646-43A6-9691-1F591E325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1F87E-0F7C-405B-A5D7-E1C683443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0ED55-5547-400A-9BD6-9F26D81F6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D3FED-414E-48A4-9919-C04AFA44E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2DB8-F404-44AC-B2B8-E722A1B8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4125-49E1-4EEB-ADB9-DA2047B2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EF10F-06F2-429A-A894-BC9174891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EFF46-3EA4-4E99-83FA-20E3E3DD0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E133A-4001-48BC-BECA-536D0255D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97D82-AD87-4F28-9040-3F6CC48E6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E566D-FBBA-4ACE-8550-67C71AE1A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A7150-3F3F-4A7E-998C-FF26E9CD5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73C1-6B31-4247-9E61-6980BF0E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EBC08-4733-4B7F-9B7D-AC47453B0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7F12-AA46-458B-BCF9-772C94C7B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2DCC-7389-48C4-834A-083EAFAD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2E4F-0C99-4961-A7F8-5E0140895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6312-2549-409E-850D-B3F66548C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EDE5-1CA6-4AF2-85EF-3FF36D530EBB}"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25AC-D2A2-4AD2-BA3B-A9FB2AB9E552}"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A761-1CFB-4846-974A-5EC04B4CA5CE}" type="datetime">
              <a:rPr b="0" lang="lv-LV" sz="1200" spc="-1" strike="noStrike">
                <a:solidFill>
                  <a:srgbClr val="898989"/>
                </a:solidFill>
                <a:latin typeface="Calibri"/>
              </a:rPr>
              <a:t>30.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375B-03E5-42CB-BAB3-0C096CFB0B07}"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