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1470303-5BF3-4D3A-8B29-2ECDF9E0AC3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5102B34-556E-4B11-9E30-3EF9FF0361B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1AAC3-2D70-4084-8DBB-97E8C0850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515F0-DE1D-4C6B-9342-221BEFF2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94267-8871-488E-A7AC-24468D142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06DC2-D4F7-4DC6-8F7C-F9C5490CD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9E638-6149-40B8-B93E-635DB53C7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F8B22-9681-467C-9E4C-6F9105ABA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29FB8-32E7-4E11-AA58-A40F97C3F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F8AA4-C2B8-4980-BD18-303F657C7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99AD4-9294-4D2D-A468-B834A06F2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B5FCF-392B-4E96-A766-91B46421C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FEAA9-CAE2-40F4-AB5F-A60801D58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C208-F0DE-4F44-A0BD-C157AB044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2EA1-CA45-4A8E-9329-B2EEC1736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D2368-8F7B-437B-A0E7-06F076B61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5F413-366E-4F76-9934-96CF16914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8EB63-A9CE-40DA-B08E-0C5BD046B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D6DBD-CB5C-4AA1-9380-DD8B9F7C5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ABC23-8624-424E-A8CB-FD581AA75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472AD-CC1A-47C7-89B2-F4A1AD384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321DC-0F76-471F-BA45-97DB52B4A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B4B2D-F5A9-426B-A508-84DD6DB5A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23E65-61C9-4964-B4AA-0B688CB6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4E76-6044-42B4-8D3B-CE0BFE859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CF51-F5EE-426C-9B67-B63D8A144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3763-2CC1-4541-A88B-AE2684546F4B}"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643F-574F-4831-B24E-A74F7651475E}"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79ED-6E27-49C5-A788-D604B3D367D8}" type="datetime">
              <a:rPr b="0" lang="lv-LV" sz="1200" spc="-1" strike="noStrike">
                <a:solidFill>
                  <a:srgbClr val="898989"/>
                </a:solidFill>
                <a:latin typeface="Calibri"/>
              </a:rPr>
              <a:t>31.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9433-4B0F-494E-9C3B-9B62BA1997F2}"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