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8748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24" name="PlaceHolder 1"/>
          <p:cNvSpPr>
            <a:spLocks noGrp="1"/>
          </p:cNvSpPr>
          <p:nvPr>
            <p:ph type="hdr"/>
          </p:nvPr>
        </p:nvSpPr>
        <p:spPr>
          <a:xfrm>
            <a:off x="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2"/>
          <p:cNvSpPr>
            <a:spLocks noGrp="1"/>
          </p:cNvSpPr>
          <p:nvPr>
            <p:ph type="dt" idx="7"/>
          </p:nvPr>
        </p:nvSpPr>
        <p:spPr>
          <a:xfrm>
            <a:off x="559584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3"/>
          <p:cNvSpPr>
            <a:spLocks noGrp="1"/>
          </p:cNvSpPr>
          <p:nvPr>
            <p:ph type="sldImg"/>
          </p:nvPr>
        </p:nvSpPr>
        <p:spPr>
          <a:xfrm>
            <a:off x="3238200" y="509400"/>
            <a:ext cx="3397320" cy="2547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7" name="PlaceHolder 4"/>
          <p:cNvSpPr>
            <a:spLocks noGrp="1"/>
          </p:cNvSpPr>
          <p:nvPr>
            <p:ph type="body"/>
          </p:nvPr>
        </p:nvSpPr>
        <p:spPr>
          <a:xfrm>
            <a:off x="1315800" y="3228840"/>
            <a:ext cx="7242120" cy="30592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0" y="6456240"/>
            <a:ext cx="4278240" cy="34128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6"/>
          <p:cNvSpPr>
            <a:spLocks noGrp="1"/>
          </p:cNvSpPr>
          <p:nvPr>
            <p:ph type="sldNum" idx="9"/>
          </p:nvPr>
        </p:nvSpPr>
        <p:spPr>
          <a:xfrm>
            <a:off x="5595840" y="6456240"/>
            <a:ext cx="4278240" cy="34128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A6574D9-F1EE-4ACD-8949-36658C26D1E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3236760" y="509760"/>
            <a:ext cx="3400560" cy="2549520"/>
          </a:xfrm>
          <a:prstGeom prst="rect">
            <a:avLst/>
          </a:prstGeom>
          <a:ln w="0">
            <a:noFill/>
          </a:ln>
        </p:spPr>
      </p:sp>
      <p:sp>
        <p:nvSpPr>
          <p:cNvPr id="203"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4"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E4C4198-5353-4E26-9A68-BC3EB13D8C56}"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3236760" y="509760"/>
            <a:ext cx="3400560" cy="2549520"/>
          </a:xfrm>
          <a:prstGeom prst="rect">
            <a:avLst/>
          </a:prstGeom>
          <a:ln w="0">
            <a:noFill/>
          </a:ln>
        </p:spPr>
      </p:sp>
      <p:sp>
        <p:nvSpPr>
          <p:cNvPr id="206"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7"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05B1F29-7734-4AC5-9F0A-5C60000ABA64}"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3236760" y="509760"/>
            <a:ext cx="3400560" cy="2549520"/>
          </a:xfrm>
          <a:prstGeom prst="rect">
            <a:avLst/>
          </a:prstGeom>
          <a:ln w="0">
            <a:noFill/>
          </a:ln>
        </p:spPr>
      </p:sp>
      <p:sp>
        <p:nvSpPr>
          <p:cNvPr id="20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0"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ADB3436-49C7-4656-BD68-C6507D558011}"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3236760" y="509760"/>
            <a:ext cx="3400560" cy="2549520"/>
          </a:xfrm>
          <a:prstGeom prst="rect">
            <a:avLst/>
          </a:prstGeom>
          <a:ln w="0">
            <a:noFill/>
          </a:ln>
        </p:spPr>
      </p:sp>
      <p:sp>
        <p:nvSpPr>
          <p:cNvPr id="212"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3"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4A7644F-B4BE-4254-A793-D8E0DBC563B6}"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236760" y="509760"/>
            <a:ext cx="3400560" cy="2549520"/>
          </a:xfrm>
          <a:prstGeom prst="rect">
            <a:avLst/>
          </a:prstGeom>
          <a:ln w="0">
            <a:noFill/>
          </a:ln>
        </p:spPr>
      </p:sp>
      <p:sp>
        <p:nvSpPr>
          <p:cNvPr id="215"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6"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3BCC20A-6C54-44C2-ABCD-DB9CE0202746}"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5595840" y="6456240"/>
            <a:ext cx="4278240" cy="3412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808AEF4-EE96-43D0-B810-3818DFF99E4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8" name="PlaceHolder 1"/>
          <p:cNvSpPr>
            <a:spLocks noGrp="1"/>
          </p:cNvSpPr>
          <p:nvPr>
            <p:ph type="sldImg"/>
          </p:nvPr>
        </p:nvSpPr>
        <p:spPr>
          <a:xfrm>
            <a:off x="3238560" y="509760"/>
            <a:ext cx="3397320" cy="2547720"/>
          </a:xfrm>
          <a:prstGeom prst="rect">
            <a:avLst/>
          </a:prstGeom>
          <a:ln w="0">
            <a:noFill/>
          </a:ln>
        </p:spPr>
      </p:sp>
      <p:sp>
        <p:nvSpPr>
          <p:cNvPr id="21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36760" y="509760"/>
            <a:ext cx="3400560" cy="2549520"/>
          </a:xfrm>
          <a:prstGeom prst="rect">
            <a:avLst/>
          </a:prstGeom>
          <a:ln w="0">
            <a:noFill/>
          </a:ln>
        </p:spPr>
      </p:sp>
      <p:sp>
        <p:nvSpPr>
          <p:cNvPr id="17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0"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20ABD20-2139-497E-B4BB-8DF1C2450E0D}"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36760" y="509760"/>
            <a:ext cx="3400560" cy="2549520"/>
          </a:xfrm>
          <a:prstGeom prst="rect">
            <a:avLst/>
          </a:prstGeom>
          <a:ln w="0">
            <a:noFill/>
          </a:ln>
        </p:spPr>
      </p:sp>
      <p:sp>
        <p:nvSpPr>
          <p:cNvPr id="182"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3"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4569810-FB6B-4463-9ADD-C934929EBD9F}"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36760" y="509760"/>
            <a:ext cx="3400560" cy="2549520"/>
          </a:xfrm>
          <a:prstGeom prst="rect">
            <a:avLst/>
          </a:prstGeom>
          <a:ln w="0">
            <a:noFill/>
          </a:ln>
        </p:spPr>
      </p:sp>
      <p:sp>
        <p:nvSpPr>
          <p:cNvPr id="185"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6"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83F021C-1172-4DFF-B861-73E8CCBD68BF}"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36760" y="509760"/>
            <a:ext cx="3400560" cy="2549520"/>
          </a:xfrm>
          <a:prstGeom prst="rect">
            <a:avLst/>
          </a:prstGeom>
          <a:ln w="0">
            <a:noFill/>
          </a:ln>
        </p:spPr>
      </p:sp>
      <p:sp>
        <p:nvSpPr>
          <p:cNvPr id="188"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9"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98DF974-A8A7-4B63-8DC0-B9289C04ADFD}"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3236760" y="509760"/>
            <a:ext cx="3400560" cy="2549520"/>
          </a:xfrm>
          <a:prstGeom prst="rect">
            <a:avLst/>
          </a:prstGeom>
          <a:ln w="0">
            <a:noFill/>
          </a:ln>
        </p:spPr>
      </p:sp>
      <p:sp>
        <p:nvSpPr>
          <p:cNvPr id="191"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2"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C3BFC6E-CA5C-4D61-BD25-346869B8CDE2}"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236760" y="509760"/>
            <a:ext cx="3400560" cy="2549520"/>
          </a:xfrm>
          <a:prstGeom prst="rect">
            <a:avLst/>
          </a:prstGeom>
          <a:ln w="0">
            <a:noFill/>
          </a:ln>
        </p:spPr>
      </p:sp>
      <p:sp>
        <p:nvSpPr>
          <p:cNvPr id="194"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5"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83D977B-BD15-46F5-B392-0920118803D9}"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3236760" y="509760"/>
            <a:ext cx="3400560" cy="2549520"/>
          </a:xfrm>
          <a:prstGeom prst="rect">
            <a:avLst/>
          </a:prstGeom>
          <a:ln w="0">
            <a:noFill/>
          </a:ln>
        </p:spPr>
      </p:sp>
      <p:sp>
        <p:nvSpPr>
          <p:cNvPr id="197"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8"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0BEC1E9-657E-4D64-B181-5AEC6582479E}"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3236760" y="509760"/>
            <a:ext cx="3400560" cy="2549520"/>
          </a:xfrm>
          <a:prstGeom prst="rect">
            <a:avLst/>
          </a:prstGeom>
          <a:ln w="0">
            <a:noFill/>
          </a:ln>
        </p:spPr>
      </p:sp>
      <p:sp>
        <p:nvSpPr>
          <p:cNvPr id="200"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1"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3D14A57-566A-40DB-B5FF-9B3F150CFF18}"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D2C1C-A1C8-4473-80FC-D01549978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74996-02E6-4300-A7D8-12EC00E0D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2E75E-2E81-408A-BA52-223811A2D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CD43D-5CE7-4815-9076-8C90BE30B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E2F688-3CBE-4BF7-910E-9B1747E6EE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95EC6-FFAA-4958-A599-EC3E026A53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CD183-D06A-49AB-8C3F-43407F2DD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3EF10-E834-4B2B-97FD-0DF7FEEE6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7DE26-8C2D-4A36-8223-07AC9B9E7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8403F-8FDF-41D2-8801-787AE2FB1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5A6D3-3D87-42F0-885C-0F2ABE341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CBBEA-D739-4626-A93A-39D525279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1E44E-0663-4B8E-86B6-6919774C9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7F4CA-4611-4AFE-867F-92A9D10B0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1AE60-7724-4E77-BDC9-99CCC07A0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7CD851-4F47-4FA7-A15F-54AABE9C56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69A096-DAE0-49BB-A007-5B93B8B313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A2EA9-7410-49B3-9F14-0C35D44C6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033A9-4822-4348-95EE-B7201E6E9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6D2CF-EDB7-47A3-9F4E-98770D80B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C5F41-80AF-4164-B1B5-D5CC7D678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5AC4C-36AD-4B08-87EE-77586E405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F86AA-D0B6-4AA0-BF37-5BF53A7D3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C2E27-070C-4EEB-A36A-7DDBE5938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fons2.jpg"/>
          <p:cNvPicPr/>
          <p:nvPr/>
        </p:nvPicPr>
        <p:blipFill>
          <a:blip r:embed="rId2"/>
          <a:stretch/>
        </p:blipFill>
        <p:spPr>
          <a:xfrm>
            <a:off x="3240" y="0"/>
            <a:ext cx="9137520" cy="6858000"/>
          </a:xfrm>
          <a:prstGeom prst="rect">
            <a:avLst/>
          </a:prstGeom>
          <a:ln w="0">
            <a:noFill/>
          </a:ln>
        </p:spPr>
      </p:pic>
      <p:sp>
        <p:nvSpPr>
          <p:cNvPr id="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5EE2-0A95-4E03-A831-E0DF10FD863D}" type="datetime">
              <a:rPr b="0" lang="lv-LV" sz="1200" spc="-1" strike="noStrike">
                <a:solidFill>
                  <a:srgbClr val="898989"/>
                </a:solidFill>
                <a:latin typeface="Calibri"/>
              </a:rPr>
              <a:t>30.07.26</a:t>
            </a:fld>
            <a:endParaRPr b="0" lang="en-US" sz="1200" spc="-1" strike="noStrike">
              <a:solidFill>
                <a:srgbClr val="000000"/>
              </a:solidFill>
              <a:latin typeface="Tahoma"/>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C82E4-EC8A-4A4E-B6B8-097613F02311}"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fons1.jpg"/>
          <p:cNvPicPr/>
          <p:nvPr/>
        </p:nvPicPr>
        <p:blipFill>
          <a:blip r:embed="rId2"/>
          <a:stretch/>
        </p:blipFill>
        <p:spPr>
          <a:xfrm>
            <a:off x="3240" y="0"/>
            <a:ext cx="913752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1071360" y="1600200"/>
            <a:ext cx="7615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51273-7EA5-47D4-BC34-0E3EF40B7211}" type="datetime">
              <a:rPr b="0" lang="lv-LV" sz="1200" spc="-1" strike="noStrike">
                <a:solidFill>
                  <a:srgbClr val="898989"/>
                </a:solidFill>
                <a:latin typeface="Calibri"/>
              </a:rPr>
              <a:t>30.07.26</a:t>
            </a:fld>
            <a:endParaRPr b="0" lang="en-US" sz="1200" spc="-1" strike="noStrike">
              <a:solidFill>
                <a:srgbClr val="000000"/>
              </a:solidFill>
              <a:latin typeface="Tahoma"/>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DD62-8870-46F7-87C3-F58BFF82E03B}"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48" name="Attēls 7" descr="LDDK_logo.jpg"/>
          <p:cNvPicPr/>
          <p:nvPr/>
        </p:nvPicPr>
        <p:blipFill>
          <a:blip r:embed="rId3"/>
          <a:stretch/>
        </p:blipFill>
        <p:spPr>
          <a:xfrm>
            <a:off x="7000920" y="5643720"/>
            <a:ext cx="1928880" cy="100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92000" y="765000"/>
            <a:ext cx="6840360" cy="411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800"/>
            </a:br>
            <a:br>
              <a:rPr sz="2800"/>
            </a:br>
            <a:r>
              <a:rPr b="1" lang="lv-LV" sz="2800" spc="-1" strike="noStrike">
                <a:solidFill>
                  <a:srgbClr val="000000"/>
                </a:solidFill>
                <a:latin typeface="Arial"/>
              </a:rPr>
              <a:t>LDDK pozīcija par valsts budžeta veidošanas pasākumiem ar mērķi samazināt valsts budžeta deficītu par 500 miljoniem latu</a:t>
            </a:r>
            <a:br>
              <a:rPr sz="2800"/>
            </a:br>
            <a:br>
              <a:rPr sz="1800"/>
            </a:br>
            <a:br>
              <a:rPr sz="1800"/>
            </a:br>
            <a:br>
              <a:rPr sz="1800"/>
            </a:br>
            <a:endParaRPr b="1" lang="en-US" sz="2800" spc="-1" strike="noStrike">
              <a:solidFill>
                <a:srgbClr val="000000"/>
              </a:solidFill>
              <a:latin typeface="Arial"/>
            </a:endParaRPr>
          </a:p>
        </p:txBody>
      </p:sp>
      <p:sp>
        <p:nvSpPr>
          <p:cNvPr id="131" name="PlaceHolder 2"/>
          <p:cNvSpPr>
            <a:spLocks noGrp="1"/>
          </p:cNvSpPr>
          <p:nvPr>
            <p:ph type="subTitle"/>
          </p:nvPr>
        </p:nvSpPr>
        <p:spPr>
          <a:xfrm>
            <a:off x="856800" y="4928760"/>
            <a:ext cx="6915240" cy="13194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Rīgā, 2009.gada 26.oktobrī</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4)</a:t>
            </a:r>
            <a:endParaRPr b="1" lang="en-US" sz="2800" spc="-1" strike="noStrike">
              <a:solidFill>
                <a:srgbClr val="000000"/>
              </a:solidFill>
              <a:latin typeface="Arial"/>
            </a:endParaRPr>
          </a:p>
        </p:txBody>
      </p:sp>
      <p:sp>
        <p:nvSpPr>
          <p:cNvPr id="1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6DD8E-DE13-45D7-AA88-AA808C714FDB}"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1" name=""/>
          <p:cNvSpPr txBox="1"/>
          <p:nvPr/>
        </p:nvSpPr>
        <p:spPr>
          <a:xfrm>
            <a:off x="1071360" y="1341000"/>
            <a:ext cx="8072280" cy="50785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iedāvātās nodokļu izmaiņas 2010.gadā tiešā veidā samazinās darba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lgas fondu valstī vidēji par </a:t>
            </a:r>
            <a:r>
              <a:rPr b="1" lang="lv-LV" sz="2000" spc="-1" strike="noStrike">
                <a:solidFill>
                  <a:srgbClr val="0d0d0d"/>
                </a:solidFill>
                <a:latin typeface="Arial"/>
              </a:rPr>
              <a:t>2%,</a:t>
            </a:r>
            <a:r>
              <a:rPr b="0" lang="lv-LV" sz="2000" spc="-1" strike="noStrike">
                <a:solidFill>
                  <a:srgbClr val="0d0d0d"/>
                </a:solidFill>
                <a:latin typeface="Arial"/>
              </a:rPr>
              <a:t> kā arī:</a:t>
            </a:r>
            <a:endParaRPr b="0" lang="en-US" sz="2000" spc="-1" strike="noStrike">
              <a:solidFill>
                <a:srgbClr val="000000"/>
              </a:solidFill>
              <a:latin typeface="Arial"/>
            </a:endParaRPr>
          </a:p>
          <a:p>
            <a:pPr marL="457200" indent="-4572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10.gadā prognozējams 10% darba algu kritums dēļ peļņas un apgrozījuma krituma 2009.gadā;</a:t>
            </a:r>
            <a:endParaRPr b="0" lang="en-US" sz="2000" spc="-1" strike="noStrike">
              <a:solidFill>
                <a:srgbClr val="000000"/>
              </a:solidFill>
              <a:latin typeface="Arial"/>
            </a:endParaRPr>
          </a:p>
          <a:p>
            <a:pPr marL="457200" indent="-4572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9.gadā prognozējams darba algu samazinājuma  20% - 30%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d0d0d"/>
                </a:solidFill>
                <a:latin typeface="Arial"/>
              </a:rPr>
              <a:t>Kopējais algu fonds valstī: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8.GADS</a:t>
            </a:r>
            <a:r>
              <a:rPr b="0" lang="lv-LV" sz="2000" spc="-1" strike="noStrike">
                <a:solidFill>
                  <a:srgbClr val="0d0d0d"/>
                </a:solidFill>
                <a:latin typeface="Arial"/>
              </a:rPr>
              <a:t>	</a:t>
            </a:r>
            <a:r>
              <a:rPr b="0" lang="lv-LV" sz="2000" spc="-1" strike="noStrike">
                <a:solidFill>
                  <a:srgbClr val="0d0d0d"/>
                </a:solidFill>
                <a:latin typeface="Arial"/>
              </a:rPr>
              <a:t>	</a:t>
            </a:r>
            <a:r>
              <a:rPr b="0" lang="lv-LV" sz="2000" spc="-1" strike="noStrike">
                <a:solidFill>
                  <a:srgbClr val="0d0d0d"/>
                </a:solidFill>
                <a:latin typeface="Arial"/>
              </a:rPr>
              <a:t>2009.GADS (prognoze)</a:t>
            </a:r>
            <a:r>
              <a:rPr b="0" lang="lv-LV" sz="2000" spc="-1" strike="noStrike">
                <a:solidFill>
                  <a:srgbClr val="0d0d0d"/>
                </a:solidFill>
                <a:latin typeface="Arial"/>
              </a:rPr>
              <a:t>	</a:t>
            </a:r>
            <a:r>
              <a:rPr b="0" lang="lv-LV" sz="2000" spc="-1" strike="noStrike">
                <a:solidFill>
                  <a:srgbClr val="0d0d0d"/>
                </a:solidFill>
                <a:latin typeface="Arial"/>
              </a:rPr>
              <a:t>	</a:t>
            </a:r>
            <a:r>
              <a:rPr b="0" lang="lv-LV" sz="2000" spc="-1" strike="noStrike">
                <a:solidFill>
                  <a:srgbClr val="0d0d0d"/>
                </a:solidFill>
                <a:latin typeface="Arial"/>
              </a:rPr>
              <a:t>2010.GAD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5 156 000 000 latu</a:t>
            </a:r>
            <a:r>
              <a:rPr b="1" lang="lv-LV" sz="2000" spc="-1" strike="noStrike">
                <a:solidFill>
                  <a:srgbClr val="800000"/>
                </a:solidFill>
                <a:latin typeface="Arial"/>
              </a:rPr>
              <a:t>	</a:t>
            </a:r>
            <a:r>
              <a:rPr b="1" lang="lv-LV" sz="2000" spc="-1" strike="noStrike">
                <a:solidFill>
                  <a:srgbClr val="800000"/>
                </a:solidFill>
                <a:latin typeface="Arial"/>
              </a:rPr>
              <a:t>4 026 000 000 latu</a:t>
            </a:r>
            <a:r>
              <a:rPr b="1" lang="lv-LV" sz="2000" spc="-1" strike="noStrike">
                <a:solidFill>
                  <a:srgbClr val="800000"/>
                </a:solidFill>
                <a:latin typeface="Arial"/>
              </a:rPr>
              <a:t>	</a:t>
            </a:r>
            <a:r>
              <a:rPr b="1" lang="lv-LV" sz="2000" spc="-1" strike="noStrike">
                <a:solidFill>
                  <a:srgbClr val="800000"/>
                </a:solidFill>
                <a:latin typeface="Arial"/>
              </a:rPr>
              <a:t>	</a:t>
            </a:r>
            <a:r>
              <a:rPr b="1" lang="lv-LV" sz="2000" spc="-1" strike="noStrike">
                <a:solidFill>
                  <a:srgbClr val="800000"/>
                </a:solidFill>
                <a:latin typeface="Arial"/>
              </a:rPr>
              <a:t> - 12% ?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5)</a:t>
            </a:r>
            <a:endParaRPr b="1" lang="en-US" sz="2800" spc="-1" strike="noStrike">
              <a:solidFill>
                <a:srgbClr val="000000"/>
              </a:solidFill>
              <a:latin typeface="Arial"/>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E3635-5017-4B09-8062-2A5D05332B8A}"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4" name=""/>
          <p:cNvSpPr txBox="1"/>
          <p:nvPr/>
        </p:nvSpPr>
        <p:spPr>
          <a:xfrm>
            <a:off x="971640" y="1773000"/>
            <a:ext cx="799632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augstinot nodokļa likmi pašnodarbinātajiem no 15% uz 23%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lānots palielināt budžeta ieņēmumus par </a:t>
            </a:r>
            <a:r>
              <a:rPr b="1" lang="lv-LV" sz="2000" spc="-1" strike="noStrike">
                <a:solidFill>
                  <a:srgbClr val="0d0d0d"/>
                </a:solidFill>
                <a:latin typeface="Arial"/>
              </a:rPr>
              <a:t>3 329 912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dāvājums nav atbalstāms, ja vienlaicīgi netiek ieviest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atentmaksas un samazināts nodokļu slogs mikro un mazajie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ņēmumiem, tādejādi, sasniedzot mikrouzņēmumu atbalsta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oncepcijas mērķi – risināt sarežģīto situāciju ar </a:t>
            </a:r>
            <a:r>
              <a:rPr b="1" lang="lv-LV" sz="2000" spc="-1" strike="noStrike">
                <a:solidFill>
                  <a:srgbClr val="800000"/>
                </a:solidFill>
                <a:latin typeface="Arial"/>
              </a:rPr>
              <a:t>nodarbinātību un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stimulēt iedzīvotājus nodarboties ar uzņēmējdarbību</a:t>
            </a:r>
            <a:r>
              <a:rPr b="0" lang="lv-LV" sz="2000" spc="-1" strike="noStrike">
                <a:solidFill>
                  <a:srgbClr val="8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6)</a:t>
            </a:r>
            <a:endParaRPr b="1" lang="en-US" sz="2800" spc="-1" strike="noStrike">
              <a:solidFill>
                <a:srgbClr val="000000"/>
              </a:solidFill>
              <a:latin typeface="Arial"/>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02827-9B0B-405F-ABD8-42B46B16AB43}"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7" name=""/>
          <p:cNvSpPr txBox="1"/>
          <p:nvPr/>
        </p:nvSpPr>
        <p:spPr>
          <a:xfrm>
            <a:off x="1071360" y="1752480"/>
            <a:ext cx="8072280" cy="492624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nodokļa likmi zemei un saimnieciskajā darbībā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zmantojamām ēkām līdz 1,5% papildus budžetā plānot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egūt 13 000 00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Diskutējams. Nodokļu likmes palielinājums par 0,5% negatīvi ietekmē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ražojošo uzņēmumu konkurētspēju. Kāda ir kadastra vērtību izmaiņ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ietekme un kādā veidā tiks attiecināts 25%  nodokļu likm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auguma ierobežoju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7)</a:t>
            </a:r>
            <a:endParaRPr b="1" lang="en-US" sz="2800" spc="-1" strike="noStrike">
              <a:solidFill>
                <a:srgbClr val="000000"/>
              </a:solidFill>
              <a:latin typeface="Arial"/>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026DA-5D19-487E-8255-559A3FCD2D34}"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70" name=""/>
          <p:cNvSpPr txBox="1"/>
          <p:nvPr/>
        </p:nvSpPr>
        <p:spPr>
          <a:xfrm>
            <a:off x="1071360" y="1628280"/>
            <a:ext cx="8072280" cy="50785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akcīzes nodokli alkaholam papildus budžetā ar akcīz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nodokli iecerēts iegūt </a:t>
            </a:r>
            <a:r>
              <a:rPr b="1" lang="lv-LV" sz="2000" spc="-1" strike="noStrike">
                <a:solidFill>
                  <a:srgbClr val="0d0d0d"/>
                </a:solidFill>
                <a:latin typeface="Arial"/>
              </a:rPr>
              <a:t>555 271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ozare prognozē 2010. gadā kopējo nomaksāto nodokļu apjoma</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amazināšanos par </a:t>
            </a:r>
            <a:r>
              <a:rPr b="1" lang="lv-LV" sz="2000" spc="-1" strike="noStrike">
                <a:solidFill>
                  <a:srgbClr val="800000"/>
                </a:solidFill>
                <a:latin typeface="Arial"/>
              </a:rPr>
              <a:t>8 100 000</a:t>
            </a:r>
            <a:r>
              <a:rPr b="0" lang="lv-LV" sz="2000" spc="-1" strike="noStrike">
                <a:solidFill>
                  <a:srgbClr val="800000"/>
                </a:solidFill>
                <a:latin typeface="Arial"/>
              </a:rPr>
              <a:t> latu (nelegālā aprite un māj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ražošana)</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minimālo akzīzes nodokļa līmeni cigaretēm papild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budžetā plānots iegūt </a:t>
            </a:r>
            <a:r>
              <a:rPr b="1" lang="lv-LV" sz="2000" spc="-1" strike="noStrike">
                <a:solidFill>
                  <a:srgbClr val="0d0d0d"/>
                </a:solidFill>
                <a:latin typeface="Arial"/>
              </a:rPr>
              <a:t>6 500 00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Abos gadījumos šīs ir sociāli jūtīgas preces ar augstu nelegālā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tirdzniecības apjomu kam ir tendence pieaugt un no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ura nodokļi vispār netiek iekasēt. Izmaiņām ir</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rognozējams negatīvs efekt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0960" y="189000"/>
            <a:ext cx="8032680" cy="133488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d0d0d"/>
                </a:solidFill>
                <a:latin typeface="Arial"/>
              </a:rPr>
              <a:t>Iebildumi par izdevumu samazināšanas priekšlikumiem</a:t>
            </a:r>
            <a:endParaRPr b="1" lang="en-US" sz="3200" spc="-1" strike="noStrike">
              <a:solidFill>
                <a:srgbClr val="000000"/>
              </a:solidFill>
              <a:latin typeface="Arial"/>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C3A69-3B3C-46C2-A05E-55267A7BFA49}"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73" name=""/>
          <p:cNvSpPr txBox="1"/>
          <p:nvPr/>
        </p:nvSpPr>
        <p:spPr>
          <a:xfrm>
            <a:off x="1042560" y="1196640"/>
            <a:ext cx="8325000" cy="5078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iedāvāto nodokļu izmaiņu budžeta ieņēmumu prognozes ir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nepamatoti optimistiskas, tādēļ izdevumu sadaļā līdzšinējai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samazinājums nav pietiekams un ir </a:t>
            </a:r>
            <a:r>
              <a:rPr b="1" lang="lv-LV" sz="2000" spc="-1" strike="noStrike">
                <a:solidFill>
                  <a:srgbClr val="000000"/>
                </a:solidFill>
                <a:latin typeface="Arial"/>
              </a:rPr>
              <a:t>jāturpina meklēt resursi</a:t>
            </a:r>
            <a:r>
              <a:rPr b="0" lang="lv-LV"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lai iegūtu papildus samazinājumu, kuru īslaicīgi iespējam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ompensēt ar ES fondu palīdzību</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nfrastruktūrai (SM pozīcijas) </a:t>
            </a:r>
            <a:r>
              <a:rPr b="0" lang="lv-LV" sz="1800" spc="-1" strike="noStrike">
                <a:solidFill>
                  <a:srgbClr val="800000"/>
                </a:solidFill>
                <a:latin typeface="Arial"/>
              </a:rPr>
              <a:t> un izglītībai un zinātnei </a:t>
            </a:r>
            <a:r>
              <a:rPr b="0" lang="en-US" sz="1800" spc="-1" strike="noStrike">
                <a:solidFill>
                  <a:srgbClr val="800000"/>
                </a:solidFill>
                <a:latin typeface="Arial"/>
              </a:rPr>
              <a:t>plānotai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zdevumu samazinājums ir</a:t>
            </a:r>
            <a:r>
              <a:rPr b="0" lang="lv-LV" sz="1800" spc="-1" strike="noStrike">
                <a:solidFill>
                  <a:srgbClr val="800000"/>
                </a:solidFill>
                <a:latin typeface="Arial"/>
              </a:rPr>
              <a:t> </a:t>
            </a:r>
            <a:r>
              <a:rPr b="0" lang="en-US" sz="1800" spc="-1" strike="noStrike">
                <a:solidFill>
                  <a:srgbClr val="800000"/>
                </a:solidFill>
                <a:latin typeface="Arial"/>
              </a:rPr>
              <a:t>attaisnojams,  ja tas tiek kompensēts no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S fondiem</a:t>
            </a:r>
            <a:r>
              <a:rPr b="0" lang="lv-LV" sz="1800" spc="-1" strike="noStrike">
                <a:solidFill>
                  <a:srgbClr val="800000"/>
                </a:solidFill>
                <a:latin typeface="Arial"/>
              </a:rPr>
              <a: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Vissliktākie apguves ES fondu apguves rādītāji ir:</a:t>
            </a:r>
            <a:endParaRPr b="0" lang="en-US" sz="1800" spc="-1" strike="noStrike">
              <a:solidFill>
                <a:srgbClr val="000000"/>
              </a:solidFill>
              <a:latin typeface="Arial"/>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izglītības nozarē - līdz finansējuma saņēmējiem nonākuši tikai 5 milj. no pieejamajiem 312 milj.;</a:t>
            </a:r>
            <a:endParaRPr b="0" lang="en-US" sz="1800" spc="-1" strike="noStrike">
              <a:solidFill>
                <a:srgbClr val="000000"/>
              </a:solidFill>
              <a:latin typeface="Arial"/>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zinātnes nozarē - pieejami 188 milj., bet nav vel noslēgts neviens līgu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1258920" y="1844640"/>
            <a:ext cx="7488360" cy="381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Paldies par uzmanību!</a:t>
            </a:r>
            <a:endParaRPr b="0" lang="en-US" sz="3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Izaugsmei un labklājībai!</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800000"/>
                </a:solidFill>
                <a:latin typeface="Arial"/>
              </a:rPr>
              <a:t>Sabiedrībai - www.lddk.lv</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800000"/>
                </a:solidFill>
                <a:latin typeface="Arial"/>
              </a:rPr>
              <a:t>Biedriem - www.lobijs.lv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75" name="Picture 4" descr=""/>
          <p:cNvPicPr/>
          <p:nvPr/>
        </p:nvPicPr>
        <p:blipFill>
          <a:blip r:embed="rId1"/>
          <a:stretch/>
        </p:blipFill>
        <p:spPr>
          <a:xfrm>
            <a:off x="1042920" y="5734080"/>
            <a:ext cx="828720" cy="809640"/>
          </a:xfrm>
          <a:prstGeom prst="rect">
            <a:avLst/>
          </a:prstGeom>
          <a:ln w="0">
            <a:noFill/>
          </a:ln>
        </p:spPr>
      </p:pic>
      <p:pic>
        <p:nvPicPr>
          <p:cNvPr id="176" name="Picture 6" descr="biac_logo-1"/>
          <p:cNvPicPr/>
          <p:nvPr/>
        </p:nvPicPr>
        <p:blipFill>
          <a:blip r:embed="rId2"/>
          <a:stretch/>
        </p:blipFill>
        <p:spPr>
          <a:xfrm>
            <a:off x="1908000" y="5805360"/>
            <a:ext cx="2448000" cy="717840"/>
          </a:xfrm>
          <a:prstGeom prst="rect">
            <a:avLst/>
          </a:prstGeom>
          <a:ln w="0">
            <a:noFill/>
          </a:ln>
        </p:spPr>
      </p:pic>
      <p:pic>
        <p:nvPicPr>
          <p:cNvPr id="177" name="Picture 11" descr="Logo[2]"/>
          <p:cNvPicPr/>
          <p:nvPr/>
        </p:nvPicPr>
        <p:blipFill>
          <a:blip r:embed="rId3"/>
          <a:stretch/>
        </p:blipFill>
        <p:spPr>
          <a:xfrm>
            <a:off x="4284720" y="5877000"/>
            <a:ext cx="2736720" cy="514440"/>
          </a:xfrm>
          <a:prstGeom prst="rect">
            <a:avLst/>
          </a:prstGeom>
          <a:ln w="0">
            <a:noFill/>
          </a:ln>
        </p:spPr>
      </p:pic>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2000"/>
                                  </p:stCondLst>
                                  <p:childTnLst>
                                    <p:set>
                                      <p:cBhvr>
                                        <p:cTn id="6" dur="1" fill="hold">
                                          <p:stCondLst>
                                            <p:cond delay="0"/>
                                          </p:stCondLst>
                                        </p:cTn>
                                        <p:tgtEl>
                                          <p:spTgt spid="174"/>
                                        </p:tgtEl>
                                        <p:attrNameLst>
                                          <p:attrName>style.visibility</p:attrName>
                                        </p:attrNameLst>
                                      </p:cBhvr>
                                      <p:to>
                                        <p:strVal val="visible"/>
                                      </p:to>
                                    </p:set>
                                    <p:animEffect filter="barn(inHorizontal)" transition="in">
                                      <p:cBhvr additive="repl">
                                        <p:cTn id="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10960" y="189000"/>
            <a:ext cx="7708680" cy="5976720"/>
          </a:xfrm>
          <a:prstGeom prst="rect">
            <a:avLst/>
          </a:prstGeom>
          <a:noFill/>
          <a:ln w="0">
            <a:noFill/>
          </a:ln>
        </p:spPr>
        <p:txBody>
          <a:bodyPr anchor="b">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	</a:t>
            </a:r>
            <a:br>
              <a:rPr sz="2000"/>
            </a:br>
            <a:br>
              <a:rPr sz="2000"/>
            </a:br>
            <a:endParaRPr b="1" lang="en-US" sz="2000" spc="-1" strike="noStrike">
              <a:solidFill>
                <a:srgbClr val="000000"/>
              </a:solidFill>
              <a:latin typeface="Arial"/>
            </a:endParaRPr>
          </a:p>
        </p:txBody>
      </p:sp>
      <p:sp>
        <p:nvSpPr>
          <p:cNvPr id="1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CFEA4-800D-4C59-933F-8F77C68811DD}"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34" name=""/>
          <p:cNvSpPr txBox="1"/>
          <p:nvPr/>
        </p:nvSpPr>
        <p:spPr>
          <a:xfrm>
            <a:off x="1042560" y="259920"/>
            <a:ext cx="8101080" cy="3962520"/>
          </a:xfrm>
          <a:prstGeom prst="rect">
            <a:avLst/>
          </a:prstGeom>
          <a:noFill/>
          <a:ln w="0">
            <a:noFill/>
          </a:ln>
        </p:spPr>
        <p:txBody>
          <a:bodyPr anchor="t">
            <a:normAutofit fontScale="85000"/>
          </a:bodyPr>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Valdības piedāvātā budžeta konsolidācija </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507 005 093 latu apmērā sastāv no divām daļām:</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601"/>
              </a:spcBef>
              <a:buClr>
                <a:srgbClr val="0d0d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zdevumu daļas, kurā apkopti pasākumi budžeta izdevumu samazināšanai atbilstoši funkciju izvērtējumam </a:t>
            </a:r>
            <a:r>
              <a:rPr b="1" lang="lv-LV" sz="2000" spc="-1" strike="noStrike">
                <a:solidFill>
                  <a:srgbClr val="0d0d0d"/>
                </a:solidFill>
                <a:latin typeface="Arial"/>
              </a:rPr>
              <a:t>301 571 688 </a:t>
            </a:r>
            <a:r>
              <a:rPr b="0" lang="lv-LV" sz="2000" spc="-1" strike="noStrike">
                <a:solidFill>
                  <a:srgbClr val="0d0d0d"/>
                </a:solidFill>
                <a:latin typeface="Arial"/>
              </a:rPr>
              <a:t>latu apmērā</a:t>
            </a:r>
            <a:endParaRPr b="0" lang="en-US" sz="2000" spc="-1" strike="noStrike">
              <a:solidFill>
                <a:srgbClr val="000000"/>
              </a:solidFill>
              <a:latin typeface="Arial"/>
            </a:endParaRPr>
          </a:p>
          <a:p>
            <a:pPr marL="291600" indent="-291600">
              <a:spcBef>
                <a:spcPts val="601"/>
              </a:spcBef>
              <a:buClr>
                <a:srgbClr val="0d0d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eņēmumu daļas, kurā apkopoti pasākumi budžeta ieņēmumu palielināšanai no nodokļiem </a:t>
            </a:r>
            <a:r>
              <a:rPr b="1" lang="lv-LV" sz="2000" spc="-1" strike="noStrike">
                <a:solidFill>
                  <a:srgbClr val="0d0d0d"/>
                </a:solidFill>
                <a:latin typeface="Arial"/>
              </a:rPr>
              <a:t>187 433 406 </a:t>
            </a:r>
            <a:r>
              <a:rPr b="0" lang="lv-LV" sz="2000" spc="-1" strike="noStrike">
                <a:solidFill>
                  <a:srgbClr val="0d0d0d"/>
                </a:solidFill>
                <a:latin typeface="Arial"/>
              </a:rPr>
              <a:t>latu apmērā un neonodokļiem </a:t>
            </a:r>
            <a:r>
              <a:rPr b="1" lang="lv-LV" sz="2000" spc="-1" strike="noStrike">
                <a:solidFill>
                  <a:srgbClr val="0d0d0d"/>
                </a:solidFill>
                <a:latin typeface="Arial"/>
              </a:rPr>
              <a:t>18 000 000 </a:t>
            </a:r>
            <a:r>
              <a:rPr b="0" lang="lv-LV" sz="2000" spc="-1" strike="noStrike">
                <a:solidFill>
                  <a:srgbClr val="0d0d0d"/>
                </a:solidFill>
                <a:latin typeface="Arial"/>
              </a:rPr>
              <a:t>latu apmērā</a:t>
            </a:r>
            <a:endParaRPr b="0" lang="en-US" sz="20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	</a:t>
            </a:r>
            <a:r>
              <a:rPr b="0" lang="lv-LV" sz="2000" spc="-1" strike="noStrike">
                <a:solidFill>
                  <a:srgbClr val="800000"/>
                </a:solidFill>
                <a:latin typeface="Arial"/>
              </a:rPr>
              <a:t>Ja tiek precizēti atsevišķi jautājumi, kas attiecas uz izdevumu </a:t>
            </a:r>
            <a:br>
              <a:rPr sz="2000"/>
            </a:br>
            <a:r>
              <a:rPr b="0" lang="lv-LV" sz="2000" spc="-1" strike="noStrike">
                <a:solidFill>
                  <a:srgbClr val="800000"/>
                </a:solidFill>
                <a:latin typeface="Arial"/>
              </a:rPr>
              <a:t>samazinājumu un ieņēmumu palielinājumu LDDK, ņemot vērā uzņemtās starptautiskās saistības, atbalsta valdības sagatavoto budžeta projektu</a:t>
            </a:r>
            <a:br>
              <a:rPr sz="2000"/>
            </a:br>
            <a:endParaRPr b="0" lang="en-US" sz="20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CF4D3-BA79-478F-9BFF-FC504222A18B}"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36" name=""/>
          <p:cNvSpPr txBox="1"/>
          <p:nvPr/>
        </p:nvSpPr>
        <p:spPr>
          <a:xfrm>
            <a:off x="1115640" y="0"/>
            <a:ext cx="7534440" cy="2060640"/>
          </a:xfrm>
          <a:prstGeom prst="rect">
            <a:avLst/>
          </a:prstGeom>
          <a:noFill/>
          <a:ln w="0">
            <a:noFill/>
          </a:ln>
        </p:spPr>
        <p:txBody>
          <a:bodyPr anchor="t">
            <a:normAutofit fontScale="55000"/>
          </a:bodyPr>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r>
              <a:rPr b="0" lang="lv-LV" sz="2400" spc="-1" strike="noStrike">
                <a:solidFill>
                  <a:srgbClr val="000000"/>
                </a:solidFill>
                <a:latin typeface="Arial"/>
              </a:rPr>
              <a:t>Nepieciešamību palielināt ieņēmumu daļu ar nodokļu palīdzību FM pamato arī ar to, ka Latvijā saskaņā ar </a:t>
            </a:r>
            <a:r>
              <a:rPr b="1" lang="lv-LV" sz="2400" spc="-1" strike="noStrike">
                <a:solidFill>
                  <a:srgbClr val="800000"/>
                </a:solidFill>
                <a:latin typeface="Arial"/>
              </a:rPr>
              <a:t>2007.</a:t>
            </a:r>
            <a:r>
              <a:rPr b="0" lang="lv-LV" sz="2400" spc="-1" strike="noStrike">
                <a:solidFill>
                  <a:srgbClr val="800000"/>
                </a:solidFill>
                <a:latin typeface="Arial"/>
              </a:rPr>
              <a:t> gada</a:t>
            </a:r>
            <a:r>
              <a:rPr b="0" lang="lv-LV" sz="2400" spc="-1" strike="noStrike">
                <a:solidFill>
                  <a:srgbClr val="000000"/>
                </a:solidFill>
                <a:latin typeface="Arial"/>
              </a:rPr>
              <a:t> datiem ir viens no zemākajiem nodokļu slogiem Eiropā – 30,5 % </a:t>
            </a: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r>
              <a:rPr b="1" lang="lv-LV" sz="2400" spc="-1" strike="noStrike">
                <a:solidFill>
                  <a:srgbClr val="800000"/>
                </a:solidFill>
                <a:latin typeface="Arial"/>
              </a:rPr>
              <a:t>Kāda ir mūsu konkurētspēja nodokļu sloga ziņā</a:t>
            </a:r>
            <a:br>
              <a:rPr sz="2400"/>
            </a:br>
            <a:r>
              <a:rPr b="1" lang="lv-LV" sz="2400" spc="-1" strike="noStrike">
                <a:solidFill>
                  <a:srgbClr val="800000"/>
                </a:solidFill>
                <a:latin typeface="Arial"/>
              </a:rPr>
              <a:t>2009. gadā un kāda tā būs turpmākos gados, </a:t>
            </a:r>
            <a:br>
              <a:rPr sz="2400"/>
            </a:br>
            <a:r>
              <a:rPr b="1" lang="lv-LV" sz="2400" spc="-1" strike="noStrike">
                <a:solidFill>
                  <a:srgbClr val="800000"/>
                </a:solidFill>
                <a:latin typeface="Arial"/>
              </a:rPr>
              <a:t>atbalstot budžeta likumprojektu? </a:t>
            </a: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endParaRPr b="0" lang="en-US" sz="24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Picture 4" descr=""/>
          <p:cNvPicPr/>
          <p:nvPr/>
        </p:nvPicPr>
        <p:blipFill>
          <a:blip r:embed="rId1"/>
          <a:stretch/>
        </p:blipFill>
        <p:spPr>
          <a:xfrm>
            <a:off x="1187280" y="3357720"/>
            <a:ext cx="6013800" cy="2919240"/>
          </a:xfrm>
          <a:prstGeom prst="rect">
            <a:avLst/>
          </a:prstGeom>
          <a:ln w="0">
            <a:noFill/>
          </a:ln>
        </p:spPr>
      </p:pic>
      <p:sp>
        <p:nvSpPr>
          <p:cNvPr id="138" name="Text Box 6"/>
          <p:cNvSpPr/>
          <p:nvPr/>
        </p:nvSpPr>
        <p:spPr>
          <a:xfrm>
            <a:off x="1600200" y="5603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0"/>
            <a:ext cx="7804440" cy="26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odokļu reformas citās ES valstīs un </a:t>
            </a:r>
            <a:br>
              <a:rPr sz="2400"/>
            </a:br>
            <a:r>
              <a:rPr b="1" lang="fr-FR" sz="2400" spc="-1" strike="noStrike">
                <a:solidFill>
                  <a:srgbClr val="000000"/>
                </a:solidFill>
                <a:latin typeface="Arial"/>
              </a:rPr>
              <a:t>neprognozējamas nodokļu izmaiņas Latvijā kopš </a:t>
            </a:r>
            <a:br>
              <a:rPr sz="2400"/>
            </a:br>
            <a:r>
              <a:rPr b="1" lang="fr-FR" sz="2400" spc="-1" strike="noStrike">
                <a:solidFill>
                  <a:srgbClr val="000000"/>
                </a:solidFill>
                <a:latin typeface="Arial"/>
              </a:rPr>
              <a:t>2009. gada janvāra negatīvi ietekmējušas Latvijas </a:t>
            </a:r>
            <a:br>
              <a:rPr sz="2400"/>
            </a:br>
            <a:r>
              <a:rPr b="1" lang="fr-FR" sz="2400" spc="-1" strike="noStrike">
                <a:solidFill>
                  <a:srgbClr val="000000"/>
                </a:solidFill>
                <a:latin typeface="Arial"/>
              </a:rPr>
              <a:t>uzņēmumu konkurētspēju un ekonomisko </a:t>
            </a:r>
            <a:br>
              <a:rPr sz="2400"/>
            </a:br>
            <a:r>
              <a:rPr b="1" lang="fr-FR" sz="2400" spc="-1" strike="noStrike">
                <a:solidFill>
                  <a:srgbClr val="000000"/>
                </a:solidFill>
                <a:latin typeface="Arial"/>
              </a:rPr>
              <a:t>izaugsmi</a:t>
            </a:r>
            <a:br>
              <a:rPr sz="2400"/>
            </a:br>
            <a:endParaRPr b="1" lang="en-US" sz="24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BC09D-D941-4F4B-9B98-0E47564021BC}"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1" name=""/>
          <p:cNvSpPr txBox="1"/>
          <p:nvPr/>
        </p:nvSpPr>
        <p:spPr>
          <a:xfrm>
            <a:off x="1142640" y="1981080"/>
            <a:ext cx="7534440" cy="60199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eraugoties uz būtiskām izmaiņām nodokļu normatīvajos akto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uras stājās spēkā 2009. gada 1.janvārī, 2010. gada</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budžetā ir iekļautas plašas nodokļu izmaiņas par kuru praktisku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mērošana vēl 2 mēnešus pirms to spēkā stāšanās nav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kaidrības – Latvijas nodokļu politikas izmaiņas nav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rognozējama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FM mājas lapā joprojām pieejmas nodokļu un nodevu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istēmas attīstības pamatnostādnes, kuras valdībā ir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pstiprinātas 2003. gadā un pēdējo reizi grozītas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5.gada februārī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71280" y="188640"/>
            <a:ext cx="8032680" cy="628812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800000"/>
                </a:solidFill>
                <a:latin typeface="Arial"/>
              </a:rPr>
              <a:t>Vai ir pamats cerētu uz šādu</a:t>
            </a:r>
            <a:br>
              <a:rPr sz="2400"/>
            </a:br>
            <a:r>
              <a:rPr b="1" lang="lv-LV" sz="2400" spc="-1" strike="noStrike">
                <a:solidFill>
                  <a:srgbClr val="800000"/>
                </a:solidFill>
                <a:latin typeface="Arial"/>
              </a:rPr>
              <a:t>izaugsmes prognozi?</a:t>
            </a:r>
            <a:endParaRPr b="1" lang="en-US" sz="2400" spc="-1" strike="noStrike">
              <a:solidFill>
                <a:srgbClr val="000000"/>
              </a:solidFill>
              <a:latin typeface="Arial"/>
            </a:endParaRPr>
          </a:p>
        </p:txBody>
      </p:sp>
      <p:sp>
        <p:nvSpPr>
          <p:cNvPr id="14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87A4D-D895-4CA3-85D0-132130062CDA}"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4" name=""/>
          <p:cNvSpPr txBox="1"/>
          <p:nvPr/>
        </p:nvSpPr>
        <p:spPr>
          <a:xfrm>
            <a:off x="1042920" y="691920"/>
            <a:ext cx="7655040" cy="5181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	</a:t>
            </a:r>
            <a:r>
              <a:rPr b="1" lang="lv-LV" sz="2800" spc="-1" strike="noStrike">
                <a:solidFill>
                  <a:srgbClr val="000000"/>
                </a:solidFill>
                <a:latin typeface="Arial"/>
              </a:rPr>
              <a:t>EM prognozē ekonomikas atvesļošanos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	</a:t>
            </a:r>
            <a:r>
              <a:rPr b="1" lang="lv-LV" sz="2800" spc="-1" strike="noStrike">
                <a:solidFill>
                  <a:srgbClr val="000000"/>
                </a:solidFill>
                <a:latin typeface="Arial"/>
              </a:rPr>
              <a:t>2010. gadā nogalē</a:t>
            </a:r>
            <a:endParaRPr b="0" lang="en-US" sz="2800" spc="-1" strike="noStrike">
              <a:solidFill>
                <a:srgbClr val="000000"/>
              </a:solidFill>
              <a:latin typeface="Arial"/>
            </a:endParaRPr>
          </a:p>
        </p:txBody>
      </p:sp>
      <p:pic>
        <p:nvPicPr>
          <p:cNvPr id="145" name="Picture 4" descr=""/>
          <p:cNvPicPr/>
          <p:nvPr/>
        </p:nvPicPr>
        <p:blipFill>
          <a:blip r:embed="rId1"/>
          <a:stretch/>
        </p:blipFill>
        <p:spPr>
          <a:xfrm>
            <a:off x="1403280" y="1744560"/>
            <a:ext cx="7047000" cy="37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71280" y="188640"/>
            <a:ext cx="8032680" cy="62881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lv-LV" sz="2400" spc="-1" strike="noStrike">
              <a:solidFill>
                <a:srgbClr val="000000"/>
              </a:solidFill>
              <a:latin typeface="Arial"/>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D3DEB-4EDB-4553-B75A-46137E40E190}"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8" name=""/>
          <p:cNvSpPr txBox="1"/>
          <p:nvPr/>
        </p:nvSpPr>
        <p:spPr>
          <a:xfrm>
            <a:off x="1186920" y="228600"/>
            <a:ext cx="7534440" cy="4100400"/>
          </a:xfrm>
          <a:prstGeom prst="rect">
            <a:avLst/>
          </a:prstGeom>
          <a:noFill/>
          <a:ln w="0">
            <a:noFill/>
          </a:ln>
        </p:spPr>
        <p:txBody>
          <a:bodyPr anchor="t">
            <a:normAutofit/>
          </a:bodyPr>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Ekonomisko atveseļošanos EM prognozē, balstoties uz ārējā pieprasījuma palielināšanos</a:t>
            </a:r>
            <a:endParaRPr b="0" lang="en-US" sz="2400" spc="-1" strike="noStrike">
              <a:solidFill>
                <a:srgbClr val="000000"/>
              </a:solidFill>
              <a:latin typeface="Arial"/>
            </a:endParaRPr>
          </a:p>
        </p:txBody>
      </p:sp>
      <p:pic>
        <p:nvPicPr>
          <p:cNvPr id="149" name="Picture 4" descr=""/>
          <p:cNvPicPr/>
          <p:nvPr/>
        </p:nvPicPr>
        <p:blipFill>
          <a:blip r:embed="rId1"/>
          <a:stretch/>
        </p:blipFill>
        <p:spPr>
          <a:xfrm>
            <a:off x="1116000" y="1341360"/>
            <a:ext cx="777240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10960" y="25992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a:t>
            </a:r>
            <a:endParaRPr b="1" lang="en-US" sz="2800" spc="-1" strike="noStrike">
              <a:solidFill>
                <a:srgbClr val="000000"/>
              </a:solidFill>
              <a:latin typeface="Arial"/>
            </a:endParaRPr>
          </a:p>
        </p:txBody>
      </p:sp>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C8CB1-A58A-4027-862F-AD790FF412A6}"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2" name=""/>
          <p:cNvSpPr txBox="1"/>
          <p:nvPr/>
        </p:nvSpPr>
        <p:spPr>
          <a:xfrm>
            <a:off x="1071360" y="1752480"/>
            <a:ext cx="8072280" cy="492624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plašinot IIN bāzi, iekļaujot visus kapitāla ienākumus t.s. dividend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pliekot ar 2010. gadu plānots budžetā iegūt papildu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d0d0d"/>
                </a:solidFill>
                <a:latin typeface="Arial"/>
              </a:rPr>
              <a:t>21 871 400 latu.</a:t>
            </a:r>
            <a:endParaRPr b="0" lang="en-US" sz="2000" spc="-1" strike="noStrike">
              <a:solidFill>
                <a:srgbClr val="000000"/>
              </a:solidFill>
              <a:latin typeface="Arial"/>
            </a:endParaRPr>
          </a:p>
          <a:p>
            <a:pPr marL="457200" indent="-457200">
              <a:spcBef>
                <a:spcPts val="601"/>
              </a:spcBef>
              <a:buClr>
                <a:srgbClr val="8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Likumprojektā jānosaka, ka ar IIN tiek aplikti kapitāla ienākumi, kuri iegūti par 2010. gadu, nepieļaujot situāciju, ka nodoklis tiek piemērots ienākumiem kuri ir uzkrāti no iepriekšējiem gadiem, bet iek izmaksāti 2010. gadā</a:t>
            </a:r>
            <a:endParaRPr b="0" lang="en-US" sz="2000" spc="-1" strike="noStrike">
              <a:solidFill>
                <a:srgbClr val="000000"/>
              </a:solidFill>
              <a:latin typeface="Arial"/>
            </a:endParaRPr>
          </a:p>
          <a:p>
            <a:pPr marL="457200" indent="-457200">
              <a:spcBef>
                <a:spcPts val="601"/>
              </a:spcBef>
              <a:buClr>
                <a:srgbClr val="8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Lai nodokļa administrēšanas izmaksas nepārsniegtu pašu kapitāla pieauguma nodokļa maksājuma apmērus ir apsverama doma noteikt minimālo summu no kuras tiek maksāts kapitāla pieauguma nodoklis (līdzīgs princips ir iestrādāts arī likumprojektā par NĪ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10960" y="25992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2)</a:t>
            </a:r>
            <a:endParaRPr b="1" lang="en-US" sz="2800" spc="-1" strike="noStrike">
              <a:solidFill>
                <a:srgbClr val="000000"/>
              </a:solidFill>
              <a:latin typeface="Arial"/>
            </a:endParaRPr>
          </a:p>
        </p:txBody>
      </p:sp>
      <p:sp>
        <p:nvSpPr>
          <p:cNvPr id="1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869AE-A210-4C3A-AB9B-3E074111A65B}"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5" name=""/>
          <p:cNvSpPr txBox="1"/>
          <p:nvPr/>
        </p:nvSpPr>
        <p:spPr>
          <a:xfrm>
            <a:off x="1071360" y="1773000"/>
            <a:ext cx="807228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amazinot darba devēja ar IIN neapliekamo dāvanu apmēru no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minimālās mēnešalgas (Ls 180) līdz 0 budžetā papildus no IIN un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VSAOI plānots iegūt attiecīgi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8 766 533 + 17 175 480 =  </a:t>
            </a:r>
            <a:r>
              <a:rPr b="1" lang="lv-LV" sz="2000" spc="-1" strike="noStrike">
                <a:solidFill>
                  <a:srgbClr val="0d0d0d"/>
                </a:solidFill>
                <a:latin typeface="Arial"/>
              </a:rPr>
              <a:t>25 942 013 latu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amazinot ar IIN neapliekamo minimumu uz 25 latiem plānot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pildus budžetā iegūt</a:t>
            </a:r>
            <a:r>
              <a:rPr b="1" lang="lv-LV" sz="2000" spc="-1" strike="noStrike">
                <a:solidFill>
                  <a:srgbClr val="0d0d0d"/>
                </a:solidFill>
                <a:latin typeface="Arial"/>
              </a:rPr>
              <a:t> 17 175 48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Šādas izmaiņas būtiski samazina iedzīvotājiem pieejamos līdzekļ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atstājot negatīvu ietekmi uz patēriņu – pirktspēju, kā arī rada papild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piedienu uz atalgojumu un konkurētspēj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7128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3)</a:t>
            </a:r>
            <a:endParaRPr b="1" lang="en-US" sz="2800" spc="-1" strike="noStrike">
              <a:solidFill>
                <a:srgbClr val="000000"/>
              </a:solidFill>
              <a:latin typeface="Arial"/>
            </a:endParaRPr>
          </a:p>
        </p:txBody>
      </p:sp>
      <p:sp>
        <p:nvSpPr>
          <p:cNvPr id="1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4AA20-22EF-4819-96A7-0C9A13521E8D}"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8" name=""/>
          <p:cNvSpPr txBox="1"/>
          <p:nvPr/>
        </p:nvSpPr>
        <p:spPr>
          <a:xfrm>
            <a:off x="1071360" y="1773000"/>
            <a:ext cx="807228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r IIN un VSAOI apliekot gūto labumu no darba devēja (uzņēmuma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iederošā vieglā pašažieru automobiļa izmantošanas personīgā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vajadzībām plānots papildus budžetā ieņemt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15 725 417 + 22 730 400 = </a:t>
            </a:r>
            <a:r>
              <a:rPr b="1" lang="lv-LV" sz="2000" spc="-1" strike="noStrike">
                <a:solidFill>
                  <a:srgbClr val="0d0d0d"/>
                </a:solidFill>
                <a:latin typeface="Arial"/>
              </a:rPr>
              <a:t>38 455 817 lat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av atbalstāms, ja nav skaidra nodokļa piemērošanas kārtība! Tajā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at laikā šim priekšlikumam plānota vislielākā pozitīvā fiskālā ietekme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 budžet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ņēmumiem papildus spiediens uz atalgojumu, kur automašīn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izmantošana bijuši daļa no motivācijas sistēmas, netieša ietekme uz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onkurētspēj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4T07:15:52Z</dcterms:created>
  <dc:creator>Maija Lace</dc:creator>
  <dc:description/>
  <dc:language>en-US</dc:language>
  <cp:lastModifiedBy>Maija Lace</cp:lastModifiedBy>
  <cp:lastPrinted>2009-06-18T06:34:41Z</cp:lastPrinted>
  <dcterms:modified xsi:type="dcterms:W3CDTF">2009-10-30T11:23:15Z</dcterms:modified>
  <cp:revision>8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