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  <p:sldId id="271" r:id="rId51"/>
    <p:sldId id="272" r:id="rId52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slide" Target="slides/slide16.xml"/><Relationship Id="rId52" Type="http://schemas.openxmlformats.org/officeDocument/2006/relationships/slide" Target="slides/slide1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038D9-6D79-462A-9900-A06D07ED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0423E-DB71-4439-869D-613894DF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D4297-8577-459D-A762-04DC0DEC674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BBB93-C9F9-4F32-89AC-BA347085B71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A4BE8-CBCA-4669-A5B9-5A681AC3455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5F20F-77A2-4ECC-AF05-0D889A7A6A9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1DD98-674B-4A89-8DC2-B7A103739B4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BCAB8-2FA8-4EC8-B3EB-E43C9214896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50C56-4A3D-431B-89DA-FF92D2291B0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00413-C1F8-44BD-A216-479F22A08D6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DF3B8-14DB-48F9-BB31-27541955FFA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50659E-FFFE-4A9E-B109-DC243B6509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40302-72CF-491B-83DA-1325D325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5238AF-D58C-4FD8-82EE-A56FCB3F853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FCD98C-3139-42B3-BFD0-72D9F797433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15E258-87AB-4A8C-99DA-B310400B126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F2A259-280D-46B7-AFA0-DC02A1D24EE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868CA5-039E-44DD-92D4-088EFE1C305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AA60C2-811B-468C-91F7-F261A21533B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249F97-D2B8-4042-9B29-9F02DDFF535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92546F-E305-4B4B-8C90-05FA739C688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943332-E413-4C46-B25F-22FDC5F3B37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93E218-9DBD-48EF-BB8C-446F17207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9B4A6-89D4-45EB-9FBF-650A69E3C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4B8C29-80EC-4E82-8D1A-42F8374E6D8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7807C-1B2C-4934-968F-0902C702170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96C8C-AF1C-4E6B-8735-458F6123F59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E943D-BC70-4689-B60E-4E2C9EA7567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735AA-51EF-4C29-8A46-EB85196C00A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8F95A-DFE7-45FE-BFC1-513FCEF1CA9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BE637-FB69-4C9D-8919-E3816CBB2B0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73127-4E7C-445C-8A9A-71DA9010D00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F18A8-9832-4438-B5D9-81EA0E019CC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A1377-A7BA-4F08-A917-CFC99CD453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E91AE-8BCF-4CE0-B1D8-5256C44A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7D7F4-266E-4D4F-BF43-EFCB4901D97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7CE2F-E529-440B-9D97-18FA617556D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F2F0D-0009-4AF2-95D2-5A940599D78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AC76CE-B1CC-4BC0-9B20-B8A7238D612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E50919-364E-4CD6-BE92-98F6F0B5B39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BC8465-0ED1-4C63-8785-DF115F6335C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1808C3-75C9-44CE-89A6-EFE22BC323D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E20FC0-2295-4731-ADBC-D81D2C22DA6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8AD8FE-5654-4199-84F4-E2D7A43D820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4E0CA3-DD94-4DA9-A7A9-521D50B056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C7808-F5C7-4493-BC44-1393035A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E62C9C-02DD-4237-AA5E-25E293982D9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4C35C1-21DA-42D0-9F5E-9B0CB722C81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D72056-FF42-4239-9649-47E30BB58DD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71200C-910A-45E7-AD9B-924A728FEBB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C0A5B2-796C-4C05-B685-F915BE67177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B79AA7-52B5-4EAE-8762-3CD1A308489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ADBC5A-59BA-48DB-8B95-56F3FBC695F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024826-E155-4670-97A8-F6D94268BFB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3455F1-CBDD-4F16-B7AB-3653156AC22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DC31C7-2B8A-4D34-8D1A-84D1534354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99D9A-D48B-42F7-9F5D-1B7DC9D5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7C49D6-4856-472D-86B2-7634BC34ECB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A16A15-3DC3-4D26-8BDB-77870624845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3B52F9-9EC3-4C0F-BB31-1E35C3C0674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E9283B-55E2-45F9-BEC1-BEBE97895F7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12C4F5-C721-4C26-8114-A84E8DA54E2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92FF81-DBBD-4C9C-88CB-70BC0B37AAE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3B4756-87B5-4FCF-B2A1-1F86EF8B3BC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D89DB-3A68-4D1F-BD95-07710E85811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0DEF7-D6F9-4687-8D54-ABBBD263719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2BCC1-2B90-40B6-8560-F6836A60B9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83F1B-A579-4DB8-921C-F9948508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EE97D-6BA0-4085-8153-2F7B903809D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81641-7FE4-4BC1-B8B6-CAD7D92941C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1D144-3D95-47CA-97A3-B827D279967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79706-F8E5-4399-8220-68891A44E63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EC2B5-C45D-4BCB-879F-F237AC4DA77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39E27-8499-41F7-97B7-C1A7E5C04DE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41A17-6F21-4E9E-8E7B-8DC34C63C15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0D340-ADEB-4D83-9E27-45D2F436931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965DA-0DF2-48A3-88E8-937701F164F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2154CA-6868-4A63-A1DD-B4524A214D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81597-8352-4E46-A2F0-BEED2818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B41BDE-63C9-4F08-994B-18BA5C3F667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B66BCE-F7B8-433B-8EC0-10ADAAE0603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63572F-7FD5-41D9-9955-C7C3A06DDD3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4CE976-8AB7-4A71-8296-34B1D31A1F2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7FB5E9-93D4-4A45-9366-0FB315FFD01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F9F06F-6F04-44D2-A5D5-202B16D9A8C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6729BA-BD6F-4348-AEB0-110F8DDA443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FFA87C-2177-4F0A-9BB8-DAF5F5205C1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E86832-B1A5-45AC-B60F-FFCDE2D2955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E5E686-55F1-464B-8B7A-8F4651FD1E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F97F8-49A5-4164-BAA2-CE3222DC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82F6B5-513C-46CA-AD65-2AA943EBBE8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A03182-55E0-498A-A7E3-0CF40E8C947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7E9F4F-AB6E-41CD-8156-749163CE7AD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E46D9D-F0AA-4AC7-A13F-3407B3D439D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DC8D78-E754-47EE-BE8F-39107130872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04C038-0BA6-4584-BC88-41F7B26E9DD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AFA389-01EB-48F1-98FB-01A259321FB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69585B-0746-4C51-A8ED-AC8AC054D66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A278EF-3A39-4668-81FE-293834058BA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DAB97D-C8B1-4C14-B91D-5ADEE6CA21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50A89-18FA-41B5-8050-C55D6519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E20A2F-0465-4F4E-8BD6-FDFF868D153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E18111-ED2B-4A7E-B774-CBF5D38B44C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7FB7E5-42E0-4876-BD4E-DD1459C61E6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1E3050-998D-46E6-86D2-80808F4E8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37D11D-FDCA-4B6A-8ADD-EE444ACA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84B763-CF39-43C1-8476-0CA1D460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6DB25E-D9EB-4346-A873-8AC73AF1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584C5C-D0CA-4353-98F0-383069FD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047F264-06ED-433F-AC94-9790D1D0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0B47E0-165D-4787-90B5-7A046C19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F3087-E74C-4C98-A18D-8121CCDB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D2FB7-B65D-448D-B05C-E8C971B2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9B1729-2A21-4F56-817C-2E196FF7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804C05-6ECB-4C85-A273-A09CFF99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B1B8BF-CE7B-4017-8F70-3FFDC321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AC1A71-072C-4695-A2B8-B10B42D4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419591-00C9-4B7C-903F-F462AFDC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F871E8-E687-408D-AE93-2B42D1C8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0F1359-8950-489B-B3B6-07948660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F84C99-D26F-4B52-B51A-595E6BC2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66B948-6E09-4489-821E-72FE3C2E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6F283F-32AD-41C3-9DD6-F06C8D1C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82068-F3B4-40FD-ACD6-C51F1B74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7D14C4-348B-4FB6-9C29-FA64749C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DA365C-51B9-4E55-9651-0C614D1A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545FC7-8581-4A0D-8A06-EA2F966A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96CC65-5A6B-4FFB-85B6-D08EEF99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C7D9CF-F729-462D-BB52-5E0E770E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65650A-E37E-4640-AF2C-4C46E30D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5D7F89-4BCC-44EC-AE60-731384D3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683917B-0E5B-4260-81B5-A5492BF6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569D4B9-2934-4043-B7BD-C316E7FC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5261CB9-6040-4E6D-9702-0FBA1115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4144B-DE50-47D6-802E-52F3C7FC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6CED58A-33C1-4EE0-898C-41E01647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34E9291-FF39-408F-9405-39B3A332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22AE4CA-1FAD-4D60-A128-41B64889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60BACA2-7CCE-4CAD-819F-9D4EF5C8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272D1D6-555C-4630-A449-26319233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80A091F-62C2-4259-9A2C-714B8236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CF1518A-4443-4F14-923F-93928C78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3F1D932-3BDF-47CF-9309-0F5F5A85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38ABAD0-6848-4239-BA7A-29DB306A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5E80B01-B61C-4B43-8342-BA273D28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86D01-5A85-419F-9CE4-7E33D9E6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BFF1B8C-5BA7-4D5C-9033-5397CD4E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4E3ADE0-9373-4078-8E66-F4AF995F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A3D7A58-453D-4E50-AAED-5C9C089B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75B91B9-8F34-4B95-BA7E-11F6D3FC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858E22D-00AD-4C31-BC1E-E2842AE1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E9E2F2-EF43-4722-9231-0CE076A0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2D0C266-9018-4999-8966-31A4E99D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B155DF9-96DA-475B-8936-2A937907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88ACF0E-00A0-4D06-9D22-DF7735AC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B79DC64-786B-4718-A93C-6BA995BE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DCBFA-6372-447D-BA7F-A90C64C9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D9BCE9E-00A1-4B18-A133-5D9F15FF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9272FA-0AAB-448B-9C8A-286EF964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22B9B4-E887-478B-BDE1-2F3DDFEF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FB971D-3CAC-4892-AC32-65102C3E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ED1A1A-C3F5-4DA0-8422-D3E15E81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A042C0-1EB2-47F3-88D1-E607AC86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F7F9C2-A8C9-487B-ACAD-1CA8E761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60228A-0DE1-4BB4-9AFF-88632586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8A835A-0CE1-49C6-B1E5-18B9CAF5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7C0BE8-B9A0-4C6E-ACB1-E067DC32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EFA53E-5501-4926-89B5-CF7AD160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1C4EB7-DCFE-405B-AF8B-F7669E7A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259BF2-BA9D-4A48-A090-A2A3E3A6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D304ED2-7C08-4C74-8965-BCECC2BDB65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92048D5-43DF-4AF5-A509-636661B8617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B20F379-2BE5-4E00-B6F2-6E10048DDC6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9A40B03-77AE-4AEE-857E-A53D081B654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C197ABC-A849-4B10-A6B9-80FF3179B4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D288606-064F-44DC-BF64-6074152BD1C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D805F37-9C07-4762-8891-D6E1E4EF60D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D5F84E9-028E-4517-A636-95E35BA13A0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2D6F8D1-F29B-4CEC-B25F-B8376A48149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A5F5DF0-FC26-4038-A1D6-BB9619ABEE41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287F4AF-09B6-4CA4-BEA6-2E5EB2649B0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F8088D9-92DF-427D-94C5-E3BEEF85E97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48E143-FFE1-4052-B05F-E15E1E6C7B7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051A73-876D-47FF-A3A3-739149AFCBF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FB5A2D-669C-469A-A944-8155182648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85EAFC-0A47-445E-88FB-C47E2A1F1FC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02B8C0-388D-4E74-A576-87313045898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47843A-BC95-4ABB-93A2-F6880310430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DE641B-2B94-44B0-9C28-1CA4DD7AE11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64D593-F61A-42ED-93D3-2E4DCFFE02F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C32E9E-F4C6-471A-9F0A-D0D3F9A5A32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DAED48-A99D-4A57-9AAA-75B32E3FCC2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513BFC-48ED-4C94-B6CD-9209E4123E4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3F81A9-095B-4400-844D-3FE5191035B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C330289-9EF3-4484-B006-0D438B06D5D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466D617-82A1-4FE8-882D-D36DB01E59D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40BC6F6-8B14-467D-ADE5-B037220EB98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B54C449-A58D-4804-AF2C-29D908CC73C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24D9798-9592-428E-9EFB-90F0F61357F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DB22523-1D8F-4E08-BF8D-DE3750D7B28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FB7AE76-90EA-4FC3-9BB9-061BC59E252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33F1602-5333-45E8-A7A6-ADADD2486D1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0801C8F-EEC3-47C5-8BB8-B1AEE9CEAA5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8E8E9B2-9573-40CF-BF1D-7BED9D574ED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D8F46EF-026F-4C5D-AB40-5FAB00A3FB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41336-3AD6-4988-B952-6A211B0B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8431AE3-3BFD-414B-A508-C72EEC4FFA7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D5F46CC-DB0F-4E23-8FFF-DFE2727B6FE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A44B0AD-C447-44CA-9962-A01096AC299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E7B315F-D4C6-4411-8066-A9D13020E5D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4B0E180-C71B-4FB8-A61F-2FC90C8C203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BC7A6BC-DC51-409D-B809-10C72203DCF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3407182-F8FE-4EA9-89C9-C15B0F8841F4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B29C602-D557-4EA7-A6B7-097BF2C1F0F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E953F27-923F-42A8-A1DE-C13A4D73A30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8900728-FFBF-4C28-871C-F3DD0DB7CE6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F355785-1E2F-45B6-8BC1-9CDFBD42D63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F03AE8F-F24D-4646-BB7D-B5E8449D32F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4B00381-A972-470B-B3AD-55F657124E3C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F42C58-EE55-421E-95D1-B57F07EF0438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4A5B88-5F8E-47A9-96AD-14A087219B6E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36AD16-3171-4C79-97DE-D494DE84B0FB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535EDF-75FE-4246-A6B6-5D9304690C87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96106A-9170-41E2-A196-F950BD7E1490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DCB1DE-3F3A-42DC-B65F-FE2D0A373E4C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43D4DC-A257-4AB9-839D-1AC0D31FEF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CED5B9-5C81-4D98-8284-5F979E3740FB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AC6975-3FC1-4C43-813B-D30FDFABA188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E3C8FB-0115-43C8-A2F2-7CAA57B7D5E9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5135A7-2521-456A-8E28-0EC0685D2089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841FD7-66A1-40A0-A382-01143EA4FAA4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F0A1451-0173-45D9-ACCA-36A7B9E3A7EC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32E273F-634F-46E0-883B-33C777545924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22B0558-1C55-4DA8-B191-31F2570AA0BF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0B1902B-E198-40FE-AEC9-FE15E0133953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51132AB-D3DA-469E-9A2F-1A1373718D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E30EDEF-1728-445C-89F0-EC0292C3D60F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69BEEC3-D28F-4554-BF19-D5E573058240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1EDE794-7ACE-4187-87E9-7976ADFE0218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926666C-03E0-4A0D-8ED7-B9D51E125AD3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3677CD4-0664-4C00-AC55-7D2AEB121A6F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2D266E1-5A4A-437A-855A-D9865450891D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333528D-6519-49DD-9219-73EC330CF8BD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DCA6B59-C22B-4F81-BD97-3D901E1F5B06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DEE9455-44E4-492F-AA3B-16ED4D80E65D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F92C6AE-9F70-4A3C-A59F-B726582F3E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5D75DB3-489F-40C7-B780-66D0A6C4A857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5929C7B-71C3-4805-9975-7A65A896CF44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9741961-8220-42DF-82DB-A5161ACEE802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F7A8D8D-6589-40E0-9F69-C7DB9F2699B3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205DE05-3A85-485B-B129-7ADEE917BB93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419BBFD-3853-444C-A877-03905B86404D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87B2578-E65D-460E-983D-735E34735098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16B6521-EE70-4222-B9B5-3CD0C321F382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2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44FD5D1-35D6-42C3-98E2-B1A1CA237111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AAF59D-30F8-4120-87D2-348E29F2EF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CE6F63-54FE-4156-925C-E00364F6ACCB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D9F63F-D6E4-40B9-BEED-0231674B1D32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7350D5-6514-425E-97B3-3A208EDB41F8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BB0108-F80F-46B7-9023-E5ED36D39C7E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ACCCF9-66AA-41F1-AAC4-CA04017B5D3B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0A067A-7705-46FA-AEC4-737F44689062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C7F1B2-0689-419F-9BAF-6BB2CE846086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CD4F6D-12F6-4A0A-92D1-3BE0271EDA28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27F1C1-9A95-4E1A-97B7-D6D00E51E235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B12909-7818-44D7-8DB7-99AFAB44AE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4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5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7F40F4-6CA8-47D1-A772-01C409DABD77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5FA4E70-71DF-4D17-9FB9-19381375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3E7B290-B9A8-440F-B38C-0197850C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D1F7B1E-EEE2-46F5-ACCD-1AC35D28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6C80D6A-838A-4C82-92D2-A1A8FACF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BC503E0-D8AB-42E0-87B8-D1A01AB8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3DEE5A8-E8F0-480A-8E1B-99F3DFA4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1EB69B0-A090-4047-A3DE-FBF0053C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03174E8-EC2F-440F-A597-C6196240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58EF94F-BC5F-4AB3-B970-80AC9024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310F36-13D6-4325-A85A-49118795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D5A9B16-56E5-474C-A623-16E35E96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116AB0A-9493-4F82-B0C5-DF59C06B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0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A462E48-FE63-43E3-8B04-3AF9EF3C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C43CEEE-A21F-44E4-AEB8-BC9CCB1F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64B3986-B121-4F95-BE9D-259BA5E2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5DAFBE9-CD44-4FDA-BB61-058F9642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AB19F0D-36F3-4EE4-8681-E07DBD6D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10309F2-B21C-49D8-AD8C-74A775FB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3458700-CB08-4BB4-81BB-ED5F0542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8232999-B5D6-44E1-9593-257B54DF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1CC134-4FB6-4AA6-82B6-A05F03BF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86CBA55-4E7E-4335-9FEF-4582336A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AF56D50-2614-4C67-83CB-D96F0140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EE72887-E9E9-47D2-9A6F-0FDD33C2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30E4869-4644-454A-B80E-340A0F46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C25E18E-6177-474A-93AB-A827691E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A65DE1A-4DA9-4DFC-A24A-B9AD0062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33D90F8-B8F7-491E-A8C2-5FBC24B3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9896DA1-F400-4523-930D-BE39BA30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F0D9962-2851-40B6-A9B9-5725E387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B27338D-9885-4B51-BA08-7E17F97B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DD69F4-C306-4C9F-B916-46544D94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8DFCEC0-A2B8-4BD4-9095-435A7F0F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F585E8C-9685-4D4D-8042-8DCC912A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28C2D8A-40ED-4056-8D76-BEC123F8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8A28899-9528-4C2E-A06C-A14185A2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B906596-1959-476B-ADE7-1BD2B229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B344C41-8D12-46E0-8078-0775BF3B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FCE1474-9E27-45CD-9F96-30D564E4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E38B83D-8922-47E1-863E-A78760412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E6EAA08-B60D-44F0-BB4B-7AC291BA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5A61046-78B1-4377-917C-36636161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A146C-4F7A-4002-BB15-58154C3C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D7C61F-08C9-491C-AA55-C1936BB2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D705E44-CDBF-4768-AF89-F7D9B1A4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79E0485-03C0-49AA-B548-5E64BC6D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E3597E4-DBB9-43BC-B582-79649D66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CAF17D7-E63B-4C4D-A333-940C4C68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D2D30B9-B08D-4BDC-9688-CA2845BB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721F174-3294-4EB4-AE2C-E6E29F91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1F50811-CA40-4C9B-94AE-1137B2A2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1F9FA0A-65BF-4297-BB70-38706371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8911BEB-42B8-410D-9E54-F1594A4B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2048F-AFCB-49BD-A7F4-AB9D598A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3B3CA3-568E-4A69-B2C3-F809C683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171280-5821-4D14-9C8F-045BABDF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19319-C0FD-408A-9BCD-1783FC5D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C2A15-4630-4222-9111-9947F6C8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8E17C-B5A3-45D3-B56D-97FB99A3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2A4888-59FE-487A-A388-4ED682E7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9883C9-046D-452D-8E7A-A8A941ED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435544-EF94-43D9-AEB9-FA7518CA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C982D-29AF-40DA-BEE9-F32D0F40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F1AE60-2083-4ED7-B346-3E1FED08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FFF08F-1137-4402-91E1-5A063DBE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A83D30-FFD8-4EE0-9892-A80310C1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213CDB-53D5-425F-8B5F-DE7047A8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56855D-E4E6-4496-86E4-39F4D522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56657C-4672-4053-92DA-770D7E33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26B64D-C88A-4EB8-B775-3A4FD8EE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39306D-3EE1-447F-AF8D-69778C51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5487FB-83E2-43CB-BF87-FA3774D9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0DD4B3-9330-4B15-9251-293F4319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9703C-9029-4B57-BB1D-12B4BA4B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0E070B-9D23-4F63-A0E3-F3CAB732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F9AB5-9BCE-4B42-A223-EBC710D8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B59D8-528B-4931-AE78-D8AF03AA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4BD448-B16C-40B9-BD53-3A4BC09FF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80E418-FA18-49F8-8EC6-9DE391C8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83EB35-8D90-4057-AB21-6C909A67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AD0866-DD21-49C7-83D6-E114053A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7A3157-459B-4868-AD0B-B369EA2E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EA86E-8B1E-458B-8073-98683491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D728DF-F490-430B-9678-DF053783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9CEBEF-542B-47B3-A850-B2451700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E976E7-5AEA-47D8-88BE-DA53A8E6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619E5E-54C2-4477-B296-A5C7D705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E3ACE2-695F-462B-B53E-8997AF46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A0415B-397A-41EB-AE7C-4518038CB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C8F9FE-9374-4DBB-B6D5-D8CDC881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B2A70-9F01-43BC-A4C4-1B9A8F74E4D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BD143-DC93-4CE6-9ED5-FAF9792A450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04CFC-9E7D-4229-943F-0A5D131F1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25AB-5C59-4BD6-9A5F-8C462F45FAAB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Num" idx="19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B921-ECF5-42E8-A699-7A63DC40D8F4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0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5BD5-43C5-4FA3-9CA6-9ADD9A7C3459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FFA8-5B6A-4499-A116-59E47F4600DB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4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1E5C-BF3A-4A11-9EA5-8238A8766F4E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6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A0D4-5818-42C7-9762-CB5DFE101650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28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162A-5F1E-4EF0-A61E-6B2D8DF23D9B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0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4916-DC64-4338-8C53-DEBF8041F544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3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5A5F-2D73-4B64-9A1F-1FDA65B0677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730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4BBD-9E07-4980-B144-FA849BFFD1BC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776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0BAC-DDD8-4597-ADF6-DFD8C5416C6F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478C-AFB5-4BEA-9836-C1D22B40361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6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822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824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Picture 7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C035-E0DE-4421-B5A2-695B3F69D34F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6775560" y="2455920"/>
            <a:ext cx="18144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Picture 7" descr="tmpl_lat_bruns.png"/>
          <p:cNvPicPr/>
          <p:nvPr/>
        </p:nvPicPr>
        <p:blipFill>
          <a:blip r:embed="rId2"/>
          <a:stretch/>
        </p:blipFill>
        <p:spPr>
          <a:xfrm>
            <a:off x="0" y="1353960"/>
            <a:ext cx="8629560" cy="2419560"/>
          </a:xfrm>
          <a:prstGeom prst="rect">
            <a:avLst/>
          </a:prstGeom>
          <a:ln w="0">
            <a:noFill/>
          </a:ln>
        </p:spPr>
      </p:pic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ftr" idx="45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47"/>
          </p:nvPr>
        </p:nvSpPr>
        <p:spPr>
          <a:xfrm>
            <a:off x="3722760" y="6475320"/>
            <a:ext cx="227160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48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D1C0-6F59-4D0F-AA49-5EADF1FB965D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953" name="Rectangle 9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4" name="Picture 5" descr="logo2.emf"/>
          <p:cNvPicPr/>
          <p:nvPr/>
        </p:nvPicPr>
        <p:blipFill>
          <a:blip r:embed="rId4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ftr" idx="49"/>
          </p:nvPr>
        </p:nvSpPr>
        <p:spPr>
          <a:xfrm>
            <a:off x="1720800" y="6410160"/>
            <a:ext cx="550872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sldNum" idx="50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470C-9649-49FA-BC94-F3B28422FF50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6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sldNum" idx="51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2453-B333-4CE5-BB33-1227130B87D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ftr" idx="5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9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sldNum" idx="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1258-F234-4F3A-A694-D73B9986ED6C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54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2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AE13-89D5-4AEC-A82E-BC5FF0FA3D10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56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5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DD7E-A3E9-474C-BCA4-51BABB8CAF6B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 type="ftr" idx="58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D3FA-3F15-4A70-A53E-BA4E01DB0A7E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 type="ftr" idx="60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1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sldNum" idx="6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0747-ECF7-48E7-B361-6F49C99BBC28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ftr" idx="6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4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255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E45C-DB96-4439-BA61-BDE0E781C86E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ftr" idx="64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297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8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299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0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 type="dt" idx="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 type="ftr" idx="6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 type="sldNum" idx="6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5D1B-8D1B-4466-B909-596AF5D8F810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2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343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4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45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6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 type="dt" idx="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 type="ftr" idx="6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 type="sldNum" idx="7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6DD9-AE92-4DBA-BA83-768997CF67C5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8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389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0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91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2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7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7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7679-730C-4D9D-A0E8-82536BC10AA7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435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6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437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8" name="Picture 7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7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7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7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5079-0701-409D-B77C-60D4D6ACFF4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731520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40C2-D157-4F7E-9E08-57C230DA7A67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9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FBBF-2066-4D93-9E23-FC15AB89C5CD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775560" y="2455920"/>
            <a:ext cx="18144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7" descr="tmpl_lat_bruns.png"/>
          <p:cNvPicPr/>
          <p:nvPr/>
        </p:nvPicPr>
        <p:blipFill>
          <a:blip r:embed="rId2"/>
          <a:stretch/>
        </p:blipFill>
        <p:spPr>
          <a:xfrm>
            <a:off x="0" y="1353960"/>
            <a:ext cx="8629560" cy="24195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13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5"/>
          </p:nvPr>
        </p:nvSpPr>
        <p:spPr>
          <a:xfrm>
            <a:off x="3722760" y="6475320"/>
            <a:ext cx="227160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B1FD-60A3-45CC-998E-FE64EBC824F3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9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5" descr="logo2.emf"/>
          <p:cNvPicPr/>
          <p:nvPr/>
        </p:nvPicPr>
        <p:blipFill>
          <a:blip r:embed="rId4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17"/>
          </p:nvPr>
        </p:nvSpPr>
        <p:spPr>
          <a:xfrm>
            <a:off x="1720800" y="6410160"/>
            <a:ext cx="550872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18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F65B-7128-44B5-8701-CF5A53971679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900000" y="1045800"/>
            <a:ext cx="7920000" cy="10126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Nacionālās Trīspusējās </a:t>
            </a:r>
            <a:br>
              <a:rPr sz="3600"/>
            </a:b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sadarbības padomes </a:t>
            </a:r>
            <a:br>
              <a:rPr sz="3600"/>
            </a:b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2009.gada darbības pārsk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ubTitle"/>
          </p:nvPr>
        </p:nvSpPr>
        <p:spPr>
          <a:xfrm>
            <a:off x="1835280" y="256536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Sēdes – </a:t>
            </a:r>
            <a:r>
              <a:rPr b="1" lang="lv-LV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 (1 ārkārt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gatavoti </a:t>
            </a:r>
            <a:r>
              <a:rPr b="1" lang="lv-LV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84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tzinumi par ministriju iesniegtajiem tiesību aktu projektiem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</a:rPr>
              <a:t>ociālās drošības apakšpadome. </a:t>
            </a:r>
            <a:br>
              <a:rPr sz="2600"/>
            </a:br>
            <a:r>
              <a:rPr b="1" lang="lv-LV" sz="2600" spc="-1" strike="noStrike">
                <a:solidFill>
                  <a:srgbClr val="000000"/>
                </a:solidFill>
                <a:latin typeface="Tahoma"/>
              </a:rPr>
              <a:t>Galv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enie jautājumi 2009. gadā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sociālās apdrošināšanas speciālā budžeta ieņēmumu un izdevumu  izpildes gaitu 2009.gada 1.pusgadā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bezalgas atvaļinājumu dienu piemērošanai sociālās apdrošināšanas pakalpojumu aprēķināšan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 plānoto valsts pensiju reform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plānotajām izmaiņām valsts sociālās apdrošināšanas jomā. Par sociālās drošības tīkla stratēģij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Koncepciju par mikrouzņēmumu atbalsta pasākumi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risinājumiem situācijās, kad uzņēmumam maksātnespējas gadījumā ir parāds pret privāto pensiju fondu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1332000" y="1989000"/>
            <a:ext cx="7424640" cy="3881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93000"/>
          </a:bodyPr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Teritorijas plānošanas sistēma tuvākajā piecgadē</a:t>
            </a: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Reģionālās attīstības likuma grozījum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Latvijas ilgtspējīgas attīstības stratēģijas projekts (LIAS)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Rajona pašvaldību reorganizācijas gait</a:t>
            </a: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a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riekšlikumi valsts funkciju decentralizācijai</a:t>
            </a: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Vienas pieturas aģentūras principa ieviešana valsts un pašvaldību pakalpojumu sniegšana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lānošanas reģionu ekonomiskā profila izstrāde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otenciālo īpaši atbalstāmo teritoriju noteikšanas metodika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Latvijas ilgtspējīgas attīstības stratēģijas projekts un tā turpmākā virzība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Reģionālās attīstības trīspusējās sadarbības apakšpadome (RATSA) – 4 sēdes</a:t>
            </a:r>
            <a:br>
              <a:rPr sz="2200"/>
            </a:br>
            <a:r>
              <a:rPr b="1" lang="lv-LV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 txBox="1"/>
          <p:nvPr/>
        </p:nvSpPr>
        <p:spPr>
          <a:xfrm>
            <a:off x="1476000" y="1484280"/>
            <a:ext cx="7343640" cy="43243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95000"/>
          </a:bodyPr>
          <a:p>
            <a:pPr marL="577440" indent="-577440">
              <a:spcBef>
                <a:spcPts val="49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Eiropas Savienības klimata - enerģētikas likumdošanas paketes pamatprinci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spcBef>
                <a:spcPts val="49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Grozījumi Ministru kabineta 2002.gada 9.jūlija noteikumos Nr.294 „Kārtība, kādā piesakāmas A, B un C kategorijas piesārņojošas darbības un izsniedzamas atļaujas A un B kategorijas piesārņojošu darbību veikšanai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Atjaunojamo energoresursu izmantošanas veicināšanas tiesiskais regulēju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Informācija par iespējamiem risinājumiem ekonomikas atveseļošanas un enerģētikas neatkarības sakar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Vides ministrijas un padotībā esošo iestāžu reorganizācijas rezultā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Klimata pārmaiņu finanšu instrumenta finansēto projektu iesniegumu atlases izsludināšanas plānu 2009./2010. gad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720800" y="27432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Vides aizsardzības lietu trīspusējās sadarbības apakšpadome (VALTSA) – 4 sēdes</a:t>
            </a:r>
            <a:br>
              <a:rPr sz="2200"/>
            </a:br>
            <a:r>
              <a:rPr b="1" lang="lv-LV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gadā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Profesionālās izglītības un nodarbinātības trīspusējās sadarbības apakšpadome (PINTSA) – 10 sēdes Galvenie jautājumi 2009. gadā</a:t>
            </a:r>
            <a:r>
              <a:rPr b="0" lang="lv-LV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Rectangle 4"/>
          <p:cNvSpPr/>
          <p:nvPr/>
        </p:nvSpPr>
        <p:spPr>
          <a:xfrm>
            <a:off x="1476360" y="1557360"/>
            <a:ext cx="748836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rofesionālās izglītības iestāžu tīkla optimizācijas programmas projek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Ekonomiskās krīzes un ekonomikas stabilizācijas plāna ietekme uz nodarbinātību un MVU un inovācijas loma ekonomikas atveseļošanā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Atbalstāmo profesionālās izglītības iestāžu un tajās modernizējamo izglītības programmu saraksta apstiprināšan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Augstākās izglītības finansēšanas problēm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Strukturālās reformas profesionālajā izglītībā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rofesionālās izglītības attīstība un audzēkņu uzņemšanas plāns 2009.gadam profesionālās izglītības iestādē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Ekonomikas ministrijas līdzekļu izlietojums nodarbināto apmācībai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 txBox="1"/>
          <p:nvPr/>
        </p:nvSpPr>
        <p:spPr>
          <a:xfrm>
            <a:off x="1476000" y="1483920"/>
            <a:ext cx="7410600" cy="438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Darba lietu trīspusējā sadarbības apakšpadome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(DLTSA) – 4 sēdes </a:t>
            </a:r>
            <a:br>
              <a:rPr sz="2200"/>
            </a:br>
            <a:r>
              <a:rPr b="1" lang="lv-LV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Rectangle 1028"/>
          <p:cNvSpPr/>
          <p:nvPr/>
        </p:nvSpPr>
        <p:spPr>
          <a:xfrm>
            <a:off x="1476360" y="1484280"/>
            <a:ext cx="741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grozījumiem Darba likuma 96.pant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Darba aizsardzības jomas attīstības programmas 2008. – 2010.gadam izpildi 2008.gad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Valsts darba inspekcijas 2008.gada darbības rezultātiem un plānotiem darbi 2009.gad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Minimālā dienas/nedēļas darbalaika noteikšana darba līgum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likuma atlaišanas pabalstu valsts un pašvaldību institūciju amatpersonām un darbinieki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ienākumu no sezonas darbiem uzskaitīšanas atvieglojumi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Vidējās izpeļņas aprēķināšana gadījumā, kad pēdējo sešu mēnešu laikā darbinieks ir slimojis un strādājis tikai pāris mēneš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Atlīdzības (gadījumos, kad darbinieks neveic darbu attaisnojošu iemeslu dēļ) aprēķināšanas problē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iespējamām krāpnieciskām darbībām saistībā ar kompensāciju izmaksu pēc darba tiesisko attiecību izbeigšanās par neizmantoto ikgadējo apmaksāto atvaļināju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"/>
          <p:cNvSpPr txBox="1"/>
          <p:nvPr/>
        </p:nvSpPr>
        <p:spPr>
          <a:xfrm>
            <a:off x="1692360" y="1268280"/>
            <a:ext cx="696600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720440" y="274680"/>
            <a:ext cx="7172280" cy="12096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Veselības aprūpes nozares apakšpadome</a:t>
            </a: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(VANA) – 4 sēdes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Rectangle 4"/>
          <p:cNvSpPr/>
          <p:nvPr/>
        </p:nvSpPr>
        <p:spPr>
          <a:xfrm>
            <a:off x="1619280" y="1773360"/>
            <a:ext cx="72738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darba samaksu veselības aprūpē strādājošaj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aktualitātēm veselības aprūpes finansēšanā no valsts budž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Cilvēkresursu nodrošinājums Latvijas slimnīcā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Veselības aprūpes pakalpojumu tarifu atbilstība izmaksā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2009. gada valsts budže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Grozījumiem Ministru kabineta 2006. gada 19. decembra noteikumos Nr. 1046 „Veselības aprūpes organizēšanas un finansēšanas kārtīb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59312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Transporta un sakaru nozares trīspusējās sadarbības apakšpadome</a:t>
            </a: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(TSNTSA) – 1 sēde. </a:t>
            </a:r>
            <a:br>
              <a:rPr sz="2200"/>
            </a:br>
            <a:br>
              <a:rPr sz="2200"/>
            </a:b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Galvenie jautājumi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Rectangle 4"/>
          <p:cNvSpPr/>
          <p:nvPr/>
        </p:nvSpPr>
        <p:spPr>
          <a:xfrm>
            <a:off x="1476360" y="2276640"/>
            <a:ext cx="72738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darba grupas izveidi taksometru pakalpojumu sniegšanas izvērtēša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Satiksmes ministrijas budžetu 2010.gadā un paredzēto finansējumu funkciju izpildei (sabiedriskais transports, autoceļi ut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1436400" y="1599840"/>
            <a:ext cx="7250040" cy="39164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Lielākā daļa no NTSP apakšpadomēm vēl nav apstiprinājušas darba plānus 2010.gadam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Šādu informāciju iespējams papildus sagatavot līdz nākamajai NTSP sēdei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Paldies par uzmanību!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/>
          </p:nvPr>
        </p:nvSpPr>
        <p:spPr>
          <a:xfrm>
            <a:off x="1436400" y="1599840"/>
            <a:ext cx="7250040" cy="42051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irms un pēc sēdēm sagatavotas un nosūtītas preses relīz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agatavoti 48 NTSP pieteikumi atzinumu sniegšanai par VSS izsludinātiem tiesību aktu projekti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agatavoti 48 VSS protokolu izraksti un nosūtīti LDDK un LB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niegta informāciju par precizētiem tiesību aktu projektiem un uzaicinājumiem uz starpinstitūciju sanāksmē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NTSP sekretariāts sadarbībā ar sociālajiem partneriem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643040" y="428400"/>
            <a:ext cx="710568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1285560" y="1999800"/>
            <a:ext cx="7605720" cy="2994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28.01.200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 uzņēmējiem nepieciešamajiem finanšu </a:t>
            </a: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strumentiem tautsaimniecības stabilizācija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11.02.200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Sociālo partneru Latvijas Darba devēju konfederācijas (LDDK) un Latvijas Brīvo arodbiedrību savienības (LBAS) un Latvijas Pašvaldību savienības (LPS) prasības krīzes pārvarēšana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1285560" y="1928520"/>
            <a:ext cx="7620120" cy="2994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25.03.200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ārvalstu aizdevuma līdzekļu izlietojuma uzraudzības komisijas izvei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plānotajiem grozījumiem Valsts budžet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Par likumprojektu „Grozījums Darba likumā”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title"/>
          </p:nvPr>
        </p:nvSpPr>
        <p:spPr>
          <a:xfrm>
            <a:off x="1643040" y="428400"/>
            <a:ext cx="710568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643040" y="285480"/>
            <a:ext cx="717696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1218960" y="157140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Tahoma"/>
              </a:rPr>
              <a:t>15.04.2008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likumprojekta “Par vienotu valsts un pašvaldību institūciju amatpersonu (darbinieku) atlīdzības sistēmu” pamatnostādnēm</a:t>
            </a: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aktualitātēm veselības aprūpes finansēšanā no valsts budže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29.04.2008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priekšlikumiem un valdības atbildēm uz LDDK, LBAS un LPS prasībām (krīzes pārvarēšana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571400" y="142560"/>
            <a:ext cx="710388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1285560" y="1714680"/>
            <a:ext cx="7620120" cy="36144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20.05.200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priekšlikumiem likumprojektā „Grozījums Darba likumā” (atlaišanas pabalst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izglītības un zinātnes situāciju Latvijā. Par profesionālo izglītību (arī 1.0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01.07.200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budžeta grozījumiem 2009. gad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valdības priekšlikumiem 2010.gada budžetam un plānotajiem 2010.-2012.gada budžeta ieņēmumiem un izdevumiem</a:t>
            </a:r>
            <a:r>
              <a:rPr b="1" i="1" lang="lv-LV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Reformu vadības grupas izveidi, darbības principi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17840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ubTitle"/>
          </p:nvPr>
        </p:nvSpPr>
        <p:spPr>
          <a:xfrm>
            <a:off x="1213920" y="1928520"/>
            <a:ext cx="7620120" cy="2994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12.08.200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Eiropas Komisijas ierosinājumu atteikties no valsts līdzfinansējuma struktūrfondu apguvē un NTSP Veselības aprūpes nozares apakšpadomes ierosinājumu ieekonomētos līdzekļus novirzīt veselības aprūpei</a:t>
            </a:r>
            <a:r>
              <a:rPr b="1" lang="lv-LV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26.10.2009. (ārkārtas sē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ar likumprojektu "Par valsts budžetu 2010. gadam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likumprojekta “Par vienotu valsts un pašvaldību institūciju amatpersonu (darbinieku) atlīdzības sistēmu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1285560" y="1714680"/>
            <a:ext cx="7620120" cy="29937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marL="608040" indent="-60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25.11.2009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c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valdības un starptautisko aizdevēju sarunām par 2010.gada valsts budžetu un to rezultātu ietekmi uz Latvijas tautsaimniecības attīstību un uzņēmējdarbības vi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c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ES fondu apguvi un finanšu pieejamību uzņēmējdarbības un infrastruktūras atbalst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c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sociālo dialogu iekšlietu sistēm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50040" cy="14702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"/>
          <p:cNvSpPr txBox="1"/>
          <p:nvPr/>
        </p:nvSpPr>
        <p:spPr>
          <a:xfrm>
            <a:off x="1476360" y="1196640"/>
            <a:ext cx="7416720" cy="47530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sociālās apdrošināšanas speciālā budžeta izpildi 2008.gadā un par valsts sociālās apdrošināšanas speciālā budžeta plānu 2009.gad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sociālās apdrošināšanas sistēmas finansēšanas nodrošināšan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fondēto pensiju shēmas darbību 2008.gad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lānotie grozījumiem tiesību aktos sociālās drošības jomā 2009.gada valsts budžeta grozījumu likumprojekta paketē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Valsts sociālās apdrošināšanas obligāto iemaksu parāda piedziņas rezultāt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ANO Konvencijas “Par personu ar invaliditāti tiesībām” sagatavošanas ratifikācijai gait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ES likumdošanas iniciatīvām dzimumu līdztiesības jomā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692360" y="-360"/>
            <a:ext cx="6966000" cy="1353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</a:rPr>
              <a:t>ociālās drošības apakšpadome (SDA) – 7 sēdes. 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1:11:42Z</dcterms:created>
  <dc:creator>Inese Erge</dc:creator>
  <dc:description/>
  <dc:language>en-US</dc:language>
  <cp:lastModifiedBy>Gunta Freimane</cp:lastModifiedBy>
  <dcterms:modified xsi:type="dcterms:W3CDTF">2010-01-06T14:24:52Z</dcterms:modified>
  <cp:revision>40</cp:revision>
  <dc:subject/>
  <dc:title>Nacionāli trīspusējās sadarbības padomes sekretariāts</dc:title>
</cp:coreProperties>
</file>