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</p:sldIdLst>
  <p:sldSz cx="9144000" cy="6858000"/>
  <p:notesSz cx="66643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01340-9698-4D7E-BEE6-AAE191F27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830AF-AEE1-4C3C-A76C-2AF4E7F2B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6D8F3-49F5-4FEC-A62E-0B56B4A1A91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293CC0-CC1F-4D9C-BDF7-483E1599DF2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5E5DA-4550-4014-A8CC-B7F672B2DFE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6AD3D-C9B0-4E27-B6DE-4B27740B5CE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91211-543D-48B3-8C45-504091C5FBD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7F4F2-4201-4D97-A7FE-5E926A51537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0FDD9-08B3-48D5-A8BB-5F041DAB6AA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2E121-C914-41BE-8CD1-FFDC0EA593D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A0717-6A8D-4953-8535-116C5A92503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AC1FC3-253C-4197-89BB-4B80256E9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0AE50-6DBC-4DB9-BE0F-11602C6B4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EB715A-21D3-4F0D-BCA8-D66A062EB3F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6F920F-C8FA-4A4A-BE1D-8CE13A998DF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A4E95B-BC3A-4189-9FBB-0BC245D7AA4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5975CC-AE65-465F-A8D0-46E0F084CEE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DBD59C-6E97-4763-A866-1804A55B07A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857D12-500F-4813-94FD-4000E7F7224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5B4F06-21F0-42BD-917A-DDE1FFF8834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227FE4-56E5-4C7A-8C7E-8951989D8CB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30C9EB-1557-4825-BBCD-59EC230BB2E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CA1923-85F9-4E9C-98DE-969030D30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F8C30-B981-4633-986D-D1833663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6E84CD-F8E9-40D6-9574-27E659036C1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2F64D5-66D5-4408-AEC1-CBD3FF63CF7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BD21E-B1CF-42B6-A383-DE95FA3193D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C21D8-4AD7-4656-AA86-D7E99B98427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10197-98B9-4EDE-8EAE-46DA23D6BF6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8D4BBE-5B59-4620-B355-A7666CC2589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E49771-0EE7-49AA-ABA8-4ECCA71C21D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7A4A2-79E2-4390-B364-88654661A20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66333-6FFE-41FB-B8D1-AD973FCD9A8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434F7-C699-4E5E-8B54-EBADD2053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4BF67-06CB-4DD6-923C-16E3A2BF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A23C1-39B0-442D-A3DF-DE565B61D8F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422F6-B228-4A91-B35C-E1ECE44CBE5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171CB-5817-425D-AE27-968AA92F5EE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AE763C-07B0-4F97-B5CB-3FC2C48B59A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A6DE03-6B0D-49CA-8F4E-3C58CA20D53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C252BB-D552-49DB-A2E2-73B9FC8C7A4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3C8944-5FF0-4E0C-9D88-0C29647234F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D24162-9D38-412E-B16F-681730E22F27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C722B0-CE77-48B6-BDD6-E29044E876B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A3A1C4-3B6C-4986-89B6-0360A2BEF4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58FC3-1D27-40B2-B197-323DD9B8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B633E6-C370-41AF-B642-2E596E5D18D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BB2DAD-A95E-493F-93DE-4D5711631BD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6A2BAB-34ED-4ADF-A375-E82E8803017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668250-CBE6-4CF7-A214-3B0F428A38C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CFFA14-98F9-4349-8A24-5AB3C8EB60C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E1114B-5C66-4F40-9892-F07807847A0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464B8-2EA9-4E0C-8577-E77FB8DA71B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15A324-6F4D-4C65-BEC8-7C3D57C1739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84F597-41DA-4498-8AFA-1E81502AF93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452081-77D6-4E07-BCA6-B3465C50BE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5455E-63AF-4876-9542-DB10F57D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2C22BE-A5C4-4CF0-85F6-9FFE2D47A88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CD226-1AA1-46AA-992E-5954C545B72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295344-EDB3-4F98-B93B-DBA68A6356FC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15AD2C-57C1-4608-86E0-AECD0FAB42F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8771D-9D0C-4856-9FE7-C9420939EE0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D9F380-F167-4FD9-BF5F-2E3CF4A0B45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0905C-2498-4D64-99DC-C5479EB202F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3F8DD-0C48-4467-A74F-88919E38F97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BD6D8-1E91-450A-A6DD-503720FBBF9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9E7BE-7477-4FC5-877F-98CC957703D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2EB6B-552B-4E4E-957B-528B75AD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FBF13-C726-4923-8E34-45198C1CD37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85FA4-B40B-40F9-B0DA-1D9C1A85506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97B2A3-914E-4956-BE5E-1D10DDFBDD5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9D7D0A-BCA5-4DF8-8881-BE5451A90B1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B7B92-8ABB-459F-85D4-AFF7D74F131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04E21-B178-4502-B0DB-F80A733DAEC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5C3D1-9B48-407B-8928-F254055991CF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45F4A-54E4-470A-BBEB-6622A21ECA3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53AF7-6EFB-4853-8DA5-DB5EFA870AFB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B2D44A-FDB7-4F43-BE31-1D56EF9EF1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DD8A7-ECE6-45A5-816D-1AAE5856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DA8B35-EFCC-4A05-945B-169FF848C19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0EEB2E-F644-4AFF-B23B-10D563A2B58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53A50D7-4C9C-42C1-882B-160E4EB6B16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F4C31D-F129-4C5E-BE7E-749D2A7669B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E5108B-9D0F-4F79-ABBE-39F93EC71FA8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72576B4-1A75-4D93-9923-FB4B7EC00C2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FC9741-F6A2-4DD3-B80C-7A1B78045F2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EC7D0B-2BCB-43F8-B861-31C33359777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E0253C4-FD6E-4701-98FD-B493407C01A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752C237-C9C5-40F3-81BE-D1727C9154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95791-61E6-4DDD-ACDC-5C89DF0F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E4B7BD-DB1F-4174-95F4-8490E05BDC20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F12AB8-5FAD-4D2A-86A9-D5C51F140FB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2972EB3-EA2B-43CE-9652-2AFA7D327FE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4033C4-0DAB-4869-A91D-615DFA44837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36AD12-BBE1-4215-AD9B-E00AA0247B4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026716-AC02-47ED-A5BA-C4DA8C13DB5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B8C6E6-2508-4F50-A543-F97380DC0A1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677EBE7-552B-4285-95B8-C344F430743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71634E-DF76-4C45-B021-DD498801827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B1825C-AC01-4B04-A02A-BC51D658A5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D1BB9-F796-4872-B7A0-77FA2C0D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FDED2A7-1940-4F4D-9A8D-0DE34DAF959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0E5D0F-2DDC-4F43-B57F-9BAB2E929DB0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3E2E57-3BC0-4DDE-B663-19540A0DD50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C8ABBB-FBB7-4BB0-A656-4D279914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CC2E48-F8A4-4CBB-BBE2-0738C572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ACE43D-20AD-45F1-8A6B-FB8DB498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C738AA-8203-48E0-86FE-18BCAA4F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8683B6-045A-478A-B333-BCD649DA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636A0B-DBE2-42AA-9AE9-BD9FDB97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384BFC-B704-4282-9263-582E41D5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399F-F4A0-4853-B298-463A3CF4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3C5EF-FB19-4126-B2F8-856D528D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493373-89B5-43B7-AE9C-76D60287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6869C75-F940-46A2-838F-0D4C5F5D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E664D4-1EB9-4F61-9A6D-267EC81B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04B8C3-8AA4-4E69-BFFC-E47EE0DD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53F4F7-2434-487D-A358-DD1BF62FC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7A1AC1-36ED-4344-A002-D22E07AF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A1AFDC-A48C-4D20-A64A-3F40C228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7C8CA3-5761-46D8-B791-52AD9EB55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6170F3-F2F1-4BB8-8580-F816EAF6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43D4FD-4661-400B-BED5-71CF74F2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F6F64-7558-4DEA-BAA0-09F9F3B0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F5050B-F3DB-4325-B28C-CC21CEE5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6B5906-A15D-468D-A69A-4E78E7F2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9134AAE-9E64-4D3E-BB10-9AE71242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BC79E1-F3CD-4E71-9FA9-B861E4A8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4B6C4A-9AE8-4F7A-8E63-39461066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7FFB624-A3A2-42FD-9492-BC2E4BBA3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420AFAA-7ED5-4E41-A4A8-3B892FE14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89DF4F3-4245-43D6-A4A2-BA041898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01F523E-DCD1-4ADF-A97D-3458B1EF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733E533-CB23-43A5-9E73-C8EBCD5B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57345-8D9D-46EB-96CA-2B8E2DC2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6CC2E0-DF79-427F-8D48-F048BA3D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4E01B46-77FA-4290-8B48-747B694A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3EBE8CD-A9C2-4140-8B94-A473340E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248391A-545E-402C-9E5E-A6E7595D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ECFB6AE-C02E-474A-8E32-DC1B3D23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E22966-2685-466D-BC35-BCA80DFE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2ABB9C0-E6A4-40BA-B1AD-8D5BE2D2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CD8C7C-4A89-4645-A9BC-DDC7B781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2E61C63-9E50-44B7-B8FD-17D9DA5F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BCB8250-4075-4D69-AD3E-80BEAB09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19B66-EE2C-478F-BA9D-D772ED0C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8441BFE-A5D5-46BB-BA0E-401D086E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41A0DD4-7595-40A9-8EC2-B3FEE316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154D5C-3D14-43C5-9DDE-D4B97E89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9934986-91A8-4BB8-B789-2C21BEE0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FC3A1BF-2DC0-432C-8AE9-4F2ACCB5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F814252-A748-4B8B-90FB-CBF60DE3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25F6280-2168-4392-B9CE-BD38C837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292AB5B-86FE-4CCA-90A1-6779EC54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337356B-2012-4ED8-B5D1-9A3DFA404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8289642-80FD-4DEF-BE5F-4E17868D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A1611-F3E6-4FFC-AD81-CC2337E06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CD3C3A8-D822-493A-A45A-A34209497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54D529-F893-4BCC-B677-6B9D4417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BC635E-1B88-4616-9369-AD86E5F5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E9B101-93CD-49F1-B4EB-0FA169AA4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25B442-393A-4DFF-96C5-DE856D0A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799B6A-516F-4BA5-AD8E-6B22E0CE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D125FD-D1A9-4EB5-BD31-4CD5E477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1331BC-8A4B-47D1-87C5-EFC3DCF4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D719C9-DB1A-4C70-963C-5C3F793F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4A8A33-FD98-416D-B03F-E463A6FB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295517-BE53-4301-A26A-FC2D11C2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24E04E-5270-4F3B-B084-FEA9261A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BEC20C-8E97-4337-9D31-CAE3A293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6E83438-4007-4EC4-841A-715FF00135F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FFD325A-0A00-455C-ADF0-16A821FD19E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69D9802-F6A7-4183-9B3A-CC91A19FA96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C31F7E8-2E5E-40EE-88C0-13FC358F7FB8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B6B790D-5356-4FD4-8A7A-E327C635053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82E5CD0-3285-4B9A-936E-8B6D14844D73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40E34D6-4045-4C81-A11A-0DEE292C5B2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44251D8-41A3-436E-8460-CC4913D5723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24C1C07-53E0-4772-9C67-4ADF0F1FC22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132E3AB-1D8B-41CE-8142-4B6690388C9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E36E636-ECA1-4B3C-81A9-86A043C0A53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7F8112D-EA5C-4396-8AF0-FE20CB12DAF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9EDF76-F0C4-406B-BE02-6E2BA90F3261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9C4D89-8007-46A0-B11F-6857A5D6DBB8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153F6C-8347-4621-9CAD-1C3FBB77A11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6BA704-C06D-4175-A3F6-39490F365FFB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6FF5FE-393B-41ED-AA08-13E1EFEE5A62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43DB9C-720E-4BC6-B8D9-F17049B4F39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1CB4A0-4A7D-4715-89BF-45C7FE130E37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B47B06-4298-4C16-9F98-B57912B9A87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72169B-9381-4435-AC65-D4D5A9BFAC9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E4A4B2-AAD9-4785-A03B-800B4F66B2A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996577-C0EA-443B-A9E4-6587DF921D81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735633-D68D-48CB-A376-607FFA367017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DE8F6A8-5D46-4254-9C30-1FE1A39937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13D90EE-5C55-4AB9-B4BC-58CF91F4E421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B44549E-522C-4C64-94E0-98FFF2074D7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B0239DC-EDE0-4681-BBA0-A6DD8F968C6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1DB6728-F6C7-463D-9E4B-21FC3674B282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C319354-178A-4F67-943D-1FB090CC0489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35C5F6C-6F2A-47E3-8513-023AAE90EC5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A17ADE5-89A7-4B68-AA27-1C177EF833C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AB5DC65-8DC1-42EF-B944-FB604684D2B1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09B56A9-1850-4BCB-8182-8C17FEFCEF68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0685A1B-9D85-43C2-A9DC-6F1295F183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13308-B21E-4090-9E2F-916F431F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E13B0B9-DF23-46D3-99DA-DCCBC7E6A7D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66410FC-13E7-4305-BCA2-3B6C0A04AEF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91784E2-9BAF-4B35-9106-4BF02D8B195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8007768-29F3-4317-B5EA-C62598E38732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396AC0A-EBEB-4A17-889D-8D4BD376C4B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1106BA8-6DB1-4E87-94EF-115D1C77230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E4669EE-1E16-4895-9F3D-9F962C212A5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86FDC98-28A1-4A09-8B99-A61DE50A6906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6E15986E-AAD6-45CB-B720-8359CCE2D49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256B686-B814-45C5-9BB5-F8CE9C0621A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DBD9F6F-3A9F-484C-B549-81E649A5960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82C141D-4775-4425-8399-EF13609C866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5E3E4DD-F229-456B-86E8-02368B0D2625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91307D-F9CA-484E-941E-92A45FA26454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17AD77-9EB4-49D4-B2AF-5C2F24758AD8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C8434D-3281-4D0A-9F5E-C5CE419EFF6D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54FB79-FB59-488D-AC05-BF7BA1D22CEB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8E8343-CDF0-4736-9FE3-A1837993A5D0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88847A-4C2D-4EE3-A2BA-B11C739FD76B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464C91-DD92-4648-ACB2-E5BC048DE1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8C3059-DE21-4EEA-A129-8048712915BF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B9C529-BEFB-46A1-B468-B63DF7D1EABB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889581-A41E-4848-948C-6AF19D978D16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3F9733-3E69-4F96-B4EC-A8AD8F63FB20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B7CB23-3A44-4764-9A38-72BC6DF4C7B2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1F52931E-97FE-47A1-8BE3-4A2EC50F3A6F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7E1D5517-CEF3-43CA-8579-FD864DB4115F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922BBD5-B490-4176-9824-520489A901BE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E9E4328C-B1F5-4696-A053-54B4C9B2D3A4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234C645E-33E6-4E69-A752-A3AB9FCA68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526566EC-3C68-4192-AA05-B53A9C96D75E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D5491226-4A70-4C62-BF50-34A2ADC95CAB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46546B17-9906-4EE1-88D1-31FD385910AC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1B544A4-2459-4321-9112-717DE85D1580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AC3BD3E1-3F69-4C12-A74C-4D4655CD928D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68DF03CD-D64F-40E9-B776-A56BE6784A9D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9"/>
          </p:nvPr>
        </p:nvSpPr>
        <p:spPr/>
        <p:txBody>
          <a:bodyPr/>
          <a:p>
            <a:fld id="{FC97AE63-2A31-4A16-8D41-A13072C19EC5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1A05223-21AD-4DB9-9C49-9755A7EF765B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B3DBD98-3156-4186-A399-AB7BEDB5CB77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9DAB58F-4C58-4911-ABDF-D8653DC831D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5839442-096D-4009-B80E-0BFD14038A31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6AE14C13-683B-4274-B111-31C26E6884E1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4AF6917-3211-4F7E-8F42-2326AB0CA325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D2BCDD9-1A4C-439F-A3BC-F2339A033A64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26E2D51-10AB-4374-BA4E-A2C6C0E8B64C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B5EBDDC-57BF-4F1F-AF00-DD95A5DDB0F9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2FFD4D3-CE1B-4C17-A6B2-EA8BF85B82FF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7C3CD21-9D8D-4D6C-A36B-A38DD3A2B6B7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FDFBDDC-65AB-4444-AA4C-325907F7A2BF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C3C664-15F8-49DC-8E50-86299DFA39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CC66E7-8FDF-4762-8A8D-6724ACBBE84C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C7B75B-507D-4C30-8BFB-B1B700FB426C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4A9957-F910-4F97-97AB-B2E7DB181B17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529B42-744D-4AF3-9499-C2C7EE95B6B7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A78D58-3875-4296-92CF-6CAE9599B574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1D25A06-9368-48E3-9771-EAE389B20314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F7B11E-2EDF-4B0C-8FFD-BA25787678B8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87392C-8AE9-428E-AA80-10CBDBDEB63E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E2EFB8-9C0D-4961-B7AB-0FF2C2D35917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51CA11-0AA3-4B55-B05B-1CC9DAB1F6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FF8522-3AD4-44AA-AB4F-1CA3CF68FB0D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5CCE27E-86D2-4A7D-8845-6F8721F3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A3C044B-05FA-47E4-9A49-29FD9100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9704223-076C-4539-9BDF-3CC18198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8E488F0-AD37-44D0-9B7C-8C88744E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15EAAAF-29F9-495D-B808-5127B777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4E7BC84-7D4D-458D-84A3-8ABF1FBC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F4A81F8-7D97-46B7-A3A7-D3739152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BF53E14-144D-480B-80A5-7526F620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83CB50C-6DA7-47EE-85A0-4E09A5D8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EA6145-32A8-47BA-B5CA-A764D114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1605F9B-3BCC-4A6E-94A0-20A0359C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8F13961-B83B-43A3-826D-9E93F0E5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C4DE359-B9BD-4A61-8BB4-148582C6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32C6540-39F2-4986-8783-8B80C188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FF61ECA-E3CC-4B59-80B7-55C9629A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37231A6-A5E2-40E1-B125-72FDCF00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62AAA73-D02D-41E0-A40F-E91ADBC0B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A496320-E6E1-42D1-A5C0-C453A7CB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7D766ED-2BA3-44D7-B7C4-6C0C7707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618C40D-C588-403D-8253-97D6F56B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D49A9B-5D0F-4D27-8C6B-EDF9D233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9E93CAA-0FF0-4C2F-A8F4-28393B85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425BCB0-8DF2-4142-A2A4-DC67417A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3515917-110D-4558-A1C5-332ED2B0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DBE9BA7-FB8B-4953-8364-DE55A5E77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DA4143F-D9C8-4B88-A1EB-13D1E87C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6477C03-9CD6-45B4-BE1F-39D91A83A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F149E98-66E3-4C69-9AD8-D89BC4CF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824F5FF-AFFE-4FD4-BC2F-5ACCC36A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533EFB6-89A6-4BF7-88DF-8D88EECD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2DE0553-904E-4E93-9261-C1452269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A69448-F2CC-46AF-AD4E-B1B032F9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8C41879-78C9-4346-BB9D-0190D731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6B3B44F-BEDE-4D7E-B751-11565CDD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A948DB7-75C3-4133-9045-8DD7FCBD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72246B2-3E55-461A-BF91-315290AD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F4BE73B-4873-47EA-9B14-1E85820F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B51A46B-85B2-4891-989D-CA516851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166D055-6438-43DF-A89D-8B78959E4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E480DC7-3B23-4C0F-8347-DDE6271F0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011B59C-2493-410A-800A-580AF7F4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E3A1BF9-598D-45CA-946E-82026F154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081B5-7786-4510-BE91-15FDFA89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F8E3E9-A619-46DC-BA91-5FA6D6BFB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FA12159-C348-4602-9291-89CCC4E0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50E40270-20A8-43B7-A0BD-94451BBF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837C779-B1F8-40AF-9064-74AA6DCC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AB93CCC-2227-4BEC-BC7F-6B3790C5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E4C8404-A87C-43B6-885D-8BAF068F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97038B6-A5B1-46D5-8657-A642EDF6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06E6A41-FD39-454C-895B-C82A6927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9588E91-3148-4733-94C5-28654AC6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E88978A-CE7F-463D-8C6D-362DCAD8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8094B-86E2-4CC1-B09B-17C1570D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5B58D-A5A6-4BF3-B45C-139726DA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0FD87-7187-4505-9E8A-FFC301DC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221D5-7587-4110-91D8-9003C828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DCF68F-831B-4856-96C5-D6A9663A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98D77F-6DEB-4D51-9DAE-5644527D9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1BD15-90A6-4253-997F-09E9F3C2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2ECFA8-D4EF-48A7-81E2-685BF7D6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875499-41A9-42E9-AD46-815D33D6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05FB9-9E6E-4E69-9F48-FB7E3794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899810-10F6-401D-9755-24D4C790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CC702D-A5AA-4D6B-80E1-7B81677E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43D7C4-CE5B-4B38-BF07-FDB3B3406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C05AC4-06F4-4547-B90E-A2B382A9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4FAB4E-D27C-4F60-996C-3B36CF99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26EDE7-4C4A-4929-BC4A-6A0B0EEE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E0C3F4-8FAB-434E-9A8F-8C9E8325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58287B-9AC3-4F7B-BBC6-15208448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35DD09-F563-47D0-A0AB-4429D7E2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F8D60C-028C-4EC8-988B-164D82CC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005EB-6823-4AD6-9F07-125CE77B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2FE4D9-3D7D-4A68-9084-8BCA1DDE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95CC4-E60B-44A0-81CE-85A0CCE3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E86AC-4956-4B3D-834D-85C3AE13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52B22D-BC61-4F2F-9AC5-D041BC6C9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04202A-459E-4DBB-B1C1-D979BC91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E9BB9C-690B-4BFD-BFAE-7E203D3E0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76C924-F48B-49FC-B0BE-E9FEB801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0E9B31-51BE-424B-B2FF-F8C385A2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084D5-EF45-4E71-9EDA-6FABDF99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436400" y="274320"/>
            <a:ext cx="725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0642EC6-8D2A-4138-8DBA-49B4405A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AC7CB0-84A7-48DF-8AD8-1096B08E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7596F0-0EDF-4448-AF38-1A9D99A8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EB33C2-5109-47EA-A788-E6045AB2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436400" y="3964320"/>
            <a:ext cx="72500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ED7428-E6B2-4BF2-A864-7475BA43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151240" y="160020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43640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151240" y="3964320"/>
            <a:ext cx="353772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E680A4-05CD-4831-B786-35214E73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8876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339240" y="160020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43640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8876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339240" y="3964320"/>
            <a:ext cx="2334240" cy="21585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DC5B3E-FB8B-44AA-B7F0-A5B28AC3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FD786-FF82-4D78-8155-11559E711B47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0C198-F059-4C77-8D30-3E687520A27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C5EDDE-6C86-42D7-94A8-55A971A092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61C2-E7BA-48EC-AD8D-6A0E70072ED0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Num" idx="19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FF8C-9C57-40B5-A178-C6D93820E2FD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6EA3-D30E-4924-A88D-76F5431220EE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1508-746A-46A2-A79F-F01C820C519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4067-CC54-4E73-94FA-DB1BACCDED5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2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91A4C-28D4-4F80-8A84-CA16E402016E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28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406DB-CFD4-4965-8E5D-EC3ABAEECA5F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7075-1980-42B5-AD8D-F2577131350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3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686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3184-F848-4A79-AE96-5B4DE448C5A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730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32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9A6F-6CB8-427F-AB72-D7049DFD393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776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9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 type="ftr" idx="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6B5B-3E41-497D-8514-36F291B55CA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6E81-7839-43A9-8406-2570D94F1F0E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822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824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5" name="Picture 7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CF6C-1883-4359-877D-51DC0071728E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7"/>
          <p:cNvSpPr/>
          <p:nvPr/>
        </p:nvSpPr>
        <p:spPr>
          <a:xfrm>
            <a:off x="6775560" y="2455920"/>
            <a:ext cx="18144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Picture 7" descr="tmpl_lat_bruns.png"/>
          <p:cNvPicPr/>
          <p:nvPr/>
        </p:nvPicPr>
        <p:blipFill>
          <a:blip r:embed="rId2"/>
          <a:stretch/>
        </p:blipFill>
        <p:spPr>
          <a:xfrm>
            <a:off x="0" y="1353960"/>
            <a:ext cx="8629560" cy="2419560"/>
          </a:xfrm>
          <a:prstGeom prst="rect">
            <a:avLst/>
          </a:prstGeom>
          <a:ln w="0">
            <a:noFill/>
          </a:ln>
        </p:spPr>
      </p:pic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ftr" idx="45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ftr" idx="47"/>
          </p:nvPr>
        </p:nvSpPr>
        <p:spPr>
          <a:xfrm>
            <a:off x="3722760" y="6475320"/>
            <a:ext cx="227160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 type="sldNum" idx="48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379A-C972-4F0B-942F-0336E7444C24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9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4" name="Picture 5" descr="logo2.emf"/>
          <p:cNvPicPr/>
          <p:nvPr/>
        </p:nvPicPr>
        <p:blipFill>
          <a:blip r:embed="rId4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ftr" idx="49"/>
          </p:nvPr>
        </p:nvSpPr>
        <p:spPr>
          <a:xfrm>
            <a:off x="1720800" y="6410160"/>
            <a:ext cx="550872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sldNum" idx="50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60DA-4639-4390-89B0-B801469122B4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6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sldNum" idx="51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8C75-7C4C-4A87-B702-49C55CEDF8B3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5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9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sldNum" idx="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0037-0B4A-44AD-B555-87708A22DA7F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5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2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 type="sldNum" idx="5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1E10-CB3F-42D5-968E-BC6920C9F3FD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 type="ftr" idx="56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65BC-D956-4F59-AE0E-158BD5FD0632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 type="ftr" idx="58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 type="sldNum" idx="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864ED-568B-4DF3-AF3F-65F6F52FAED6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 type="ftr" idx="60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1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sldNum" idx="6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79B6-5A0B-440A-888B-E65EB2C98E76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ftr" idx="6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092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4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255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63DE-61D5-476D-9D86-AA5EDBBCDE90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 type="ftr" idx="64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297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8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299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 type="ftr" idx="6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 type="sldNum" idx="6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CC92-37F3-4134-92A0-607E9C8A89FF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343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4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45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6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 type="ftr" idx="6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 type="sldNum" idx="7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1F9E-15F5-427E-A3FA-21B6B61C7D11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8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389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0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91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2" name="Picture 5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 type="ftr" idx="7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5"/>
          <p:cNvSpPr>
            <a:spLocks noGrp="1"/>
          </p:cNvSpPr>
          <p:nvPr>
            <p:ph type="sldNum" idx="7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2CC10-9CD4-4379-8DD4-33CD6971B4C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1435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6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437" name="Rectangle 6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8" name="Picture 7" descr="logo2.emf"/>
          <p:cNvPicPr/>
          <p:nvPr/>
        </p:nvPicPr>
        <p:blipFill>
          <a:blip r:embed="rId4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7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7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7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2E7D-AF53-42EF-9CD5-2E84303D3537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8"/>
          </p:nvPr>
        </p:nvSpPr>
        <p:spPr>
          <a:xfrm>
            <a:off x="731520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0F7B-3AA9-4878-AE30-86D250988844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9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344E-083C-4583-A2D6-227067A13E2C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2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fintempl_pakal_bruns.png"/>
          <p:cNvPicPr/>
          <p:nvPr/>
        </p:nvPicPr>
        <p:blipFill>
          <a:blip r:embed="rId2"/>
          <a:stretch/>
        </p:blipFill>
        <p:spPr>
          <a:xfrm>
            <a:off x="690480" y="4249800"/>
            <a:ext cx="8453520" cy="1458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627280" y="4206960"/>
            <a:ext cx="6221520" cy="519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355680" y="5681520"/>
            <a:ext cx="2077920" cy="858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67000"/>
          </a:bodyPr>
          <a:p>
            <a:pPr marL="207360" indent="-20736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7316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2" marL="6933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3" marL="97200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4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5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lvl="6" marL="1249560" indent="-137880" algn="ctr">
              <a:spcBef>
                <a:spcPts val="201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88880" y="4726080"/>
            <a:ext cx="1879560" cy="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5" descr="logo2.emf"/>
          <p:cNvPicPr/>
          <p:nvPr/>
        </p:nvPicPr>
        <p:blipFill>
          <a:blip r:embed="rId3"/>
          <a:stretch/>
        </p:blipFill>
        <p:spPr>
          <a:xfrm>
            <a:off x="684360" y="4854600"/>
            <a:ext cx="1590480" cy="50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14"/>
          <p:cNvSpPr/>
          <p:nvPr/>
        </p:nvSpPr>
        <p:spPr>
          <a:xfrm rot="16147800">
            <a:off x="-934200" y="4590000"/>
            <a:ext cx="27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imes New Roman"/>
              </a:rPr>
              <a:t>NTSP apakšpad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775560" y="2455920"/>
            <a:ext cx="18144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7" descr="tmpl_lat_bruns.png"/>
          <p:cNvPicPr/>
          <p:nvPr/>
        </p:nvPicPr>
        <p:blipFill>
          <a:blip r:embed="rId2"/>
          <a:stretch/>
        </p:blipFill>
        <p:spPr>
          <a:xfrm>
            <a:off x="0" y="1353960"/>
            <a:ext cx="8629560" cy="24195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13"/>
          </p:nvPr>
        </p:nvSpPr>
        <p:spPr>
          <a:xfrm>
            <a:off x="1720800" y="6410160"/>
            <a:ext cx="5508720" cy="223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1240" indent="-2840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141560" indent="-22716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598760" indent="-22716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2055960" indent="-22716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5"/>
          </p:nvPr>
        </p:nvSpPr>
        <p:spPr>
          <a:xfrm>
            <a:off x="3722760" y="6475320"/>
            <a:ext cx="227160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7ABA-9608-470F-BBCB-E7AC7C07D0F1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Picture 5" descr="logo2.emf"/>
          <p:cNvPicPr/>
          <p:nvPr/>
        </p:nvPicPr>
        <p:blipFill>
          <a:blip r:embed="rId2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1" descr="fintempl_ieks_bruns_lv.png"/>
          <p:cNvPicPr/>
          <p:nvPr/>
        </p:nvPicPr>
        <p:blipFill>
          <a:blip r:embed="rId3"/>
          <a:stretch/>
        </p:blipFill>
        <p:spPr>
          <a:xfrm>
            <a:off x="-819000" y="-235080"/>
            <a:ext cx="9862920" cy="691200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9"/>
          <p:cNvSpPr/>
          <p:nvPr/>
        </p:nvSpPr>
        <p:spPr>
          <a:xfrm>
            <a:off x="0" y="6280200"/>
            <a:ext cx="1319040" cy="40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726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icture 5" descr="logo2.emf"/>
          <p:cNvPicPr/>
          <p:nvPr/>
        </p:nvPicPr>
        <p:blipFill>
          <a:blip r:embed="rId4"/>
          <a:stretch/>
        </p:blipFill>
        <p:spPr>
          <a:xfrm>
            <a:off x="85680" y="6345360"/>
            <a:ext cx="1117800" cy="3506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673200" indent="-258840">
              <a:spcBef>
                <a:spcPts val="624"/>
              </a:spcBef>
              <a:buClr>
                <a:srgbClr val="b2b2b2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2" marL="1035000" indent="-206280">
              <a:spcBef>
                <a:spcPts val="624"/>
              </a:spcBef>
              <a:buClr>
                <a:srgbClr val="b2b2b2"/>
              </a:buClr>
              <a:buFont typeface="Garamond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3" marL="1450800" indent="-206280">
              <a:spcBef>
                <a:spcPts val="624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4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5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6" marL="1865160" indent="-206280">
              <a:spcBef>
                <a:spcPts val="624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ftr" idx="17"/>
          </p:nvPr>
        </p:nvSpPr>
        <p:spPr>
          <a:xfrm>
            <a:off x="1720800" y="6410160"/>
            <a:ext cx="5508720" cy="22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sldNum" idx="18"/>
          </p:nvPr>
        </p:nvSpPr>
        <p:spPr>
          <a:xfrm>
            <a:off x="7380000" y="6356520"/>
            <a:ext cx="1306440" cy="3650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063B-4B98-476A-BC58-838FB156FD49}" type="slidenum">
              <a:rPr b="0" lang="en-US" sz="24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900000" y="1045800"/>
            <a:ext cx="7920000" cy="10126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Nacionālās Trīspusējās </a:t>
            </a:r>
            <a:br>
              <a:rPr sz="3600"/>
            </a:b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sadarbības padomes </a:t>
            </a:r>
            <a:br>
              <a:rPr sz="3600"/>
            </a:b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2009.gada darbības pārska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ubTitle"/>
          </p:nvPr>
        </p:nvSpPr>
        <p:spPr>
          <a:xfrm>
            <a:off x="1835280" y="256536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Sēdes – 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 (1 ārkārta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gatavoti 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84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tzinumi par ministriju iesniegtajiem tiesību aktu projektiem</a:t>
            </a:r>
            <a:r>
              <a:rPr b="0" lang="lv-LV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ociālās drošības apakšpadome. </a:t>
            </a:r>
            <a:br>
              <a:rPr sz="2600"/>
            </a:b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Galv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enie jautājumi 2009. gadā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436400" y="1600200"/>
            <a:ext cx="725004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peciālā budžeta ieņēmumu un izdevumu  izpildes gaitu 2009.gada 1.pusgadā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bezalgas atvaļinājumu dienu piemērošanai sociālās apdrošināšanas pakalpojumu aprēķināšan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 plānoto valsts pensiju reform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plānotajām izmaiņām valsts sociālās apdrošināšanas jomā. Par sociālās drošības tīkla stratēģij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Koncepciju par mikrouzņēmumu atbalsta pasākumi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risinājumiem situācijās, kad uzņēmumam maksātnespējas gadījumā ir parāds pret privāto pensiju fondu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"/>
          <p:cNvSpPr txBox="1"/>
          <p:nvPr/>
        </p:nvSpPr>
        <p:spPr>
          <a:xfrm>
            <a:off x="1332000" y="1989000"/>
            <a:ext cx="7424640" cy="3881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93000"/>
          </a:bodyPr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Teritorijas plānošanas sistēma tuvākajā piecgadē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Reģionālās attīstības likuma grozījum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Latvijas ilgtspējīgas attīstības stratēģijas projekts (LIAS)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Rajona pašvaldību reorganizācijas gait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riekšlikumi valsts funkciju decentralizācijai</a:t>
            </a: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Vienas pieturas aģentūras principa ieviešana valsts un pašvaldību pakalpojumu sniegšana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lānošanas reģionu ekonomiskā profila izstrāde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otenciālo īpaši atbalstāmo teritoriju noteikšanas metodika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spcBef>
                <a:spcPts val="5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Latvijas ilgtspējīgas attīstības stratēģijas projekts un tā turpmākā virzība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1692360" y="47592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Reģionālās attīstības trīspusējās sadarbības apakšpadome (RATSA) – 4 sēdes</a:t>
            </a:r>
            <a:br>
              <a:rPr sz="2200"/>
            </a:br>
            <a:r>
              <a:rPr b="1" lang="lv-LV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"/>
          <p:cNvSpPr txBox="1"/>
          <p:nvPr/>
        </p:nvSpPr>
        <p:spPr>
          <a:xfrm>
            <a:off x="1476000" y="1484280"/>
            <a:ext cx="7343640" cy="43243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 fontScale="95000"/>
          </a:bodyPr>
          <a:p>
            <a:pPr marL="577440" indent="-577440">
              <a:spcBef>
                <a:spcPts val="49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Eiropas Savienības klimata - enerģētikas likumdošanas paketes pamatprincip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spcBef>
                <a:spcPts val="49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Grozījumi Ministru kabineta 2002.gada 9.jūlija noteikumos Nr.294 „Kārtība, kādā piesakāmas A, B un C kategorijas piesārņojošas darbības un izsniedzamas atļaujas A un B kategorijas piesārņojošu darbību veikšanai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Atjaunojamo energoresursu izmantošanas veicināšanas tiesiskais regulēju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Informācija par iespējamiem risinājumiem ekonomikas atveseļošanas un enerģētikas neatkarības sakar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Vides ministrijas un padotībā esošo iestāžu reorganizācijas rezultā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Klimata pārmaiņu finanšu instrumenta finansēto projektu iesniegumu atlases izsludināšanas plānu 2009./2010. gad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249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7440" indent="-577440">
              <a:lnSpc>
                <a:spcPct val="75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1720800" y="27432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Vides aizsardzības lietu trīspusējās sadarbības apakšpadome (VALTSA) – 4 sēdes</a:t>
            </a: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gadā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Profesionālās izglītības un nodarbinātības trīspusējās sadarbības apakšpadome (PINTSA) – 10 sēdes Galvenie jautājumi 2009. gadā</a:t>
            </a:r>
            <a:r>
              <a:rPr b="0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Rectangle 4"/>
          <p:cNvSpPr/>
          <p:nvPr/>
        </p:nvSpPr>
        <p:spPr>
          <a:xfrm>
            <a:off x="1476360" y="1557360"/>
            <a:ext cx="748836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rofesionālās izglītības iestāžu tīkla optimizācijas programmas projekt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Ekonomiskās krīzes un ekonomikas stabilizācijas plāna ietekme uz nodarbinātību un MVU un inovācijas loma ekonomikas atveseļošanā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tbalstāmo profesionālās izglītības iestāžu un tajās modernizējamo izglītības programmu saraksta apstiprināšan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Augstākās izglītības finansēšanas problēm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Strukturālās reformas profesionālajā izglītībā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Profesionālās izglītības attīstība un audzēkņu uzņemšanas plāns 2009.gadam profesionālās izglītības iestādē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Tahoma"/>
              </a:rPr>
              <a:t>Ekonomikas ministrijas līdzekļu izlietojums nodarbināto apmācībai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"/>
          <p:cNvSpPr txBox="1"/>
          <p:nvPr/>
        </p:nvSpPr>
        <p:spPr>
          <a:xfrm>
            <a:off x="1476000" y="1483920"/>
            <a:ext cx="7410600" cy="438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1692360" y="404280"/>
            <a:ext cx="696600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Darba lietu trīspusējā sadarbības apakšpadome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(DLTSA) – 4 sēdes </a:t>
            </a: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Rectangle 1028"/>
          <p:cNvSpPr/>
          <p:nvPr/>
        </p:nvSpPr>
        <p:spPr>
          <a:xfrm>
            <a:off x="1476360" y="1484280"/>
            <a:ext cx="7416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grozījumiem Darba likuma 96.pant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Darba aizsardzības jomas attīstības programmas 2008. – 2010.gadam izpildi 2008.gad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Valsts darba inspekcijas 2008.gada darbības rezultātiem un plānotiem darbi 2009.gad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Minimālā dienas/nedēļas darbalaika noteikšana darba līgum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likuma atlaišanas pabalstu valsts un pašvaldību institūciju amatpersonām un darbinieki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ienākumu no sezonas darbiem uzskaitīšanas atvieglojumi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Vidējās izpeļņas aprēķināšana gadījumā, kad pēdējo sešu mēnešu laikā darbinieks ir slimojis un strādājis tikai pāris mēneš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Atlīdzības (gadījumos, kad darbinieks neveic darbu attaisnojošu iemeslu dēļ) aprēķināšanas problē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Tahoma"/>
              </a:rPr>
              <a:t>Par iespējamām krāpnieciskām darbībām saistībā ar kompensāciju izmaksu pēc darba tiesisko attiecību izbeigšanās par neizmantoto ikgadējo apmaksāto atvaļināju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"/>
          <p:cNvSpPr txBox="1"/>
          <p:nvPr/>
        </p:nvSpPr>
        <p:spPr>
          <a:xfrm>
            <a:off x="1692360" y="1268280"/>
            <a:ext cx="6966000" cy="45259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1720440" y="274680"/>
            <a:ext cx="7172280" cy="12096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Veselības aprūpes nozares apakšpadome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(VANA) – 4 sēdes</a:t>
            </a:r>
            <a:br>
              <a:rPr sz="2400"/>
            </a:br>
            <a:r>
              <a:rPr b="1" lang="lv-LV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Rectangle 4"/>
          <p:cNvSpPr/>
          <p:nvPr/>
        </p:nvSpPr>
        <p:spPr>
          <a:xfrm>
            <a:off x="1619280" y="1773360"/>
            <a:ext cx="72738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darba samaksu veselības aprūpē strādājošaji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aktualitātēm veselības aprūpes finansēšanā no valsts budž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Cilvēkresursu nodrošinājums Latvijas slimnīcā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Veselības aprūpes pakalpojumu tarifu atbilstība izmaksā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2009. gada valsts budž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Grozījumiem Ministru kabineta 2006. gada 19. decembra noteikumos Nr. 1046 „Veselības aprūpes organizēšanas un finansēšanas kārtīb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59312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Transporta un sakaru nozares trīspusējās sadarbības apakšpadome</a:t>
            </a: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(TSNTSA) – 1 sēde. </a:t>
            </a:r>
            <a:br>
              <a:rPr sz="2200"/>
            </a:br>
            <a:br>
              <a:rPr sz="2200"/>
            </a:br>
            <a:r>
              <a:rPr b="1" lang="lv-LV" sz="2200" spc="-1" strike="noStrike">
                <a:solidFill>
                  <a:srgbClr val="000000"/>
                </a:solidFill>
                <a:latin typeface="Tahoma"/>
              </a:rPr>
              <a:t>Galvenie jautājumi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Rectangle 4"/>
          <p:cNvSpPr/>
          <p:nvPr/>
        </p:nvSpPr>
        <p:spPr>
          <a:xfrm>
            <a:off x="1476360" y="2276640"/>
            <a:ext cx="72738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darba grupas izveidi taksometru pakalpojumu sniegšanas izvērtēša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buClr>
                <a:srgbClr val="fd44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ar Satiksmes ministrijas budžetu 2010.gadā un paredzēto finansējumu funkciju izpildei (sabiedriskais transports, autoceļi u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1436400" y="1599840"/>
            <a:ext cx="7250040" cy="39164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Lielākā daļa no NTSP apakšpadomēm vēl nav apstiprinājušas darba plānus 2010.gadam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624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Šādu informāciju iespējams papildus sagatavot līdz nākamajai NTSP sēdei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Paldies par uzmanību!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/>
          </p:nvPr>
        </p:nvSpPr>
        <p:spPr>
          <a:xfrm>
            <a:off x="1436400" y="1599840"/>
            <a:ext cx="7250040" cy="42051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Tahoma"/>
              </a:rPr>
              <a:t>Pirms un pēc sēdēm sagatavotas un nosūtītas preses relīz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agatavoti 48 NTSP pieteikumi atzinumu sniegšanai par VSS izsludinātiem tiesību aktu projekti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agatavoti 48 VSS protokolu izraksti un nosūtīti LDDK un LB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lnSpc>
                <a:spcPct val="90000"/>
              </a:lnSpc>
              <a:spcBef>
                <a:spcPts val="1500"/>
              </a:spcBef>
              <a:buClr>
                <a:srgbClr val="c00000"/>
              </a:buClr>
              <a:buFont typeface="Garamond"/>
              <a:buChar char="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Tahoma"/>
              </a:rPr>
              <a:t>Sniegta informāciju par precizētiem tiesību aktu projektiem un uzaicinājumiem uz starpinstitūciju sanāksmē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 type="title"/>
          </p:nvPr>
        </p:nvSpPr>
        <p:spPr>
          <a:xfrm>
            <a:off x="1436400" y="274320"/>
            <a:ext cx="7250040" cy="11430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NTSP sekretariāts sadarbībā ar sociālajiem partneriem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643040" y="428400"/>
            <a:ext cx="71056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subTitle"/>
          </p:nvPr>
        </p:nvSpPr>
        <p:spPr>
          <a:xfrm>
            <a:off x="1285560" y="1999800"/>
            <a:ext cx="76057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8.01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 uzņēmējiem nepieciešamajiem finanšu </a:t>
            </a: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strumentiem tautsaimniecības stabilizācij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11.02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Sociālo partneru Latvijas Darba devēju konfederācijas (LDDK) un Latvijas Brīvo arodbiedrību savienības (LBAS) un Latvijas Pašvaldību savienības (LPS) prasības krīzes pārvarēšana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1285560" y="1928520"/>
            <a:ext cx="76201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5.03.2009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ārvalstu aizdevuma līdzekļu izlietojuma uzraudzības komisijas izvei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plānotajiem grozījumiem Valsts budžet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24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500" spc="-1" strike="noStrike">
                <a:solidFill>
                  <a:srgbClr val="000000"/>
                </a:solidFill>
                <a:latin typeface="Tahoma"/>
              </a:rPr>
              <a:t>Par likumprojektu „Grozījums Darba likumā”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title"/>
          </p:nvPr>
        </p:nvSpPr>
        <p:spPr>
          <a:xfrm>
            <a:off x="1643040" y="428400"/>
            <a:ext cx="71056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1643040" y="285480"/>
            <a:ext cx="717696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1218960" y="157140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ahoma"/>
              </a:rPr>
              <a:t>15.04.2008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likumprojekta “Par vienotu valsts un pašvaldību institūciju amatpersonu (darbinieku) atlīdzības sistēmu” pamatnostādnēm</a:t>
            </a:r>
            <a:r>
              <a:rPr b="1" lang="lv-LV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aktualitātēm veselības aprūpes finansēšanā no valsts budže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29.04.2008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priekšlikumiem un valdības atbildēm uz LDDK, LBAS un LPS prasībām (krīzes pārvarēšana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1571400" y="142560"/>
            <a:ext cx="710388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1285560" y="1714680"/>
            <a:ext cx="7620120" cy="361440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20.05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priekšlikumiem likumprojektā „Grozījums Darba likumā” (atlaišanas pabalst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izglītības un zinātnes situāciju Latvijā. Par profesionālo izglītību (arī 1.0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01.07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budžeta grozījumiem 2009. gad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valdības priekšlikumiem 2010.gada budžetam un plānotajiem 2010.-2012.gada budžeta ieņēmumiem un izdevumiem</a:t>
            </a:r>
            <a:r>
              <a:rPr b="1" i="1" lang="lv-LV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Reformu vadības grupas izveidi, darbības principi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714680" y="285480"/>
            <a:ext cx="7178400" cy="14698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ubTitle"/>
          </p:nvPr>
        </p:nvSpPr>
        <p:spPr>
          <a:xfrm>
            <a:off x="1213920" y="1928520"/>
            <a:ext cx="7620120" cy="29941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12.08.2009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Eiropas Komisijas ierosinājumu atteikties no valsts līdzfinansējuma struktūrfondu apguvē un NTSP Veselības aprūpes nozares apakšpadomes ierosinājumu ieekonomētos līdzekļus novirzīt veselības aprūpei</a:t>
            </a:r>
            <a:r>
              <a:rPr b="1" lang="lv-LV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 u="sng">
                <a:solidFill>
                  <a:srgbClr val="000000"/>
                </a:solidFill>
                <a:uFillTx/>
                <a:latin typeface="Tahoma"/>
              </a:rPr>
              <a:t>26.10.2009. (ārkārtas sē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ar likumprojektu "Par valsts budžetu 2010. gadam“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Tahoma"/>
              </a:rPr>
              <a:t>Par likumprojekta “Par vienotu valsts un pašvaldību institūciju amatpersonu (darbinieku) atlīdzības sistēmu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1285560" y="1714680"/>
            <a:ext cx="7620120" cy="29937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Autofit/>
          </a:bodyPr>
          <a:p>
            <a:pPr marL="608040" indent="-60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 u="sng">
                <a:solidFill>
                  <a:srgbClr val="000000"/>
                </a:solidFill>
                <a:uFillTx/>
                <a:latin typeface="Tahoma"/>
              </a:rPr>
              <a:t>25.11.2009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valdības un starptautisko aizdevēju sarunām par 2010.gada valsts budžetu un to rezultātu ietekmi uz Latvijas tautsaimniecības attīstību un uzņēmējdarbības vi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ES fondu apguvi un finanšu pieejamību uzņēmējdarbības un infrastruktūras atbalst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8040" indent="-608040">
              <a:spcBef>
                <a:spcPts val="601"/>
              </a:spcBef>
              <a:buClr>
                <a:srgbClr val="c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Tahoma"/>
              </a:rPr>
              <a:t>Par sociālo dialogu iekšlietu sistēm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 type="title"/>
          </p:nvPr>
        </p:nvSpPr>
        <p:spPr>
          <a:xfrm>
            <a:off x="1642680" y="214200"/>
            <a:ext cx="7250040" cy="147024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000000"/>
                </a:solidFill>
                <a:latin typeface="Tahoma"/>
              </a:rPr>
              <a:t>Svarīgākie jautājumi NTSP sēdē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"/>
          <p:cNvSpPr txBox="1"/>
          <p:nvPr/>
        </p:nvSpPr>
        <p:spPr>
          <a:xfrm>
            <a:off x="1476360" y="119664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t">
            <a:normAutofit/>
          </a:bodyPr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peciālā budžeta izpildi 2008.gadā un par valsts sociālās apdrošināšanas speciālā budžeta plānu 2009.gad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sociālās apdrošināšanas sistēmas finansēšanas nodrošināšan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Valsts fondēto pensiju shēmas darbību 2008.gad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lānotie grozījumiem tiesību aktos sociālās drošības jomā 2009.gada valsts budžeta grozījumu likumprojekta paketē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Valsts sociālās apdrošināšanas obligāto iemaksu parāda piedziņas rezultāt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ANO Konvencijas “Par personu ar invaliditāti tiesībām” sagatavošanas ratifikācijai gaitu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Tahoma"/>
              </a:rPr>
              <a:t>Par ES likumdošanas iniciatīvām dzimumu līdztiesības jomā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1692360" y="-360"/>
            <a:ext cx="6966000" cy="135396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</a:rPr>
              <a:t>ociālās drošības apakšpadome (SDA) – 7 sēdes. </a:t>
            </a:r>
            <a:r>
              <a:rPr b="1" lang="lv-LV" sz="2600" spc="-1" strike="noStrike">
                <a:solidFill>
                  <a:srgbClr val="000000"/>
                </a:solidFill>
                <a:latin typeface="Tahoma"/>
                <a:ea typeface="Times New Roman"/>
              </a:rPr>
              <a:t>Galvenie jautājumi 2009. gadā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1:11:42Z</dcterms:created>
  <dc:creator>Inese Erge</dc:creator>
  <dc:description/>
  <dc:language>en-US</dc:language>
  <cp:lastModifiedBy>Gunta Freimane</cp:lastModifiedBy>
  <dcterms:modified xsi:type="dcterms:W3CDTF">2010-01-06T14:24:52Z</dcterms:modified>
  <cp:revision>40</cp:revision>
  <dc:subject/>
  <dc:title>Nacionāli trīspusējās sadarbības padomes sekretariāts</dc:title>
</cp:coreProperties>
</file>