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914400" y="74088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677880" y="4704840"/>
            <a:ext cx="542592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089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41920" y="94089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9FCA-7750-4A68-9A3C-86DE0E82E96E}"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A4DD-6AD6-40D8-B849-BAA15402C9D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26" name="PlaceHolder 1"/>
          <p:cNvSpPr>
            <a:spLocks noGrp="1"/>
          </p:cNvSpPr>
          <p:nvPr>
            <p:ph type="sldImg"/>
          </p:nvPr>
        </p:nvSpPr>
        <p:spPr>
          <a:xfrm>
            <a:off x="914400" y="741240"/>
            <a:ext cx="4952880" cy="3714840"/>
          </a:xfrm>
          <a:prstGeom prst="rect">
            <a:avLst/>
          </a:prstGeom>
          <a:ln w="0">
            <a:noFill/>
          </a:ln>
        </p:spPr>
      </p:sp>
      <p:sp>
        <p:nvSpPr>
          <p:cNvPr id="127"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4400" y="741240"/>
            <a:ext cx="4952880" cy="3714840"/>
          </a:xfrm>
          <a:prstGeom prst="rect">
            <a:avLst/>
          </a:prstGeom>
          <a:ln w="0">
            <a:noFill/>
          </a:ln>
        </p:spPr>
      </p:sp>
      <p:sp>
        <p:nvSpPr>
          <p:cNvPr id="16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p:txBody>
      </p:sp>
      <p:sp>
        <p:nvSpPr>
          <p:cNvPr id="16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2FD9-DA0E-4FCD-AB1B-1F42D9625D4B}"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4400" y="741240"/>
            <a:ext cx="4952880" cy="3714840"/>
          </a:xfrm>
          <a:prstGeom prst="rect">
            <a:avLst/>
          </a:prstGeom>
          <a:ln w="0">
            <a:noFill/>
          </a:ln>
        </p:spPr>
      </p:sp>
      <p:sp>
        <p:nvSpPr>
          <p:cNvPr id="16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bruto darba samaksa 2009.gada 1. un 2.ceturksnī privātajā un sabiedriskajā sektorā, tai skaitā valsts un pašvaldību komercsabiedrībās, ir koriģēta sakarā ar komersantu piederības konkrētam sektoram precizēšanu. Saskaņā ar izmaiņām, kas notikušas LR Komercreģistra datubāzē par pamatkapitāla piederību, atsevišķiem komersantiem ir koriģēts piederības sek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pskatot visu sektoru mēneša vidējā atalgojuma izmaiņu tendences 2008.gadā pret iepriekšējā gada attiecīgo periodu redzam, ka mēneša vidējā atalgojuma pieauguma tempu visstraujākais kritums ir valsts budžeta iestādēs, kam seko pašvaldību budžeta iestā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budžeta iestādēs </a:t>
            </a:r>
            <a:r>
              <a:rPr b="0" lang="lv-LV" sz="1200" spc="-1" strike="noStrike">
                <a:solidFill>
                  <a:srgbClr val="000000"/>
                </a:solidFill>
                <a:latin typeface="Arial"/>
              </a:rPr>
              <a:t>2009.gada septembra mēneša vidējais atalgojums ir par 26,1%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ašvaldības budžeta iestādēs </a:t>
            </a:r>
            <a:r>
              <a:rPr b="0" lang="lv-LV" sz="1200" spc="-1" strike="noStrike">
                <a:solidFill>
                  <a:srgbClr val="000000"/>
                </a:solidFill>
                <a:latin typeface="Arial"/>
              </a:rPr>
              <a:t>2009.gada septembra mēneša vidējais atalgojums ir par 26,6% mazāks nekā 2008.gada septembrī, ko ietekmējis izmaiņas pedagogu atalgojum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rivātajā sektorā</a:t>
            </a:r>
            <a:r>
              <a:rPr b="0" lang="lv-LV" sz="1200" spc="-1" strike="noStrike">
                <a:solidFill>
                  <a:srgbClr val="000000"/>
                </a:solidFill>
                <a:latin typeface="Arial"/>
              </a:rPr>
              <a:t> 2009.gada septembra mēneša vidējais atalgojums ir par 4,9%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B1E8-107F-44D4-A8FE-C3EA8659802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4400" y="741240"/>
            <a:ext cx="4952880" cy="3714840"/>
          </a:xfrm>
          <a:prstGeom prst="rect">
            <a:avLst/>
          </a:prstGeom>
          <a:ln w="0">
            <a:noFill/>
          </a:ln>
        </p:spPr>
      </p:sp>
      <p:sp>
        <p:nvSpPr>
          <p:cNvPr id="17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vienpadsmit mēnešos reģistrēto bezdarbnieku skaits palielinājies par 92,80 tūkstošiem no gada sākuma un novembrī bezdarba līmeni sasniedz 15,1% jeb 169,24 tūkstoši bezdarbnie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72"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9A43-1074-45EC-A119-3CD021506E66}"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1240"/>
            <a:ext cx="4952880" cy="3714840"/>
          </a:xfrm>
          <a:prstGeom prst="rect">
            <a:avLst/>
          </a:prstGeom>
          <a:ln w="0">
            <a:noFill/>
          </a:ln>
        </p:spPr>
      </p:sp>
      <p:sp>
        <p:nvSpPr>
          <p:cNvPr id="130"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B33A-5BC0-4762-A132-75B713FC34FF}"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3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4400" y="741240"/>
            <a:ext cx="4952880" cy="3714840"/>
          </a:xfrm>
          <a:prstGeom prst="rect">
            <a:avLst/>
          </a:prstGeom>
          <a:ln w="0">
            <a:noFill/>
          </a:ln>
        </p:spPr>
      </p:sp>
      <p:sp>
        <p:nvSpPr>
          <p:cNvPr id="134"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6"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1B1C-AD71-4311-94B9-32AFEF0161F9}"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1240"/>
            <a:ext cx="4952880" cy="3714840"/>
          </a:xfrm>
          <a:prstGeom prst="rect">
            <a:avLst/>
          </a:prstGeom>
          <a:ln w="0">
            <a:noFill/>
          </a:ln>
        </p:spPr>
      </p:sp>
      <p:sp>
        <p:nvSpPr>
          <p:cNvPr id="13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lgu samazinājuma par 20% valsts pārvaldes iestādēs ietekme ir redzama sākot no 2009.gada augusta un turpmākajos mēnešos, kad budžeta izdevumi atlīdzībai un atalgojumam salīdzinājumā ar 2008.gada vidējiem rādītājiem samazinās vidēji par 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enlaikus jūnijā un jūlijā redzamās salīdzinoši nelielās budžeta izdevumu atlīdzībai un atalgojumam izmaiņas skaidrojamas ar algas un atvaļinājuma naudu izmaksu vienā mēnesī.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2037-8DC2-4F32-8880-2F284FDDA1B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1240"/>
            <a:ext cx="4952880" cy="3714840"/>
          </a:xfrm>
          <a:prstGeom prst="rect">
            <a:avLst/>
          </a:prstGeom>
          <a:ln w="0">
            <a:noFill/>
          </a:ln>
        </p:spPr>
      </p:sp>
      <p:sp>
        <p:nvSpPr>
          <p:cNvPr id="14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alsts budžeta iestādēs mēneša vidējais atalgojums 2009.gadā samazinājās, ņemot vērā aizliegumu 2009.gadā  izmaksāt prēmijas un atvaļinājuma pabalstus.  Ievērojot likumā „Grozījumi likumā „Par valsts budžetu 2009. gadam”” atlīdzībai plānoto finansējuma samazinājumu un valdības lēmumu jūlijā par mēnešalgu samazināšanu vidēji par 20%. Tā rezultātā mēneša vidējais atalgojums īpaši krasi samazinājās sākot ar augustu, novembrī sasniedzot 29% samazinājumu pret 2008.  gada vidējiem rādītāj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metodoloģija mēneša vidējā atalgojuma aprēķināšanai atšķiras no Centrālās statistikas pārvaldes metodoloģijas mēneša vidējā atalgojuma aprēķināšan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aprēķinos atalgojuma fonds noteikts atbilstoši Budžeta izdevumu klasifikācijas ekonomiskajām kategorijām, kur papildus mēnešalgai tiek iekļautas piemaksas, prēmijas (par 2008.gadu). Finanšu ministrijas aprēķinos atalgojumā netiek ietverti pabalsti, piemēram, atlaišanas pabalsts, darbnespējas lapu A samaksa, kompensācijas, ārštata atalgojums un 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Iepriekšminēto informāciju par situāciju uz 2009. gada 30. novembri ir iesniegušas 179 no valsts budžeta finansētās iestādes.</a:t>
            </a:r>
            <a:endParaRPr b="0" lang="en-US" sz="1200" spc="-1" strike="noStrike">
              <a:solidFill>
                <a:srgbClr val="000000"/>
              </a:solidFill>
              <a:latin typeface="Arial"/>
            </a:endParaRPr>
          </a:p>
        </p:txBody>
      </p:sp>
      <p:sp>
        <p:nvSpPr>
          <p:cNvPr id="14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DF32-14E4-4869-829C-7FB365FC6B4F}"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4400" y="741240"/>
            <a:ext cx="4952880" cy="3714840"/>
          </a:xfrm>
          <a:prstGeom prst="rect">
            <a:avLst/>
          </a:prstGeom>
          <a:ln w="0">
            <a:noFill/>
          </a:ln>
        </p:spPr>
      </p:sp>
      <p:sp>
        <p:nvSpPr>
          <p:cNvPr id="14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darba samaksa valsts aģentūrās ir atšķirīga. Vislielākā darba samaksa ir klasiskajās valsts aģentūrās, bet vismazākā ir sporta centros un sporta skolā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oktobra mēneša vidējā darba samaksa valsts aģentūrās salīdzinot ar 2008.gada vidējiem rādītājiem ir samazinājies par 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7475-B740-41EE-A333-FDA0F5F2D82E}"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1240"/>
            <a:ext cx="4952880" cy="3714840"/>
          </a:xfrm>
          <a:prstGeom prst="rect">
            <a:avLst/>
          </a:prstGeom>
          <a:ln w="0">
            <a:noFill/>
          </a:ln>
        </p:spPr>
      </p:sp>
      <p:sp>
        <p:nvSpPr>
          <p:cNvPr id="15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skaņā ar Ministra kabineta 2009. gada 11. jūnija sēdes protokollēmumu (protokols Nr.40, 35.§) plānots samazināt ministriju centrālajos aparātos, kā arī valsts aģentūrās nodarbināto skaitu. Darbinieku skaitu samazina arī citās no valsts budžeta finansētās iestādēs, kā rezultātā, novembrī valsts budžeta iestādēs bija 65461 nodarbinātais jeb par 17% mazāk, salīdzinot ar nodarbināto skaitu vidēji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2C40-8144-4D93-A1DA-C0C8E505F09B}"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4400" y="741240"/>
            <a:ext cx="4952880" cy="3714840"/>
          </a:xfrm>
          <a:prstGeom prst="rect">
            <a:avLst/>
          </a:prstGeom>
          <a:ln w="0">
            <a:noFill/>
          </a:ln>
        </p:spPr>
      </p:sp>
      <p:sp>
        <p:nvSpPr>
          <p:cNvPr id="154"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raujais izdevumu atlīdzībai un atalgojumam izmaiņu palielinājums 2009. gada jūnijā salīdzinājumā ar 2008. gada vidējiem rādītājiem skaidrojams ar to, ka atvaļinājuma nauda pedagogiem tiek izmaksāta par visu atvaļinājuma periodu līdz ar to izdevumi atlīdzībai un atalgojumam jūlijā, augustā un septembrī ir proporcionāli mazā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matojoties uz Ministru kabineta lēmumu par atlīdzības samazināšanu, tai skaitā pedagogiem, ar 2009. gada oktobri pašvaldību budžeta izdevumi atlīdzībai un atalgojumam salīdzinājumā ar 2008. gada vidējiem rādītājiem turpina samazināties. </a:t>
            </a:r>
            <a:endParaRPr b="0" lang="en-US" sz="1200" spc="-1" strike="noStrike">
              <a:solidFill>
                <a:srgbClr val="000000"/>
              </a:solidFill>
              <a:latin typeface="Arial"/>
            </a:endParaRPr>
          </a:p>
        </p:txBody>
      </p:sp>
      <p:sp>
        <p:nvSpPr>
          <p:cNvPr id="155"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19CD-456E-467E-8DFF-D965C94A6B2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6"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4400" y="741240"/>
            <a:ext cx="4952880" cy="3714840"/>
          </a:xfrm>
          <a:prstGeom prst="rect">
            <a:avLst/>
          </a:prstGeom>
          <a:ln w="0">
            <a:noFill/>
          </a:ln>
        </p:spPr>
      </p:sp>
      <p:sp>
        <p:nvSpPr>
          <p:cNvPr id="15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edagogu atalgojuma samazinājuma ietekmē</a:t>
            </a:r>
            <a:r>
              <a:rPr b="1" lang="lv-LV" sz="1200" spc="-1" strike="noStrike">
                <a:solidFill>
                  <a:srgbClr val="000000"/>
                </a:solidFill>
                <a:latin typeface="Arial"/>
              </a:rPr>
              <a:t> </a:t>
            </a:r>
            <a:r>
              <a:rPr b="0" lang="lv-LV" sz="1200" spc="-1" strike="noStrike">
                <a:solidFill>
                  <a:srgbClr val="000000"/>
                </a:solidFill>
                <a:latin typeface="Arial"/>
              </a:rPr>
              <a:t>2009. gada septembra mēneša vidējais atalgojums pašvaldībās un pašvaldību padotības iestādēs ir būtiski samazinājies, un tas ir Ls 355, attiecīgi salīdzinājumā ar 2008.gada vidējiem rādītājiem tas ir samazinājies par 2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valdību budžeta iestādēs pedagogi sastāda aptuveni 60% no visiem pašvaldību darbiniekiem.</a:t>
            </a:r>
            <a:endParaRPr b="0" lang="en-US" sz="1200" spc="-1" strike="noStrike">
              <a:solidFill>
                <a:srgbClr val="000000"/>
              </a:solidFill>
              <a:latin typeface="Arial"/>
            </a:endParaRPr>
          </a:p>
        </p:txBody>
      </p:sp>
      <p:sp>
        <p:nvSpPr>
          <p:cNvPr id="15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C1DE-4430-49DA-BB79-0BFA755C102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5B212-0E5F-4C2B-8E56-737CDF955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6"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7"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1C816-FC19-42A1-9B80-FF12E7DB4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9"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2"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01066-27AD-41A5-AFBD-582C57F04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4"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9"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AB41C-FB55-42AD-B8E9-F403395AF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5"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23E23-47B5-46EC-9E69-A98BEA1CF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7"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7D1E4-2D0A-4AFA-8662-DC5E1AE27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9"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0"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09D8F-77E7-43BD-BADA-64B788DBD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559FE-318D-4CBE-B1CB-0FD89E783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EB225-8E47-41C4-B653-51B41B4A1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4"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6"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04468-02F8-47D3-B54A-1721F8F52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8"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0"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86DE4-5AC9-42D5-B412-90D4E0631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2"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4"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65FAB-82F9-4735-9A44-F423A61FE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767088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 name="Rectangle 4"/>
            <p:cNvSpPr/>
            <p:nvPr/>
          </p:nvSpPr>
          <p:spPr>
            <a:xfrm>
              <a:off x="0" y="1917720"/>
              <a:ext cx="46980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 name="Rectangle 5"/>
            <p:cNvSpPr/>
            <p:nvPr/>
          </p:nvSpPr>
          <p:spPr>
            <a:xfrm>
              <a:off x="220680" y="6045120"/>
              <a:ext cx="892332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 name="Oval 6"/>
            <p:cNvSpPr/>
            <p:nvPr/>
          </p:nvSpPr>
          <p:spPr>
            <a:xfrm>
              <a:off x="6711840" y="0"/>
              <a:ext cx="219240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 name="Rectangle 7"/>
            <p:cNvSpPr/>
            <p:nvPr/>
          </p:nvSpPr>
          <p:spPr>
            <a:xfrm>
              <a:off x="0" y="6451560"/>
              <a:ext cx="914400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 name="Rectangle 8"/>
            <p:cNvSpPr/>
            <p:nvPr/>
          </p:nvSpPr>
          <p:spPr>
            <a:xfrm>
              <a:off x="8504280" y="1828800"/>
              <a:ext cx="639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 name="Rectangle 9"/>
            <p:cNvSpPr/>
            <p:nvPr/>
          </p:nvSpPr>
          <p:spPr>
            <a:xfrm>
              <a:off x="0" y="1517760"/>
              <a:ext cx="914400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pic>
          <p:nvPicPr>
            <p:cNvPr id="8" name="Picture 10" descr="FM_logo_LV"/>
            <p:cNvPicPr/>
            <p:nvPr/>
          </p:nvPicPr>
          <p:blipFill>
            <a:blip r:embed="rId2"/>
            <a:srcRect l="0" t="0" r="41376" b="0"/>
            <a:stretch/>
          </p:blipFill>
          <p:spPr>
            <a:xfrm>
              <a:off x="7224840" y="460440"/>
              <a:ext cx="911160" cy="811080"/>
            </a:xfrm>
            <a:prstGeom prst="rect">
              <a:avLst/>
            </a:prstGeom>
            <a:ln w="0">
              <a:noFill/>
            </a:ln>
          </p:spPr>
        </p:pic>
      </p:grpSp>
      <p:sp>
        <p:nvSpPr>
          <p:cNvPr id="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10"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11" name="PlaceHolder 3"/>
          <p:cNvSpPr>
            <a:spLocks noGrp="1"/>
          </p:cNvSpPr>
          <p:nvPr>
            <p:ph type="dt" idx="1"/>
          </p:nvPr>
        </p:nvSpPr>
        <p:spPr>
          <a:xfrm>
            <a:off x="4572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1109-73CD-4B82-ADDE-6F7F540B45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2254320"/>
              <a:ext cx="914400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2" name="Rectangle 4"/>
            <p:cNvSpPr/>
            <p:nvPr/>
          </p:nvSpPr>
          <p:spPr>
            <a:xfrm>
              <a:off x="0" y="6454800"/>
              <a:ext cx="914400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3" name="Rectangle 5"/>
            <p:cNvSpPr/>
            <p:nvPr/>
          </p:nvSpPr>
          <p:spPr>
            <a:xfrm>
              <a:off x="0" y="0"/>
              <a:ext cx="914400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sp>
        <p:nvSpPr>
          <p:cNvPr id="5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0866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09480" y="228600"/>
            <a:ext cx="792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14720"/>
            <a:ext cx="9144000" cy="33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nformācija</a:t>
            </a:r>
            <a:br>
              <a:rPr sz="3600"/>
            </a:br>
            <a:r>
              <a:rPr b="1" lang="lv-LV" sz="3600" spc="-1" strike="noStrike">
                <a:solidFill>
                  <a:srgbClr val="333333"/>
                </a:solidFill>
                <a:latin typeface="Times New Roman"/>
              </a:rPr>
              <a:t>par atalgojuma un nodarbinātības </a:t>
            </a:r>
            <a:br>
              <a:rPr sz="3600"/>
            </a:br>
            <a:r>
              <a:rPr b="1" lang="lv-LV" sz="3600" spc="-1" strike="noStrike">
                <a:solidFill>
                  <a:srgbClr val="333333"/>
                </a:solidFill>
                <a:latin typeface="Times New Roman"/>
              </a:rPr>
              <a:t>izmaiņām valstī </a:t>
            </a:r>
            <a:br>
              <a:rPr sz="3600"/>
            </a:br>
            <a:br>
              <a:rPr sz="3600"/>
            </a:br>
            <a:r>
              <a:rPr b="1" lang="lv-LV" sz="3200" spc="-1" strike="noStrike">
                <a:solidFill>
                  <a:srgbClr val="333333"/>
                </a:solidFill>
                <a:latin typeface="Times New Roman"/>
              </a:rPr>
              <a:t>2010.gada 7.janvāris</a:t>
            </a:r>
            <a:endParaRPr b="0" lang="en-US" sz="3200" spc="-1" strike="noStrike">
              <a:solidFill>
                <a:srgbClr val="333333"/>
              </a:solidFill>
              <a:latin typeface="Arial Black"/>
            </a:endParaRPr>
          </a:p>
        </p:txBody>
      </p:sp>
      <p:pic>
        <p:nvPicPr>
          <p:cNvPr id="102" name="Picture 4" descr="FM_logo_LV"/>
          <p:cNvPicPr/>
          <p:nvPr/>
        </p:nvPicPr>
        <p:blipFill>
          <a:blip r:embed="rId1"/>
          <a:stretch/>
        </p:blipFill>
        <p:spPr>
          <a:xfrm>
            <a:off x="2928960" y="480960"/>
            <a:ext cx="3058920" cy="17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valsts un pašvaldību komercsabiedrībā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Times New Roman"/>
              </a:rPr>
              <a:t>Mēneša vidējās darba samaksas (CSP aprēķinātās) izmaiņas valsts,  pašvaldību, valsts un pašvaldību komercsabiedrībās un privātajā sektorā 2008.gadā pret iepriekšējā gada attiecīgo periodu, %</a:t>
            </a:r>
            <a:br>
              <a:rPr sz="2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333333"/>
                </a:solidFill>
                <a:uFillTx/>
                <a:latin typeface="Times New Roman"/>
              </a:rPr>
              <a:t>II. Reģistrētā bezdarba rādītāju izmaiņas </a:t>
            </a:r>
            <a:br>
              <a:rPr sz="2000"/>
            </a:br>
            <a:r>
              <a:rPr b="1" lang="lv-LV" sz="2000" spc="-1" strike="noStrike">
                <a:solidFill>
                  <a:srgbClr val="333333"/>
                </a:solidFill>
                <a:latin typeface="Times New Roman"/>
              </a:rPr>
              <a:t>Reģistrētā bezdarba līmeņa izmaiņas 2009.gadā, %</a:t>
            </a:r>
            <a:br>
              <a:rPr sz="2000"/>
            </a:br>
            <a:r>
              <a:rPr b="1" i="1" lang="lv-LV" sz="1400" spc="-1" strike="noStrike">
                <a:solidFill>
                  <a:srgbClr val="333333"/>
                </a:solidFill>
                <a:latin typeface="Times New Roman"/>
              </a:rPr>
              <a:t>(datu avots: Labklājības ministrija)</a:t>
            </a:r>
            <a:endParaRPr b="0" lang="en-US" sz="1400" spc="-1" strike="noStrike">
              <a:solidFill>
                <a:srgbClr val="333333"/>
              </a:solidFill>
              <a:latin typeface="Arial Black"/>
            </a:endParaRPr>
          </a:p>
        </p:txBody>
      </p:sp>
      <p:pic>
        <p:nvPicPr>
          <p:cNvPr id="124"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Saturs</a:t>
            </a:r>
            <a:endParaRPr b="0" lang="en-US" sz="3600" spc="-1" strike="noStrike">
              <a:solidFill>
                <a:srgbClr val="333333"/>
              </a:solidFill>
              <a:latin typeface="Arial Black"/>
            </a:endParaRPr>
          </a:p>
        </p:txBody>
      </p:sp>
      <p:sp>
        <p:nvSpPr>
          <p:cNvPr id="104" name=""/>
          <p:cNvSpPr txBox="1"/>
          <p:nvPr/>
        </p:nvSpPr>
        <p:spPr>
          <a:xfrm>
            <a:off x="456840" y="1905120"/>
            <a:ext cx="8001000" cy="4114800"/>
          </a:xfrm>
          <a:prstGeom prst="rect">
            <a:avLst/>
          </a:prstGeom>
          <a:noFill/>
          <a:ln w="0">
            <a:noFill/>
          </a:ln>
        </p:spPr>
        <p:txBody>
          <a:bodyPr anchor="t">
            <a:normAutofit/>
          </a:bodyPr>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Atalgojuma izmaiņu tendences 2009.gadā</a:t>
            </a:r>
            <a:endParaRPr b="0" lang="en-US" sz="2800" spc="-1" strike="noStrike">
              <a:solidFill>
                <a:srgbClr val="333333"/>
              </a:solidFill>
              <a:latin typeface="Times New Roman"/>
            </a:endParaRPr>
          </a:p>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Reģistrētā bezdarba rādītāju izmaiņ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Times New Roman"/>
              </a:rPr>
              <a:t> </a:t>
            </a:r>
            <a:endParaRPr b="0" lang="en-US" sz="3200" spc="-1" strike="noStrike">
              <a:solidFill>
                <a:srgbClr val="333333"/>
              </a:solidFill>
              <a:latin typeface="Arial Black"/>
            </a:endParaRPr>
          </a:p>
        </p:txBody>
      </p:sp>
      <p:sp>
        <p:nvSpPr>
          <p:cNvPr id="106" name=""/>
          <p:cNvSpPr txBox="1"/>
          <p:nvPr/>
        </p:nvSpPr>
        <p:spPr>
          <a:xfrm>
            <a:off x="456840" y="1905120"/>
            <a:ext cx="8001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 Atalgojuma izmaiņu tendences </a:t>
            </a: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2009.gada janvāris - novembris</a:t>
            </a:r>
            <a:endParaRPr b="0" lang="en-US" sz="3600" spc="-1" strike="noStrike">
              <a:solidFill>
                <a:srgbClr val="333333"/>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Valsts budžeta izdevumu (finanšu plūsma) atlīdzībai un atalgojumam  izmaiņas 2009.gadā pret 2008. gada vidējiem rādītājiem, %</a:t>
            </a:r>
            <a:br>
              <a:rPr sz="2000"/>
            </a:br>
            <a:r>
              <a:rPr b="1" i="1" lang="lv-LV" sz="1400" spc="-1" strike="noStrike">
                <a:solidFill>
                  <a:srgbClr val="333333"/>
                </a:solidFill>
                <a:latin typeface="Times New Roman"/>
                <a:ea typeface="Arial"/>
              </a:rPr>
              <a:t>(datu avots: Valsts kase)</a:t>
            </a:r>
            <a:endParaRPr b="0" lang="en-US" sz="1400" spc="-1" strike="noStrike">
              <a:solidFill>
                <a:srgbClr val="333333"/>
              </a:solidFill>
              <a:latin typeface="Arial Black"/>
            </a:endParaRPr>
          </a:p>
        </p:txBody>
      </p:sp>
      <p:pic>
        <p:nvPicPr>
          <p:cNvPr id="10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Mēneša vidējā darba samaksa (FM aprēķinātā) valsts budžeta iestādēs pa mēnešiem 2009.gadā, LVL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FM aprēķinātā)  </a:t>
            </a:r>
            <a:br>
              <a:rPr sz="2000"/>
            </a:br>
            <a:r>
              <a:rPr b="1" lang="lv-LV" sz="2000" spc="-1" strike="noStrike">
                <a:solidFill>
                  <a:srgbClr val="333333"/>
                </a:solidFill>
                <a:latin typeface="Times New Roman"/>
              </a:rPr>
              <a:t>valsts aģentūrās pa mēnešiem 2009.gadā, LVL</a:t>
            </a:r>
            <a:br>
              <a:rPr sz="2000"/>
            </a:br>
            <a:br>
              <a:rPr sz="1000"/>
            </a:br>
            <a:r>
              <a:rPr b="1" i="1" lang="lv-LV" sz="1400" spc="-1" strike="noStrike">
                <a:solidFill>
                  <a:srgbClr val="333333"/>
                </a:solidFill>
                <a:latin typeface="Times New Roman"/>
              </a:rPr>
              <a:t>(datu avots: Finanšu ministrija)</a:t>
            </a:r>
            <a:endParaRPr b="0" lang="en-US" sz="1400" spc="-1" strike="noStrike">
              <a:solidFill>
                <a:srgbClr val="333333"/>
              </a:solidFill>
              <a:latin typeface="Arial Black"/>
            </a:endParaRPr>
          </a:p>
        </p:txBody>
      </p:sp>
      <p:pic>
        <p:nvPicPr>
          <p:cNvPr id="11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Darbinieku skaits (FM aprēķinātais) valsts budžeta iestādēs pa mēnešiem 2009.gadā, tūkst.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4"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138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Pašvaldību budžeta izdevumu (finanšu plūsma) atlīdzībai un atalgojumam izmaiņas 2009.gadā sadalījumā pa mēnešiem pret 2008.gada vidējiem rādītājiem, % </a:t>
            </a:r>
            <a:br>
              <a:rPr sz="1800"/>
            </a:br>
            <a:r>
              <a:rPr b="1" lang="lv-LV" sz="1000" spc="-1" strike="noStrike">
                <a:solidFill>
                  <a:srgbClr val="333333"/>
                </a:solidFill>
                <a:latin typeface="Times New Roman"/>
              </a:rPr>
              <a:t> </a:t>
            </a:r>
            <a:r>
              <a:rPr b="1" i="1" lang="lv-LV" sz="1400" spc="-1" strike="noStrike">
                <a:solidFill>
                  <a:srgbClr val="333333"/>
                </a:solidFill>
                <a:latin typeface="Times New Roman"/>
              </a:rPr>
              <a:t>(datu avots: Valsts kase)</a:t>
            </a:r>
            <a:endParaRPr b="0" lang="en-US" sz="1400" spc="-1" strike="noStrike">
              <a:solidFill>
                <a:srgbClr val="333333"/>
              </a:solidFill>
              <a:latin typeface="Arial Black"/>
            </a:endParaRPr>
          </a:p>
        </p:txBody>
      </p:sp>
      <p:pic>
        <p:nvPicPr>
          <p:cNvPr id="116"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pašvaldībās un pašvaldību padotības iestādē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1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1:26:07Z</dcterms:created>
  <dc:creator>Td-malzu</dc:creator>
  <dc:description/>
  <dc:language>en-US</dc:language>
  <cp:lastModifiedBy>Gunta Freimane</cp:lastModifiedBy>
  <dcterms:modified xsi:type="dcterms:W3CDTF">2010-01-06T13:51:06Z</dcterms:modified>
  <cp:revision>947</cp:revision>
  <dc:subject/>
  <dc:title>Slide 1</dc:title>
</cp:coreProperties>
</file>