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sldIdLst>
    <p:sldId id="256" r:id="rId36"/>
    <p:sldId id="257" r:id="rId37"/>
    <p:sldId id="258" r:id="rId38"/>
    <p:sldId id="259" r:id="rId39"/>
    <p:sldId id="260" r:id="rId40"/>
    <p:sldId id="261" r:id="rId41"/>
    <p:sldId id="262" r:id="rId42"/>
    <p:sldId id="263" r:id="rId43"/>
    <p:sldId id="264" r:id="rId44"/>
    <p:sldId id="265" r:id="rId45"/>
    <p:sldId id="266" r:id="rId46"/>
    <p:sldId id="267" r:id="rId47"/>
    <p:sldId id="268" r:id="rId48"/>
    <p:sldId id="269" r:id="rId49"/>
    <p:sldId id="270" r:id="rId50"/>
    <p:sldId id="271" r:id="rId51"/>
    <p:sldId id="272" r:id="rId52"/>
  </p:sldIdLst>
  <p:sldSz cx="9144000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slide" Target="slides/slide7.xml"/><Relationship Id="rId43" Type="http://schemas.openxmlformats.org/officeDocument/2006/relationships/slide" Target="slides/slide8.xml"/><Relationship Id="rId44" Type="http://schemas.openxmlformats.org/officeDocument/2006/relationships/slide" Target="slides/slide9.xml"/><Relationship Id="rId45" Type="http://schemas.openxmlformats.org/officeDocument/2006/relationships/slide" Target="slides/slide10.xml"/><Relationship Id="rId46" Type="http://schemas.openxmlformats.org/officeDocument/2006/relationships/slide" Target="slides/slide11.xml"/><Relationship Id="rId47" Type="http://schemas.openxmlformats.org/officeDocument/2006/relationships/slide" Target="slides/slide12.xml"/><Relationship Id="rId48" Type="http://schemas.openxmlformats.org/officeDocument/2006/relationships/slide" Target="slides/slide13.xml"/><Relationship Id="rId49" Type="http://schemas.openxmlformats.org/officeDocument/2006/relationships/slide" Target="slides/slide14.xml"/><Relationship Id="rId50" Type="http://schemas.openxmlformats.org/officeDocument/2006/relationships/slide" Target="slides/slide15.xml"/><Relationship Id="rId51" Type="http://schemas.openxmlformats.org/officeDocument/2006/relationships/slide" Target="slides/slide16.xml"/><Relationship Id="rId52" Type="http://schemas.openxmlformats.org/officeDocument/2006/relationships/slide" Target="slides/slide17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79087-105B-400B-8E4E-DA55E7380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8C640-4CF4-42DE-BC46-DC4CE13C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A1461-6DCC-4557-8ABF-EDD528D248C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C6307-8FFB-4855-B8C9-C5AB54D5A25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F1B6E-5993-4E65-907D-EA226A83AE8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305DD-C22D-4FA6-A33C-2D8FA0ADE09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25750-223C-4FA4-B541-B26F23FCB43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C2CA1-7D7F-476B-9D9A-4FB5D4BE166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23DE7-2BE9-4865-ABCA-FC4E51F722D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93B70-BA1C-4C3F-97FB-2723F994D3E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15057-2962-464A-93C1-3E1C399FC31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FF418D-190E-40E2-AE1B-A0BDC4730C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9D66A-0A7F-420F-A45B-30350C07F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9E832A-68AB-4716-9E5C-4801A7D9578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FB0947-EA95-41F5-BC8F-68F5147A750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34BFED-607E-4F9B-9AAA-344BD229976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2AE8D4-BD82-41BA-B44B-9C6BD9D1B7A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CDC965-3F57-46B6-AB26-CE267A570B2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1D03BD-E695-460F-B378-2DFE1B97628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9C7ADD-339E-4428-B95B-12477831F1E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AAD2E9-BE4C-4F2E-869D-05D52E4B666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434385-5608-483B-A00F-2CADF72F059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9FB347-2D29-42AC-8CA2-F0D25BE10C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80A23-0460-4F59-A442-2D7B2AA9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EF2AE4-55F5-4915-8FB6-BEC58605CC1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4BBEC-AC3A-40AC-91CA-F614754E284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7A3B6-7100-4831-9632-9303D704D11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5DB33-AF0E-41BE-BF7F-430B541EBB1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0855F-2D33-48A8-BDA4-71C199FCCAB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5FA9D-DD7C-4B2D-994C-E762EA8DF02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1F123-8A30-4F7D-ADB7-F365CC7FA50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2B2B5-45D1-4B87-A9D7-B61D077E514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31906-423D-48D3-87C6-50412AFBC4C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C99F1-1AC2-4B9A-84CE-A79321B167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6E82C-8DD4-43DF-85B4-AEFA31AC5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C5E37-53AA-4E70-9F9A-DC321222278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975EF-886B-4620-BE77-D67FEAFC46A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03C37-6FB1-4453-9A99-96D705F068F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10BE65-2B43-49B5-B018-011A56FC6CD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3108CC-E94C-4BE6-AA55-4611DC55132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C93CEF-080B-4CE6-AED0-CB6B6EFBD3F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E354D7-C697-453C-8179-984BF3FB6D5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488FF5-FC58-4980-9B19-A2C64BEF2C7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1E3A22-AEA4-4E08-B1A7-236380CC614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622609-A3FD-43F5-BFBB-EDF015D443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0CE63-8EA7-4F9F-9051-8DC555C6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DE2C19-04C8-4225-9E16-D5E3AEB21C9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6C95C9-BA1F-4435-9639-F2BA4E08365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159252-5394-4D20-89B1-FE9CC2C0759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984486-A915-4762-94D5-D47E2B8997A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4E034A-0057-4D6E-8BBE-C237008FE6A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D8F4C3-8E1F-4785-8BBC-18681FFF959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5ED8F4-A064-4A7D-AE18-7DA845E3810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B2C5EE-437D-441F-8F36-7E4B82F6556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77AF87-5272-4F61-833D-398F953E4AB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09F830-6945-4060-BB5D-79E02DEDD3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46DE6-565E-4719-AC91-9AC74552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A15030-7971-466A-B27B-AD12FDE3DD6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5E68FF-F40C-4266-8999-63CD0F5FEC4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6B89AE-BA17-4242-A857-8678CFEDAA5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A0A8E1-8E30-451B-8905-B8750221599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B883DD-8301-49E9-BE1E-B932EE30A3C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F637F9-4694-460E-8D81-FFC57E9E17A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AA0C24-8CEE-45A7-9910-6FB8665038D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83AD8-0250-4B86-93C0-B9CB30C185C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DE92D6-D609-49BE-9233-ACCB39CA577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6A0E8-2A18-4918-A280-ED92DA342E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071FB-7D4A-4E99-BEEA-181AE961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3CC44-50C0-45FC-BEEC-B766F09F955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64AE3-D281-4865-AB58-93E9DD07EA7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78422-EFDC-42D6-A230-6ADE3FDAD11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B7FA3-2815-40F1-AA6E-77989B72327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6ABCEA-C949-4175-9D8D-BF87FC9ACB7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B72AC-0EBA-4FFA-A802-B6C50A3A089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452C0-5AB8-48F0-8BAD-7DB310F7F59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1484A-DCA9-49B0-ABC9-2C0989913CC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C20CE-B3FE-4BF1-AE26-12E9DEF2E2D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7E57F8-8B25-4641-BC55-0E18E0F5A8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005BD-A550-430E-90B6-7F1E3AFA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0E9BB1-E5ED-43FC-B2F2-74F84A9060C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792118-0463-4F75-93E4-62725DBAB12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7277FD-C899-4CA2-98B8-01E216BF830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0D064F-0C40-4614-AD57-DAE406EA181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AE00B4-2DE1-4415-A0DF-DB2EE3EC958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A567FC-F439-4CDE-A8B5-204808CAC7E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6D2913-385B-4FE2-8C1A-9DB89D89AEA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BB7B37-4341-4D77-8EEE-985653A2D5D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4138B4-C814-4A07-8D11-CDFAFFE74B3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F6F22B-E758-455B-BDBC-677167A6A9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6A933-85C9-4983-9544-7CD6A4E5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948869-4EE4-4AAC-8B92-2FB56F9D645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B069A7A-9687-49BD-9C20-373AD4E68B7E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C4F85E5-F09F-46DB-9C16-B4B3B3F03EB1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55A0A6B-8A43-45AA-8F05-AA62D98F0C4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7DBF8F5-93AC-49D7-94CD-DF5DF30847E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EFA7228-7A28-4D97-A7A0-CE3C83A4120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02CFD4D-020F-42C9-A470-A7776CD83AA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3B8FA9-1370-4CD1-9CF1-1310D4EC7FAE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1BC2592-F2F5-4B55-ABF1-19D9F00B67D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7B6E304-6B2D-4DD5-B558-2AC81FBA71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4ECED-6815-4F22-8DB1-ABFC0DF1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4996585-C971-4CF5-8DB0-B2070ADC6CD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A1FCEB1-16DF-4513-87F7-793C1CCC175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673A75-E6A0-4347-B04F-0A3BA60CC3E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13FE262-CC5B-4848-964C-6FEA3A2CA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F920360-2B8D-44C6-B889-E79C0559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24E8141-F854-4050-A619-53B1FBF5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7733BB3-5909-41FF-9599-6F28B136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9448CBD-3A28-4C1C-BD95-C1F3F841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8D206E-60CC-4495-8BB6-B505DED6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4E2E938-0A31-41BC-87BC-3E31FC8D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D9B00-271B-402B-BD3B-184CB4FD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47E01-CBD6-47DA-A779-64C3F42B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FCE763-7109-4740-93D5-F2E42769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4AA2158-9FEF-45FE-9BD0-BB82F438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D1C0657-5E91-487B-8DE9-E693BA49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01EAF5F-2177-4F0B-B059-1E9D2DC74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F5F9AC1-8565-4864-A5CB-3FC8185E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E39453-B7D4-4369-8E2E-988BCBEE7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7EC7D6-9123-467B-B05A-A767A8E3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E522E7-1225-44C4-BC2E-6712E4E4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7270F4-D2FC-4217-82C8-2100E106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65860B-0830-43C0-A4F0-F802D68E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69D24-938A-4F3E-B351-BA606774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244B7E-E5CB-46A8-933F-E9B24F46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7FF6B9-7565-4A3B-9B50-95C4D559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B757FA-D333-453C-B559-E9C452B8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028A52-044E-4A90-85EF-AC6592D5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8D8965-28C6-468E-8860-A9DA740A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E0B9B4-E239-4C4A-A8C5-B6D89E79A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69B3F8-0C26-4F16-96EF-C840F4C68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0E9A29A-1891-4748-B8AA-5766C666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6A6852E-C6E1-4218-894B-9974D487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2721C75-5A61-4008-BC02-45D5ECC6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67D50E-290B-4789-BFE5-620E3E23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73687FA-95FE-4593-997B-733C59FE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97F3D82-128B-4868-B35C-91C8B6B2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69DB04C-C18B-4EB3-AD89-B48A07D0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6A99C8A-CEFD-4B31-B8CE-CAE5EC11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9F6336D-64B5-4532-B89F-B7478947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05B666B-1B09-46DA-AE75-F8D39162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7812C22-C155-4FE4-912D-29E99890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6B5BC4B-AE7C-4794-B40C-9B627B7B0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2D5B92D-0B51-4A8D-8490-A3AEEA0D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4A34D06-7379-43DB-9968-EE693A31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3421B-94CB-437D-8B1A-E2D54C161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F036676-7DD5-4F55-A23A-55063338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8341ED6-C486-4777-9468-74DDE566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531E09F-9F34-4388-9E95-72BBF785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2D4C0B6-7CB0-47D7-B3BE-57917B53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C8A8259-D307-451C-97E5-865BFD2F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AB33B6E-08C1-4EC4-894D-7DC88C58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D2EBE9C-8485-4371-BC03-349D96BF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543ACA1-B43D-47CD-BFD3-3ACF40E6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4AA212F-0D9A-4FB0-8D88-DCDEBA18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5992B62-2855-48FE-BD76-3E7E20D4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D58F9-BA98-4AC2-86D8-47F33CE68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2C7A388-670C-4397-BEE1-D6E87223C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F3207F-A7E2-4F62-A98F-35CBC62CC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BF28CD-6946-4AEA-82F3-2B4E8781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FE1212-9258-4988-8954-ED204967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97727E-AB94-4CFA-8A2C-ADE3E4B9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9DAC11-2796-454F-B280-EDA2AEFC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F1C8FB-595E-41BE-9D2C-D91F482E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021961-49B9-41FD-B352-A1E161A9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E105BC-BFE6-4C30-8576-748107F2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BF469E-6C9C-4883-8004-9733D996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C655E4-765D-4D99-8B46-60AF26C9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65EA35-8FB0-49A0-BCB4-847180424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70A812-BC14-4490-86AC-FAA2F7291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6D81EA3-1E2E-4511-B21E-F7303B777C12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E99173E-E0CA-4FC2-8361-E8222449B018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067A5F9-FB63-4CBD-929B-DCA2CB212B40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EC13575-8388-4BF4-BD37-C903958C2EF4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C49EB40-5C5F-46BD-A161-35AEC1303E7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562677A-7CB2-44CA-AA7D-914ACDE4BBDF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4100A4B-6E30-43E4-9487-74FC4A1D11DC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B1072F9-912A-463F-9BA8-63B2B15C5E23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EC74D32-3071-4837-8E03-1C029FAF814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4A01CF4-5A3F-44B6-A3B1-703112122F20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BCF1F11-1060-45E8-9698-D7EF4F2B89A3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3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58F3357-215F-41FF-AEE2-2D7A3C8E83A2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1EDBC1-A896-4E77-98F6-C7366DF3F554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03C416-34F8-4EDE-9FA6-4350E8201236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C15E6E-4A73-403D-B81F-B67C063F848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61B833-93D5-45DA-ACCA-44946EDBC155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4F8DED-037F-4E03-A5B0-60509185956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274EAB-2018-4528-B781-8280767263D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020688-EE5E-4152-BE53-64B7D747AD3D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6ECBF9-2B48-4747-8EA1-A8265F8C635A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4E3290-CD0E-4021-B62B-9EF2E6047EF4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047AEA-6885-40DD-A6D7-A96916EAF128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DB9D23-BD69-4F47-8DB4-57F9556BA50A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6A245D-DEB5-4A09-831E-C1C8AAE2DB50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8554A12-11DF-429B-9A6D-18266719EC2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1C23524-5EA3-43A7-9298-0D4ED55AF3A3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1034E5B-42FC-47DA-A995-64B12D9D563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70A373C-6739-41DA-8DA3-6A52BB26DCF0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B441199-2884-4124-ACA7-42D4238D1D36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0656873-D3FB-4D47-AB80-0A84204F5F68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91DB8FF-0AC4-4352-9234-5C4E3DBFB50B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3102213-317A-4409-8968-0328AAEAB47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F44293B-FDF4-4183-B83B-6C1BE30F35B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5A525DE-A415-43E2-A829-83A0800BFA7C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79405B1-C996-4DA7-9890-EAAB1FCFE6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DE9B5-AE84-44DB-8D4D-E79A07B9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7412AA0-D97D-4A9D-8121-65101FA84918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AC348B9-DC16-4601-A4FB-E6A8160565B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48D6487-3A8A-4D51-B791-11A28914F581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1F82D74-8BEA-4314-8223-0CA477CED095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B6D15E8-DE89-4B40-BEBA-09388006307B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6058EE0-3998-466B-8727-D4306F6B9DFE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9FBD04D-2280-47A9-B594-D78C5C895B79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9590244-9C6E-467A-8EA4-2C0ADC4FA461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0F0DBCA-B913-4BE6-8CD3-415C2F5F2AED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CDBC80E-1528-4034-89ED-195CEA9049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3DDAD8F-2A7C-4778-8597-B002B4446DFA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096BF4D-9631-4D10-BA2C-C43CB564A605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2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3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B542525-37CD-46D6-BB5B-5471FDCC3CBA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47ECC2-06A8-4E27-B1EC-1D38662817DC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9CDC92-4DA2-4B76-AF4C-9D89FB35FCBA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62F12D-370F-4BB0-98A5-1FEC2AE20522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D0305E-D770-47D6-B411-76298BFD1AD0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D1589E-3C21-4DAA-A056-C9AD63CB6E14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8EC709-60DA-4DAA-A9C7-3FFDB36C05CC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F0A38B-74FD-4C29-AC40-A9A4BD827C6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DF17A6-BB94-45AA-AE3E-82D78AF56214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95E167-9123-431B-80EF-BB8A04C7E3DA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29B307-2CA1-4E41-A437-8C1D99CF2B8F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A165ED-A146-4794-8CBD-2294D041E771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1AEB6C-6F54-4FE1-8F6E-F684A726F072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1C98261-662D-4727-BB4F-028A3878BD6B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6DA7C0E-CF9C-4BA8-B391-262FD3691A58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9A82F62-1ABE-4A13-BC30-D18FF86B587E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6C97BD5-8FF1-4859-96CE-28F2ED5343D1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1AFEC79-ECB7-4CB2-A2EF-104B86188B2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1260B42-F0DD-43B5-A031-D0E738A8C632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5FCDE5A-A2CB-40C5-BE54-415F350981F8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E81D451-1EDD-46FA-BDEC-0388262FAAEE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93F25DD-37E3-41F7-9D36-EB6992C5C1BE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FBCDC9A-6A68-456A-82DB-EFF3C09EB0D0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1F6A4FB-5278-4A7A-9FE3-FDB14AEEDCB8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8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9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17385AF-1B19-40D2-82F2-4B7E74C13603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7B61F69-F699-4B28-98BE-37A3888F6898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37733D2-522B-4549-AC0E-7B827B386DEB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ABA42E2-3467-4510-BD60-7CFCCBFEEFF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C456F39-CC52-4652-8215-E44BA7F25C58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09F1714-59CE-4D0D-A2A1-C309E9D6C74B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D054359-4B16-4AA9-8DD6-277CD587526A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7F865E0-4AA5-4032-8449-680EDC9A1969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F475D8A-9F78-48D6-B75D-4C29916B787F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631533C-2C2C-43F6-B064-15B676D0B499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2E7E9EA-CD14-469B-BFF3-6996CC5B8283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260989D-F933-4E0F-8FDC-4919177E78D4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1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2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12B023B-3E51-4D9C-AD5B-186D585CD01C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BA8691-F7CF-4E92-9562-385206342F3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E423FD-5D03-442C-941A-F3CB090A9F89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D5B717-1EDC-465A-814C-882BD092003B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2BF2A9-85C9-4574-BCE9-58C254032246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3CEB01-EF30-4676-8DE5-3351AD29C700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4F63BA-B216-4CFE-8D85-9DF67D6902FF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63832F-401C-48AE-92A2-EAA3C3D59772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5CDACD-39AF-49CC-A3B6-00EEFF682C48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4BF581-6FC9-4378-B1EA-39C32229E979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3B1A3B-B07B-4369-B9F6-E785EDF184A1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3C5F5B-A650-447F-B64A-964E7F3F93E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4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5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A8C9DE-C2B9-43CA-84C9-8ED1F5D581C5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BE60D21-554B-4F6E-B030-82BB30345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CE2434B-9D2C-459D-ABCE-312634C6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07BECA6-DAFC-4D14-AC28-38B71605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862A9E5-78FC-442C-B0D4-092787F3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CDB3DCB-DF81-407E-BDB3-94C50799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8188C0E-6E31-4D99-BAED-D2943507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2A0A0A6-509D-413D-84CB-93400BF9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F983543-F3B2-4631-BB93-F3F53A60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40A5156-B03A-4460-BC64-72769232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EBD313-AA90-42BD-8753-E315E86E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5D169CF-8F6A-4617-B231-7EEC9BBB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4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AE596D1-A0BD-43ED-BBA0-2EB03B2C9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9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0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1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EB68698-CE6D-42FE-B194-9D09690EF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9FA249A-BCB4-4ED3-B354-C43AB3D68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474EA93-957F-44E1-ABFF-38369C23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D330FD5-B5A2-4414-BC34-BF84C58B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9DC678F-E289-4B87-B7AD-BD52F8D5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2DEB410-6A2A-4CC9-937A-775343B8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B9C6F00-0631-45BE-8941-A25A00E6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3B8A018-7A1B-4FEF-B535-44B0445C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420A8D-7FDC-4A67-9B14-955C9722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8E68A9D-87A8-4218-990F-DB3CECEA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048E9C8-0132-4E4E-BF80-6E9955F4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1093CEE-BEA7-4B77-AAE8-B70EED51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86C77D0-CF74-491F-AB70-59A69119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31EAA08-00E6-422B-A943-4803A59C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516616B-90F3-414A-A41E-EFE87509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F652EBD-5659-4E36-B521-C68ADB4C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312BDCD-AF2B-4FAF-9ADD-5A5AC24B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ADAA9B5-A2DF-48A2-9C47-564900BF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736BB8F-C92C-4C96-B813-011B16D3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1CB85B-4D40-4A1A-90AB-28979A07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233FE65-9205-47EC-BC4C-3B740273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1522BF5-B648-484E-80F3-303BB721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B9F0CA7-D273-4AB4-BACC-06041A37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93FD5CC-8DD7-4E89-B517-8687E64A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6DD443F-F377-4E56-B432-4A962EC1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8BBF3FF-5C39-4AF3-8266-533A648DF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3C55E7D-1F87-474A-A6C2-E6BE0C5B8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297E7E2-BF44-4712-82BD-21490224D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9ECA371-3260-49F9-852A-7B23C175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1FE12B7-054A-4A1E-A44D-CF2983DC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C6259-15D7-4249-B79D-A4F3538C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FDFF13-36C0-4B5F-B47C-4920FDED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645D3A6-8439-4E95-AADF-AB36642E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361B6C3-8C4C-4D58-B2BE-857E571F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815DF12-A5C7-4C55-B410-3E5010E5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3C2E7A8-A5FD-459C-86D1-61C5774A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BDF78EE-092E-4D88-99D4-B06B12F1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0E6B80E-FF9D-44A1-A53A-96F21719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4AC9C13-8F9F-497B-8C29-93FFF35F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1F23264-5A35-44B9-9F05-2AF3938B2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501B68C-D9CF-404D-8780-D4C7CB3B0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2A155D-7E75-48A7-B115-5D3F554C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29C88E-38DF-4CA9-B3B7-9E7BC013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D6B6DB-504D-4659-A390-C54FEF99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442F06-07E7-4F39-B30D-E0427A8D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2667F9-F1D0-4CDE-A41B-1944BD9A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9575DB-E696-45E3-B4AE-89C994FB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518F45-2FBF-46C3-8649-A308B8B43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5E8081-82C9-42DB-B273-1B0E45267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F32B61-8D8C-4AD7-B9A7-CF77BA0C8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83BFD-E087-4C2E-83B1-49AEDEB6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47E6BC-CFFB-4DD5-BE1D-A5D89A52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6D384F-8D06-44F6-B978-66DF9055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E1B52C-5E7C-4602-9582-ECC99170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14E377-72D5-47C1-9E22-717D74C0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97A7E6-C942-45E5-9DC0-4740FEF4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D2995A-F9DC-4BA1-9ED6-F81C43E7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EC9186-41C5-4B4F-A293-377DFA9E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27446D-675D-4209-B3BB-B835EDC9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B6D174-06CD-4013-B407-A7494DC2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2CA028-2F7B-4236-8601-A93211A3C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8F231-CAA9-4C06-997B-1F608CFE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1E098F-F4DD-48FE-B00D-3F0B0A032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90F2D-DC72-4200-8CA7-FBAF676C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638A9-D413-4397-BBE5-0284CC3D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A24300-068E-4D54-A615-27E299F33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43F525-F9BD-49B3-BB8D-CA152A52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098EFD-A5DB-4E56-8A9B-2F0B28C0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D61884-48BB-4403-A47D-4008D632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5A5109-0F97-461E-9A95-D34FDBCF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77CA4-2006-496B-8618-A8D3822B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7AF79C-6051-4134-9458-BD901B63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6188A3-E309-483E-86E7-531F2D2A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DA0FAC-40CF-450F-AE58-2A67A980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9AC32F-16BA-4784-8A86-CAE5B792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D9BD0D-0049-4002-871F-84D4FCEF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B3139B-23AA-4C9B-BA53-15C69FEC8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2F0C33-B618-4B81-8312-3B211CFFF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F9AEF-D4F0-4F22-986A-384671EEDE9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F3012-A4BC-49DD-AC10-984862529B5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24EC9-AB04-4919-AB58-C2C4E40CC4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97.xml"/><Relationship Id="rId6" Type="http://schemas.openxmlformats.org/officeDocument/2006/relationships/slideLayout" Target="../slideLayouts/slideLayout398.xml"/><Relationship Id="rId7" Type="http://schemas.openxmlformats.org/officeDocument/2006/relationships/slideLayout" Target="../slideLayouts/slideLayout399.xml"/><Relationship Id="rId8" Type="http://schemas.openxmlformats.org/officeDocument/2006/relationships/slideLayout" Target="../slideLayouts/slideLayout400.xml"/><Relationship Id="rId9" Type="http://schemas.openxmlformats.org/officeDocument/2006/relationships/slideLayout" Target="../slideLayouts/slideLayout401.xml"/><Relationship Id="rId10" Type="http://schemas.openxmlformats.org/officeDocument/2006/relationships/slideLayout" Target="../slideLayouts/slideLayout402.xml"/><Relationship Id="rId11" Type="http://schemas.openxmlformats.org/officeDocument/2006/relationships/slideLayout" Target="../slideLayouts/slideLayout403.xml"/><Relationship Id="rId12" Type="http://schemas.openxmlformats.org/officeDocument/2006/relationships/slideLayout" Target="../slideLayouts/slideLayout404.xml"/><Relationship Id="rId13" Type="http://schemas.openxmlformats.org/officeDocument/2006/relationships/slideLayout" Target="../slideLayouts/slideLayout405.xml"/><Relationship Id="rId14" Type="http://schemas.openxmlformats.org/officeDocument/2006/relationships/slideLayout" Target="../slideLayouts/slideLayout406.xml"/><Relationship Id="rId15" Type="http://schemas.openxmlformats.org/officeDocument/2006/relationships/slideLayout" Target="../slideLayouts/slideLayout407.xml"/><Relationship Id="rId16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C579-D5C8-49C2-965B-9AF162A9DF68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14"/>
          <p:cNvSpPr/>
          <p:nvPr/>
        </p:nvSpPr>
        <p:spPr>
          <a:xfrm rot="16147800">
            <a:off x="-934200" y="4590000"/>
            <a:ext cx="27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TSP apakšpad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Num" idx="19"/>
          </p:nvPr>
        </p:nvSpPr>
        <p:spPr>
          <a:xfrm>
            <a:off x="7380000" y="6356520"/>
            <a:ext cx="13064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38F2-60BA-44A0-BA79-628E484A4407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0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BCD0-D511-4135-ADFB-EE28FD711A2F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59A7-8BB4-4BB9-B208-F0C8FC353D3F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4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0C06-E660-4CAA-A46A-450EFE95ADD0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26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A181-5079-4259-B785-C674C0757D65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28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C377-FF62-4D68-9BEE-E4597FF912B5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30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DD0A-D42D-467E-A74A-2F1A89DA5FC3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3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684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FEA6-264C-4ED9-8BFC-EC9340641032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730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732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3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4A31-4F8F-4500-B7BE-B6A8F4491FE2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776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778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3572-B40A-4634-A057-5E4E93B052D2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120F-3C48-48AE-8D65-DD6EAB5190B5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6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822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3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824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5" name="Picture 7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8B5A-C894-4758-86C1-6736FECDEE42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Text Box 114"/>
          <p:cNvSpPr/>
          <p:nvPr/>
        </p:nvSpPr>
        <p:spPr>
          <a:xfrm rot="16147800">
            <a:off x="-934200" y="4590000"/>
            <a:ext cx="27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TSP apakšpad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7"/>
          <p:cNvSpPr/>
          <p:nvPr/>
        </p:nvSpPr>
        <p:spPr>
          <a:xfrm>
            <a:off x="6775560" y="2455920"/>
            <a:ext cx="18144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9" name="Picture 7" descr="tmpl_lat_bruns.png"/>
          <p:cNvPicPr/>
          <p:nvPr/>
        </p:nvPicPr>
        <p:blipFill>
          <a:blip r:embed="rId2"/>
          <a:stretch/>
        </p:blipFill>
        <p:spPr>
          <a:xfrm>
            <a:off x="0" y="1353960"/>
            <a:ext cx="8629560" cy="2419560"/>
          </a:xfrm>
          <a:prstGeom prst="rect">
            <a:avLst/>
          </a:prstGeom>
          <a:ln w="0">
            <a:noFill/>
          </a:ln>
        </p:spPr>
      </p:pic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 type="ftr" idx="45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6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47"/>
          </p:nvPr>
        </p:nvSpPr>
        <p:spPr>
          <a:xfrm>
            <a:off x="3722760" y="6475320"/>
            <a:ext cx="2271600" cy="22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48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21B9-5073-4A2E-AFD0-F297925CC30C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1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953" name="Rectangle 9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4" name="Picture 5" descr="logo2.emf"/>
          <p:cNvPicPr/>
          <p:nvPr/>
        </p:nvPicPr>
        <p:blipFill>
          <a:blip r:embed="rId4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ftr" idx="49"/>
          </p:nvPr>
        </p:nvSpPr>
        <p:spPr>
          <a:xfrm>
            <a:off x="1720800" y="6410160"/>
            <a:ext cx="5508720" cy="22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sldNum" idx="50"/>
          </p:nvPr>
        </p:nvSpPr>
        <p:spPr>
          <a:xfrm>
            <a:off x="7380000" y="6356520"/>
            <a:ext cx="13064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B391-9A60-4188-85CC-4C104FD20060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6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sldNum" idx="51"/>
          </p:nvPr>
        </p:nvSpPr>
        <p:spPr>
          <a:xfrm>
            <a:off x="7380000" y="6356520"/>
            <a:ext cx="13064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D6AA-31A7-46B5-8109-248D446F7081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ftr" idx="5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9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 type="sldNum" idx="5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5F19-6178-4D20-9E31-D0966C670D30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 type="ftr" idx="54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2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 type="sldNum" idx="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8040-1267-4261-A4B5-A71267CDF708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 type="ftr" idx="56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5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F634-2258-4E17-9D72-8E11B450A8AE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 type="ftr" idx="58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8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 type="sldNum" idx="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C5DD-C910-4A76-AC34-1EBFA1100129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 type="ftr" idx="60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1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212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 type="sldNum" idx="6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D109-0792-417D-9F6D-17822272E9A5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 type="ftr" idx="6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4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255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1E4C-996F-4553-8A50-071788F3CEC6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 type="ftr" idx="64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1297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8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299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0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 type="dt" idx="6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 type="ftr" idx="6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 type="sldNum" idx="6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2FD6-B6B1-43CD-98DB-53D918DEFC21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2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1343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4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45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6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 type="dt" idx="6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 type="ftr" idx="6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 type="sldNum" idx="7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D1D6-73C2-4EA0-99AC-58746EBEEC83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8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1389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0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91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2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 type="dt" idx="7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 type="ftr" idx="7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 type="sldNum" idx="7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AECB-B386-4985-8453-131D31E9D6C8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1435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6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437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8" name="Picture 7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7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7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7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3F66-AF5C-42B5-A6FA-2A622017BC79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5"/>
    <p:sldLayoutId id="2147484079" r:id="rId6"/>
    <p:sldLayoutId id="2147484080" r:id="rId7"/>
    <p:sldLayoutId id="2147484081" r:id="rId8"/>
    <p:sldLayoutId id="2147484082" r:id="rId9"/>
    <p:sldLayoutId id="2147484083" r:id="rId10"/>
    <p:sldLayoutId id="2147484084" r:id="rId11"/>
    <p:sldLayoutId id="2147484085" r:id="rId12"/>
    <p:sldLayoutId id="2147484086" r:id="rId13"/>
    <p:sldLayoutId id="2147484087" r:id="rId14"/>
    <p:sldLayoutId id="2147484088" r:id="rId15"/>
    <p:sldLayoutId id="2147484089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8"/>
          </p:nvPr>
        </p:nvSpPr>
        <p:spPr>
          <a:xfrm>
            <a:off x="731520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4AEE-B60A-4542-A7F9-F86C9C6EF23D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9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14"/>
          <p:cNvSpPr/>
          <p:nvPr/>
        </p:nvSpPr>
        <p:spPr>
          <a:xfrm rot="16147800">
            <a:off x="-934200" y="4590000"/>
            <a:ext cx="27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TSP apakšpad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0AB5-7EF9-40E6-B8A2-04C7D383C28F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14"/>
          <p:cNvSpPr/>
          <p:nvPr/>
        </p:nvSpPr>
        <p:spPr>
          <a:xfrm rot="16147800">
            <a:off x="-934200" y="4590000"/>
            <a:ext cx="27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TSP apakšpad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6775560" y="2455920"/>
            <a:ext cx="18144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7" descr="tmpl_lat_bruns.png"/>
          <p:cNvPicPr/>
          <p:nvPr/>
        </p:nvPicPr>
        <p:blipFill>
          <a:blip r:embed="rId2"/>
          <a:stretch/>
        </p:blipFill>
        <p:spPr>
          <a:xfrm>
            <a:off x="0" y="1353960"/>
            <a:ext cx="8629560" cy="24195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13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5"/>
          </p:nvPr>
        </p:nvSpPr>
        <p:spPr>
          <a:xfrm>
            <a:off x="3722760" y="6475320"/>
            <a:ext cx="2271600" cy="22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A928-0BD8-4915-BDE2-518526C26A3D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9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icture 5" descr="logo2.emf"/>
          <p:cNvPicPr/>
          <p:nvPr/>
        </p:nvPicPr>
        <p:blipFill>
          <a:blip r:embed="rId4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ftr" idx="17"/>
          </p:nvPr>
        </p:nvSpPr>
        <p:spPr>
          <a:xfrm>
            <a:off x="1720800" y="6410160"/>
            <a:ext cx="5508720" cy="22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sldNum" idx="18"/>
          </p:nvPr>
        </p:nvSpPr>
        <p:spPr>
          <a:xfrm>
            <a:off x="7380000" y="6356520"/>
            <a:ext cx="13064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7431-C2FA-4BE2-97A7-352033B4BBE7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900000" y="1045800"/>
            <a:ext cx="7920000" cy="10126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Nacionālās Trīspusējās </a:t>
            </a:r>
            <a:br>
              <a:rPr sz="3600"/>
            </a:b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sadarbības padomes </a:t>
            </a:r>
            <a:br>
              <a:rPr sz="3600"/>
            </a:b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2009.gada darbības pārsk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subTitle"/>
          </p:nvPr>
        </p:nvSpPr>
        <p:spPr>
          <a:xfrm>
            <a:off x="1835280" y="2565360"/>
            <a:ext cx="5857920" cy="175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Sēdes – </a:t>
            </a:r>
            <a:r>
              <a:rPr b="1" lang="lv-LV" sz="2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 (1 ārkārta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lv-LV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gatavoti </a:t>
            </a:r>
            <a:r>
              <a:rPr b="1" lang="lv-LV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84</a:t>
            </a:r>
            <a:r>
              <a:rPr b="0" lang="lv-LV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tzinumi par ministriju iesniegtajiem tiesību aktu projektiem</a:t>
            </a: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1" lang="lv-LV" sz="2600" spc="-1" strike="noStrike">
                <a:solidFill>
                  <a:srgbClr val="000000"/>
                </a:solidFill>
                <a:latin typeface="Tahoma"/>
              </a:rPr>
              <a:t>ociālās drošības apakšpadome. </a:t>
            </a:r>
            <a:br>
              <a:rPr sz="2600"/>
            </a:br>
            <a:r>
              <a:rPr b="1" lang="lv-LV" sz="2600" spc="-1" strike="noStrike">
                <a:solidFill>
                  <a:srgbClr val="000000"/>
                </a:solidFill>
                <a:latin typeface="Tahoma"/>
              </a:rPr>
              <a:t>Galv</a:t>
            </a:r>
            <a:r>
              <a:rPr b="1" lang="lv-LV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enie jautājumi 2009. gadā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valsts sociālās apdrošināšanas speciālā budžeta ieņēmumu un izdevumu  izpildes gaitu 2009.gada 1.pusgadā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bezalgas atvaļinājumu dienu piemērošanai sociālās apdrošināšanas pakalpojumu aprēķināšan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 plānoto valsts pensiju reform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plānotajām izmaiņām valsts sociālās apdrošināšanas jomā. Par sociālās drošības tīkla stratēģij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Koncepciju par mikrouzņēmumu atbalsta pasākumi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risinājumiem situācijās, kad uzņēmumam maksātnespējas gadījumā ir parāds pret privāto pensiju fondu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 txBox="1"/>
          <p:nvPr/>
        </p:nvSpPr>
        <p:spPr>
          <a:xfrm>
            <a:off x="1332000" y="1989000"/>
            <a:ext cx="7424640" cy="38815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93000"/>
          </a:bodyPr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Teritorijas plānošanas sistēma tuvākajā piecgadē</a:t>
            </a: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Reģionālās attīstības likuma grozījumi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Latvijas ilgtspējīgas attīstības stratēģijas projekts (LIAS)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Rajona pašvaldību reorganizācijas gait</a:t>
            </a: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a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riekšlikumi valsts funkciju decentralizācijai</a:t>
            </a: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Vienas pieturas aģentūras principa ieviešana valsts un pašvaldību pakalpojumu sniegšanai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lānošanas reģionu ekonomiskā profila izstrāde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otenciālo īpaši atbalstāmo teritoriju noteikšanas metodika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Latvijas ilgtspējīgas attīstības stratēģijas projekts un tā turpmākā virzība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Reģionālās attīstības trīspusējās sadarbības apakšpadome (RATSA) – 4 sēdes</a:t>
            </a:r>
            <a:br>
              <a:rPr sz="2200"/>
            </a:br>
            <a:r>
              <a:rPr b="1" lang="lv-LV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 gad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"/>
          <p:cNvSpPr txBox="1"/>
          <p:nvPr/>
        </p:nvSpPr>
        <p:spPr>
          <a:xfrm>
            <a:off x="1476000" y="1484280"/>
            <a:ext cx="7343640" cy="43243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95000"/>
          </a:bodyPr>
          <a:p>
            <a:pPr marL="577440" indent="-577440">
              <a:spcBef>
                <a:spcPts val="49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Eiropas Savienības klimata - enerģētikas likumdošanas paketes pamatprincip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spcBef>
                <a:spcPts val="49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Grozījumi Ministru kabineta 2002.gada 9.jūlija noteikumos Nr.294 „Kārtība, kādā piesakāmas A, B un C kategorijas piesārņojošas darbības un izsniedzamas atļaujas A un B kategorijas piesārņojošu darbību veikšanai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Atjaunojamo energoresursu izmantošanas veicināšanas tiesiskais regulēju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Informācija par iespējamiem risinājumiem ekonomikas atveseļošanas un enerģētikas neatkarības sakar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Vides ministrijas un padotībā esošo iestāžu reorganizācijas rezultā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Klimata pārmaiņu finanšu instrumenta finansēto projektu iesniegumu atlases izsludināšanas plānu 2009./2010. gad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720800" y="27432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Vides aizsardzības lietu trīspusējās sadarbības apakšpadome (VALTSA) – 4 sēdes</a:t>
            </a:r>
            <a:br>
              <a:rPr sz="2200"/>
            </a:br>
            <a:r>
              <a:rPr b="1" lang="lv-LV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gadā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1692360" y="40428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Profesionālās izglītības un nodarbinātības trīspusējās sadarbības apakšpadome (PINTSA) – 10 sēdes Galvenie jautājumi 2009. gadā</a:t>
            </a:r>
            <a:r>
              <a:rPr b="0" lang="lv-LV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Rectangle 4"/>
          <p:cNvSpPr/>
          <p:nvPr/>
        </p:nvSpPr>
        <p:spPr>
          <a:xfrm>
            <a:off x="1476360" y="1557360"/>
            <a:ext cx="748836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rofesionālās izglītības iestāžu tīkla optimizācijas programmas projek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Ekonomiskās krīzes un ekonomikas stabilizācijas plāna ietekme uz nodarbinātību un MVU un inovācijas loma ekonomikas atveseļošanā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Atbalstāmo profesionālās izglītības iestāžu un tajās modernizējamo izglītības programmu saraksta apstiprināšan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Augstākās izglītības finansēšanas problēm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Strukturālās reformas profesionālajā izglītībā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rofesionālās izglītības attīstība un audzēkņu uzņemšanas plāns 2009.gadam profesionālās izglītības iestādē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Ekonomikas ministrijas līdzekļu izlietojums nodarbināto apmācībai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"/>
          <p:cNvSpPr txBox="1"/>
          <p:nvPr/>
        </p:nvSpPr>
        <p:spPr>
          <a:xfrm>
            <a:off x="1476000" y="1483920"/>
            <a:ext cx="7410600" cy="438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692360" y="40428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Darba lietu trīspusējā sadarbības apakšpadome</a:t>
            </a: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(DLTSA) – 4 sēdes </a:t>
            </a:r>
            <a:br>
              <a:rPr sz="2200"/>
            </a:br>
            <a:r>
              <a:rPr b="1" lang="lv-LV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 gadā</a:t>
            </a: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Rectangle 1028"/>
          <p:cNvSpPr/>
          <p:nvPr/>
        </p:nvSpPr>
        <p:spPr>
          <a:xfrm>
            <a:off x="1476360" y="1484280"/>
            <a:ext cx="741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grozījumiem Darba likuma 96.pant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Darba aizsardzības jomas attīstības programmas 2008. – 2010.gadam izpildi 2008.gad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Valsts darba inspekcijas 2008.gada darbības rezultātiem un plānotiem darbi 2009.gad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Minimālā dienas/nedēļas darbalaika noteikšana darba līgum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likuma atlaišanas pabalstu valsts un pašvaldību institūciju amatpersonām un darbinieki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ienākumu no sezonas darbiem uzskaitīšanas atvieglojumi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Vidējās izpeļņas aprēķināšana gadījumā, kad pēdējo sešu mēnešu laikā darbinieks ir slimojis un strādājis tikai pāris mēneš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Atlīdzības (gadījumos, kad darbinieks neveic darbu attaisnojošu iemeslu dēļ) aprēķināšanas problē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iespējamām krāpnieciskām darbībām saistībā ar kompensāciju izmaksu pēc darba tiesisko attiecību izbeigšanās par neizmantoto ikgadējo apmaksāto atvaļināju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"/>
          <p:cNvSpPr txBox="1"/>
          <p:nvPr/>
        </p:nvSpPr>
        <p:spPr>
          <a:xfrm>
            <a:off x="1692360" y="1268280"/>
            <a:ext cx="696600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720440" y="274680"/>
            <a:ext cx="7172280" cy="12096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Veselības aprūpes nozares apakšpadome</a:t>
            </a: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(VANA) – 4 sēdes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 gad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Rectangle 4"/>
          <p:cNvSpPr/>
          <p:nvPr/>
        </p:nvSpPr>
        <p:spPr>
          <a:xfrm>
            <a:off x="1619280" y="1773360"/>
            <a:ext cx="727380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darba samaksu veselības aprūpē strādājošaj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aktualitātēm veselības aprūpes finansēšanā no valsts budž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Cilvēkresursu nodrošinājums Latvijas slimnīcā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Veselības aprūpes pakalpojumu tarifu atbilstība izmaksā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2009. gada valsts budže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Grozījumiem Ministru kabineta 2006. gada 19. decembra noteikumos Nr. 1046 „Veselības aprūpes organizēšanas un finansēšanas kārtīb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59312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Transporta un sakaru nozares trīspusējās sadarbības apakšpadome</a:t>
            </a: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(TSNTSA) – 1 sēde. </a:t>
            </a:r>
            <a:br>
              <a:rPr sz="2200"/>
            </a:br>
            <a:br>
              <a:rPr sz="2200"/>
            </a:b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Galvenie jautājumi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Rectangle 4"/>
          <p:cNvSpPr/>
          <p:nvPr/>
        </p:nvSpPr>
        <p:spPr>
          <a:xfrm>
            <a:off x="1476360" y="2276640"/>
            <a:ext cx="72738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darba grupas izveidi taksometru pakalpojumu sniegšanas izvērtēša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Satiksmes ministrijas budžetu 2010.gadā un paredzēto finansējumu funkciju izpildei (sabiedriskais transports, autoceļi ut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1436400" y="1599840"/>
            <a:ext cx="7250040" cy="39164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Tahoma"/>
              </a:rPr>
              <a:t>Lielākā daļa no NTSP apakšpadomēm vēl nav apstiprinājušas darba plānus 2010.gadam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Tahoma"/>
              </a:rPr>
              <a:t>Šādu informāciju iespējams papildus sagatavot līdz nākamajai NTSP sēdei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Tahoma"/>
              </a:rPr>
              <a:t>Paldies par uzmanību!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/>
          </p:nvPr>
        </p:nvSpPr>
        <p:spPr>
          <a:xfrm>
            <a:off x="1436400" y="1599840"/>
            <a:ext cx="7250040" cy="42051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lnSpc>
                <a:spcPct val="90000"/>
              </a:lnSpc>
              <a:spcBef>
                <a:spcPts val="15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irms un pēc sēdēm sagatavotas un nosūtītas preses relīz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lnSpc>
                <a:spcPct val="90000"/>
              </a:lnSpc>
              <a:spcBef>
                <a:spcPts val="15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agatavoti 48 NTSP pieteikumi atzinumu sniegšanai par VSS izsludinātiem tiesību aktu projekti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lnSpc>
                <a:spcPct val="90000"/>
              </a:lnSpc>
              <a:spcBef>
                <a:spcPts val="15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agatavoti 48 VSS protokolu izraksti un nosūtīti LDDK un LB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lnSpc>
                <a:spcPct val="90000"/>
              </a:lnSpc>
              <a:spcBef>
                <a:spcPts val="15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niegta informāciju par precizētiem tiesību aktu projektiem un uzaicinājumiem uz starpinstitūciju sanāksmē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NTSP sekretariāts sadarbībā ar sociālajiem partneriem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643040" y="428400"/>
            <a:ext cx="710568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1285560" y="1999800"/>
            <a:ext cx="7605720" cy="2994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000000"/>
                </a:solidFill>
                <a:uFillTx/>
                <a:latin typeface="Tahoma"/>
              </a:rPr>
              <a:t>28.01.2009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 uzņēmējiem nepieciešamajiem finanšu </a:t>
            </a: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strumentiem tautsaimniecības stabilizācija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000000"/>
                </a:solidFill>
                <a:uFillTx/>
                <a:latin typeface="Tahoma"/>
              </a:rPr>
              <a:t>11.02.2009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Sociālo partneru Latvijas Darba devēju konfederācijas (LDDK) un Latvijas Brīvo arodbiedrību savienības (LBAS) un Latvijas Pašvaldību savienības (LPS) prasības krīzes pārvarēšana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ubTitle"/>
          </p:nvPr>
        </p:nvSpPr>
        <p:spPr>
          <a:xfrm>
            <a:off x="1285560" y="1928520"/>
            <a:ext cx="7620120" cy="2994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000000"/>
                </a:solidFill>
                <a:uFillTx/>
                <a:latin typeface="Tahoma"/>
              </a:rPr>
              <a:t>25.03.2009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ārvalstu aizdevuma līdzekļu izlietojuma uzraudzības komisijas izvei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plānotajiem grozījumiem Valsts budžet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Tahoma"/>
              </a:rPr>
              <a:t>Par likumprojektu „Grozījums Darba likumā”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title"/>
          </p:nvPr>
        </p:nvSpPr>
        <p:spPr>
          <a:xfrm>
            <a:off x="1643040" y="428400"/>
            <a:ext cx="710568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1643040" y="285480"/>
            <a:ext cx="717696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1218960" y="157140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000000"/>
                </a:solidFill>
                <a:uFillTx/>
                <a:latin typeface="Tahoma"/>
              </a:rPr>
              <a:t>15.04.2008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likumprojekta “Par vienotu valsts un pašvaldību institūciju amatpersonu (darbinieku) atlīdzības sistēmu” pamatnostādnēm</a:t>
            </a: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aktualitātēm veselības aprūpes finansēšanā no valsts budže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29.04.2008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priekšlikumiem un valdības atbildēm uz LDDK, LBAS un LPS prasībām (krīzes pārvarēšana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1571400" y="142560"/>
            <a:ext cx="710388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1285560" y="1714680"/>
            <a:ext cx="7620120" cy="36144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 u="sng">
                <a:solidFill>
                  <a:srgbClr val="000000"/>
                </a:solidFill>
                <a:uFillTx/>
                <a:latin typeface="Tahoma"/>
              </a:rPr>
              <a:t>20.05.2009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priekšlikumiem likumprojektā „Grozījums Darba likumā” (atlaišanas pabalst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izglītības un zinātnes situāciju Latvijā. Par profesionālo izglītību (arī 1.0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 u="sng">
                <a:solidFill>
                  <a:srgbClr val="000000"/>
                </a:solidFill>
                <a:uFillTx/>
                <a:latin typeface="Tahoma"/>
              </a:rPr>
              <a:t>01.07.2009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budžeta grozījumiem 2009. gad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valdības priekšlikumiem 2010.gada budžetam un plānotajiem 2010.-2012.gada budžeta ieņēmumiem un izdevumiem</a:t>
            </a:r>
            <a:r>
              <a:rPr b="1" i="1" lang="lv-LV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Reformu vadības grupas izveidi, darbības principi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1714680" y="285480"/>
            <a:ext cx="717840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subTitle"/>
          </p:nvPr>
        </p:nvSpPr>
        <p:spPr>
          <a:xfrm>
            <a:off x="1213920" y="1928520"/>
            <a:ext cx="7620120" cy="2994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 u="sng">
                <a:solidFill>
                  <a:srgbClr val="000000"/>
                </a:solidFill>
                <a:uFillTx/>
                <a:latin typeface="Tahoma"/>
              </a:rPr>
              <a:t>12.08.2009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Eiropas Komisijas ierosinājumu atteikties no valsts līdzfinansējuma struktūrfondu apguvē un NTSP Veselības aprūpes nozares apakšpadomes ierosinājumu ieekonomētos līdzekļus novirzīt veselības aprūpei</a:t>
            </a:r>
            <a:r>
              <a:rPr b="1" lang="lv-LV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 u="sng">
                <a:solidFill>
                  <a:srgbClr val="000000"/>
                </a:solidFill>
                <a:uFillTx/>
                <a:latin typeface="Tahoma"/>
              </a:rPr>
              <a:t>26.10.2009. (ārkārtas sē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ar likumprojektu "Par valsts budžetu 2010. gadam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likumprojekta “Par vienotu valsts un pašvaldību institūciju amatpersonu (darbinieku) atlīdzības sistēmu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subTitle"/>
          </p:nvPr>
        </p:nvSpPr>
        <p:spPr>
          <a:xfrm>
            <a:off x="1285560" y="1714680"/>
            <a:ext cx="7620120" cy="29937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marL="608040" indent="-60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000000"/>
                </a:solidFill>
                <a:uFillTx/>
                <a:latin typeface="Tahoma"/>
              </a:rPr>
              <a:t>25.11.2009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c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valdības un starptautisko aizdevēju sarunām par 2010.gada valsts budžetu un to rezultātu ietekmi uz Latvijas tautsaimniecības attīstību un uzņēmējdarbības vi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c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ES fondu apguvi un finanšu pieejamību uzņēmējdarbības un infrastruktūras atbalst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c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sociālo dialogu iekšlietu sistēm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250040" cy="14702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"/>
          <p:cNvSpPr txBox="1"/>
          <p:nvPr/>
        </p:nvSpPr>
        <p:spPr>
          <a:xfrm>
            <a:off x="1476360" y="1196640"/>
            <a:ext cx="7416720" cy="47530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valsts sociālās apdrošināšanas speciālā budžeta izpildi 2008.gadā un par valsts sociālās apdrošināšanas speciālā budžeta plānu 2009.gad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valsts sociālās apdrošināšanas sistēmas finansēšanas nodrošināšan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Valsts fondēto pensiju shēmas darbību 2008.gad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lānotie grozījumiem tiesību aktos sociālās drošības jomā 2009.gada valsts budžeta grozījumu likumprojekta paketē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Valsts sociālās apdrošināšanas obligāto iemaksu parāda piedziņas rezultāti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ANO Konvencijas “Par personu ar invaliditāti tiesībām” sagatavošanas ratifikācijai gait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ES likumdošanas iniciatīvām dzimumu līdztiesības jomā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1692360" y="-360"/>
            <a:ext cx="6966000" cy="1353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1" lang="lv-LV" sz="2600" spc="-1" strike="noStrike">
                <a:solidFill>
                  <a:srgbClr val="000000"/>
                </a:solidFill>
                <a:latin typeface="Tahoma"/>
              </a:rPr>
              <a:t>ociālās drošības apakšpadome (SDA) – 7 sēdes. </a:t>
            </a:r>
            <a:r>
              <a:rPr b="1" lang="lv-LV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 gadā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1:11:42Z</dcterms:created>
  <dc:creator>Inese Erge</dc:creator>
  <dc:description/>
  <dc:language>en-US</dc:language>
  <cp:lastModifiedBy>Gunta Freimane</cp:lastModifiedBy>
  <dcterms:modified xsi:type="dcterms:W3CDTF">2010-01-06T14:24:52Z</dcterms:modified>
  <cp:revision>40</cp:revision>
  <dc:subject/>
  <dc:title>Nacionāli trīspusējās sadarbības padomes sekretariāts</dc:title>
</cp:coreProperties>
</file>