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5F95-C93B-465D-A106-3CC130E6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D1F3-21DC-43A2-B642-72B02876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41DAC-7B22-4EA1-A893-978E8A0264F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C7D96-8D9C-4151-AC93-3AAB0F31F02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D7C48-E02D-41D8-91B5-893D685E905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E9220-904D-42B2-B4B2-83155FC0B57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AC6AA-D320-4A04-AD4C-B574391193F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FA84B-7819-4F99-8077-DE4EC2A9C05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AC463-833F-4D57-AEAC-E2240630DA8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2C489-FD37-45F8-B9BF-714497FEB76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6A836-9AA3-49B5-BBCF-1A331100971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20A9E3-9D35-4815-AAA4-B66B431AB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3513A-C835-47C3-9E8E-79778975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0ADBC3-7AAC-4C58-93EA-3556B3A8F40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126283-289C-43CA-8705-4A7B9954178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78055E-685B-4D97-8728-EEFAE7B2132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719586-2F9C-4407-A564-C03EEE06D3A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09F61E-713B-4BC6-B802-63388D61F8C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3A94FA-8489-4DF7-83C6-DDCFB512ED2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352DB6-25EC-4D15-9063-3CA955D3589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11D72A-667D-49FE-BB53-9B09101EDCA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51B007-9101-4069-965F-8683D36318B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54D138-8EAB-4A21-8DF5-3D393227C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9AAE-5EBE-4135-B6FC-D16AD553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226BFF-7CEB-42FA-9450-9DA9D5985CB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7936E-3659-4DBF-BB48-DDF7C0C4DCA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C8E3D-2593-452A-928E-08B2E357DCE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8BC74-4CCF-4431-A9EF-AAA53451EF1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2C1D5-D83B-4DD8-809A-FC889D01444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3D3FC-D257-4C88-96AA-ED051233A32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7FFB8-9BAF-4039-9D47-6D97FD37C7A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1C81A-8BFF-4DD3-B5F6-E6F5EC5ED68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93882-855C-4922-81CF-9A9EC143D8E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3C0F1-1ACE-4DE4-AF23-F79C5D10D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7D9F4-B465-46FF-A964-E323872B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EE448-DF07-4E78-9E22-9CCB3501326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03B91-222E-4530-8286-0B588D8386C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D16C1-04BC-43A4-90CF-54EAD992BFB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19C4A9-27F4-4F9E-9A72-6E5E236CA30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5136C8-1FC9-4BC3-87C0-3BE6348B888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747508-A2F7-431D-8A58-41FA9BDF017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5DE2C9-102D-4B48-AABF-B73CF2E5AFC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710140-6887-4DA1-AE64-E4BE9CEB8E8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E7D1AD-FB9D-4D1F-8641-F2BBBA1B3E3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B4F698-FE6E-485D-910E-6DD365AB36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B13D9-2CC7-4255-BCE8-B8974E6A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63041F-7B9A-4AF1-86E1-795FFCE4DB5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02DEC4-5D43-4F28-A2EC-93432A473AB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1CBD3F-C561-42F1-A9C1-11B5F0091B6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F759B5-8A2E-412B-B903-171B8FC3B94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CD84E4-CF31-435E-9171-F15CBA27722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F1D15-59CA-40C3-BE30-4AC7B77CE13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C8751-4043-474D-9B51-B5A9DB8969F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5E5F8-1C2D-4F5E-864A-A4D89CBD41A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ADF21-9471-428B-BAE3-7A6CC119395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13A76-95D9-48E0-BF83-64DC74C1D9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F5638-9825-436C-9436-A10C4C45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CE752-467D-4848-85AF-8AF6BE1936D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D3FAD-9AAA-444D-AD9D-9407F0B4674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FEDF8-1C65-48C8-ABC9-57623F8184A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A601A-C17A-4C82-ADAF-825A45807A8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E60C6-1561-4AB9-B225-D5ADB4C2514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7CAC62-320E-48AA-B0EF-A86F772523A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75001-BBB5-4906-92B7-B89F05D11C7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41F60-6015-444F-A45C-6D8FEDDDDD1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BFEEA-D8C3-4B3F-A188-5CC658DF3D0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7BEE3-4F7C-4665-B566-3EBE2C79D7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4B81C-9BA1-4867-95F5-15757201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E0A62-128D-4AED-8B63-FE32E435202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02446-1F18-4112-9C38-A2446CAA061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33ED6-ADB4-42EC-AA78-A23AC1FCEE2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035A6-A631-4F0D-8E3A-241B83840C9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9F309-2F66-4329-B8A9-509FA242CAF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59B32-6997-4EE1-B44C-2AA608C10F5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CB09A-A3FF-4D4E-BC98-83BF7AB7756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337E7-6774-40DE-9DD4-83BA80CB058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42BB6-7ACD-42AC-AACF-41EDE1261AF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200BD1-8DF3-499A-AA72-F38C5823D3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74887-5A5D-4E4F-A737-A78850F1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A5C6D4-47D2-4650-ABE0-BCF7474310F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9A57DA-1CC2-4F6B-90A0-5B183D06DCC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F2CAE9-CABB-447B-AB68-6805BD7D096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131085-812B-4DA6-9ED4-8667987FE6A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81950B-DAD8-402B-8FA6-8B171B197D8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9DEAA9-C6A1-4862-BE86-C3239D8583D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2F3C60-8EB8-489A-90AB-D6C215867CA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DD8F04-ED22-48A0-A718-6AECDB06A32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678B6A-51E5-4431-850B-BF14C188255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479194-B0CE-415E-9839-01620E91F7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B3477-C761-47B3-8E38-B2165BEB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A42B0B-97BB-420D-A6A3-702B85F7A41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EDFEAE-2D0A-4CC8-B468-8E1FF503C7D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8C3E0F-9C4C-41EB-9409-CBEFABD99E4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115155-C4D0-4EB9-91A9-828593EB621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9A9F99-8733-4B22-BD62-2B0B8F476A6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DE7E42-114B-42ED-847D-8B09A10E2D0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62748E-ECC6-4F6C-985F-8B4C6DB85FC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4E4495-30D3-4205-BEEC-4A80061E6F0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31DC42-025D-402C-99BD-291BB4286F6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692535-D575-4214-AB44-CE2AEB3CDD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3081E-41F6-4A63-9BA3-2630FEF1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CBD2EB-23DF-482D-8C44-37CA010D678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BDD381-DDAC-4429-8BDE-7D5E0313253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CE76A0-115A-4975-87A1-065F3FEEED8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D7FF59-492D-4468-B142-2BB20D03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38452D-2BFB-4436-B9F4-E6DF81BC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863FDF-8987-4162-B742-44355BB4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DD5175-54D7-4D4D-BB0F-792EC669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4C62C0-C899-4F2C-B10F-58F47A95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390B8F-95E3-4129-AF65-B1AE6E8E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273D2A-C9C4-4F9C-8311-B4BD1153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CA18-520E-49BD-B222-A544BD0F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6D8A0-4F68-4017-BB10-59D9E040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07F71F-C149-4D2F-A5B2-2167F420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04FFC1-022F-4181-BC18-8002A586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BC50F7-08C5-46E3-A37A-A2A62723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A1CB88-AE94-45EC-9025-B739AA57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BFF74D-CE21-4A52-941C-4A2657C5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4315E5-1F8B-4251-806A-DDB617AB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CF6783-60B6-4F2F-BA63-A33AB0A7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212CAB-8C44-4139-A6F1-6699E664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A95D8F-F3A0-4053-BC21-18D19803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FD9B90-F020-48B2-B9CB-809AD394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BB73F-FBD8-488F-A2AB-53A5E1E3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3E7C3B-FBF7-4C8B-9CEE-F73F7CE7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63F5FE-76AA-4D62-835F-FC25D2D7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5C83BB-704C-45FB-8342-1060A7CB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F07F44-5B5A-42FA-A370-F97CF2F7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41DCEE-A886-43CB-AAE9-99BC737F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E07E6D-99E8-42FC-86C3-EE97EB81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58D839-CDE1-4AAB-A1AE-8737B445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521A04-1ABB-4810-84C1-B16F755A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52100B-7B05-4FB4-82F8-28466A7B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218792-FC03-4C4B-A962-5D992FA8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4A988-50CB-4B03-A7BB-A6389C79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82DC62-7CDB-4BB6-BD03-2CA8AF49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53AE04-534D-46D8-A984-FD7A5AC5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A57D6F-7E27-4D70-BA6B-348B79E0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EA8E15-131D-48A7-AC3D-DF975AB7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0E3450-3FAA-44EF-BE04-8B0F1DC6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45B323-4325-40AF-9F3A-77E8568C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45D35E-E618-4CF6-8075-0D6C3E33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4F00E5-9247-43D7-9351-8576156A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F54CB5-F7D0-456E-A72A-AE2A9270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A03870-95C1-42B5-8D1F-9D091CED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872AF-2974-4134-AD34-204BE987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9F2D1D-0BBD-49FA-AE21-45B684AA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4CB544-C3A2-439A-B773-A3513A8D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AD208D-7C88-408D-92F0-C8A4C4E0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F3B2A4-808B-4061-A667-EC063C53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FE2F80-32D0-45D0-868A-9724AC5A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D7D31A-75A3-4136-8215-AC0D9413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54BFB8-55AB-4E67-8537-81CAFD88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8EE013-C61C-47D0-B4D5-4372CB66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5F2218-1D81-4903-A3CA-9575CEAD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0BBC76-D86D-40B6-950F-C40F5623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3B669-F410-4E50-85D9-A86163DE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239E19-A1FC-401C-89AF-15432601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1DF08-A230-4368-859F-322519F2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18A4AA-70FA-48E8-92D0-316E46B2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CDEAFE-61EC-48EB-BC54-86E506E1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D0C549-4B9F-48E4-AC9A-AFD63DCF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48E378-4906-45CD-B0A0-D4B4740D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AFEF9-6E20-4020-A079-B305CE08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EFC1D9-019C-4979-9AF2-3117139C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E935A2-DEEC-4299-9757-36574711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06DB00-48F7-466C-AAD5-32A2005C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45509-5576-4857-B091-0ADF10C7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A30EB-113A-475A-91FD-EF7AC740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9AF6FE-43F2-4592-B3A3-D44D9CFB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51A6EB-87FE-4935-88E0-E30510881BA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C33C6F-19D4-40D0-8701-3777F9CC137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39C292-0683-4822-9CFA-3A3661F2A1B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EB00FC-60E5-436D-A1DE-1A41736A624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1F0BBAD-4F32-4851-8A1A-9726DC00B3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7994E8-58EE-417A-A1F7-6152813BE99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3B4C2BE-C405-4688-9F75-F4209219B7D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E62F8C1-D444-49DA-94ED-D2844484040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658C530-4A06-4687-AB8A-C816F2D3231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AD3CD08-FB26-4BE2-8CC6-928040B6B43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5EABB8-FEB7-4914-B8A4-A8F73B4E3D6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BCDB10-1FCD-4D58-BED5-F649105BCAE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607E61-666B-4536-8678-31F5C651D5B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DFC7DA-CC85-4191-9C6A-A413242C1ED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E9906F-A295-4778-99FD-262BF5F695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F22DA-325C-421A-84D2-A8A965C9332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0A6006-651F-44A2-B382-51F7C818EA0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CA02D6-FFAF-4B4D-8275-AC65162ED13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9B1AD-46EE-4761-9CFD-3C46AE1447F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B358F1-AD29-4792-B27E-D8FB38CA640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9A735C-4A36-4369-B4ED-1881F644724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BEE891-AA68-4ADF-AC65-4FB600213FF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4E428-D7AB-4029-BFBA-40B3DFAB003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BE45BD-548C-4353-AD48-9B5CDE061B6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DF0DC76-3228-4CBE-8CFA-56AD966012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2AE8273-923B-406C-80E6-5C3E1E06320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C8ACBDA-DA40-4BCB-AFEA-7AF3CCE9FCD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17378FA-F223-47E5-B5E3-7BC72F98903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394CDF3-7C81-4865-A1D5-60FBAE83A71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DF1F50F-88DA-4B6F-9A35-E56B2D1946B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905F7A-45E1-4C7A-AA8F-61DBB0CAFC7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C4B33EA-77DC-4783-ABFA-D0EF986581A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E00BE45-EC4F-4C70-A737-5494BAC2C2C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4E76B02-11CC-4D24-B6D3-4325261DCB0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BBC14D7-FEAF-4D05-95ED-9BB3EE9A5B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5FD9E-4AB7-4ED9-BBF3-9E486607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5ACF51F-28A0-4DEC-8741-38B8059338A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013CBA7-F971-4B73-BE8A-8CE7E74B43A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9EDC29A-2BC9-4064-8C6D-428703A9C05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B342D88-0139-4A53-8410-DA474CABAA5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7AEBA28-0D08-4177-A4F4-AE63C878097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2BBE253-16B5-40A5-A908-A26AA21FDCD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041738C-F2EA-41FF-AA89-AE6FCB18A3E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4782507-1211-4950-B3ED-26E9B2BC336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FD31140-8098-4E1D-9C3D-826AD5DBFA8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D05944B-8F71-42E5-B8A8-16946EB07F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15C12C6-CF3B-46E3-8F7B-2B6CF72B000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FE957D5-147E-484D-973C-314084CC723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D687048-F1D5-4310-B519-1CA0EF275A91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6D58CF-56DE-4894-BCA9-AEE2899F38F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3E9866-6BE5-4429-A5C5-A17BBC60095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288625-7AF6-4DA7-B3AE-1AFE9B9F80B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C6F28E-5F2A-4D13-82E7-FDA1419062F9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AC6E88-4985-46C7-AD37-76029395B34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F0FFC1-FBBC-4034-BF54-B4B93D0C3EF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9B02CE-FF1A-4B9C-89C1-F0CBE08474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8E795E-D4F4-4DF8-955F-6FFC2A0E5F18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1362EB-2BF0-4EBB-A64B-EC8ADDCA372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C9CA7E-4224-49DF-8067-2E173782807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BF71D4-F953-489F-8302-DE043F14CB7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AAB4AB-A849-4E47-81EA-746603095F3A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413A280-47DC-4F0D-A3A0-D77749A1939D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BDC2E35-9D81-471E-86BA-E69ABA6459BF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23CA995-39C7-4D03-B1D0-8DDB5E269F16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0A1125D-FE14-46F2-B543-F28482EF7621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6F2E2FB-1E85-4BC0-BFFD-F1EA189E81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A6DE49C-01A9-4FE4-82BE-991C933CBFE2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47B12E9-41F4-4AB6-B7F2-BC9EBAA206BC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8D7DFF8-F55E-4786-A198-B5A8D5F22B81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7E22661-F88C-4FE3-9967-E2AA689A7ECC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9D05D2B-8FA6-4785-A6D9-AFE9AA3DA06C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AA7F266-CDCE-46AF-98F8-E8AF7BD63202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18BF16E-04E9-4901-8590-427CF09934B6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26BAE8D-62ED-40A7-B0B0-86DF26BFF5FF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3C0C4C5-BF09-40DB-AC4E-58274ADF26D2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01F6655-E29B-4590-996A-0A80B44946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04AE3BC-07AA-4D05-A35D-1DFE884A1EBF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E3E765B-C867-427C-A052-63072CBFBCD7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0AE99EE-9859-4508-AF33-DE4489477127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1E6AF9F-DCC4-4CE9-851B-3CDB65FD4405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2DE2A9E-FFFE-4D18-A142-04E2CA174C60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F331F27-D4A4-4740-B4C5-1D32EDB66DCF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A74ECB2-3E0C-4A62-8C8F-0C450E990904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20E639A-9C34-45C8-AD1C-DA00CD26932E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2DA026A-652B-4043-9458-529E473E4EE7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C36AB8-89A9-4B4E-83C1-136CC65154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AA61B3-0F7A-42AF-8BF2-739E62AF0382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7A82D2-26D4-48D3-863C-85EE463F08EE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695892-3113-4A8D-953A-2C7988A3B42B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8C782C-01DD-41A4-B7B2-548441050B84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6EDD0D-DE8E-4054-AA01-2F909A1DE6FB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F662FD-B713-4A4F-9A55-6D9995787716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D1FB44-9612-4BF2-ABF1-EDBBE6DD2738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F1A398-8ACB-4DC2-9BBF-CE1C34C1101C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AE12FC-CF02-42DF-BBE6-D79DDD909C28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3DD58F-D6EE-4741-8D11-030B4F8BAC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901953-D960-4C92-889C-FB040092307E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F753B77-141D-4A66-AB18-F027A013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8A1889C-20E8-4E3F-83B0-0D58EAED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E56BD50-D70B-475E-A7AF-9300F149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F497C77-14D1-4C54-B21E-4CA7C6A2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EB07AC4-40D6-4C9F-85BB-9411336D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250BABE-07E9-4A2B-BA34-67F69956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18FCCD5-263B-4562-9F41-ACD3691F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FB68D72-7479-4F74-9BDA-215CD0BB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076C626-D3EC-408E-97F3-78EA990E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07DD9-8EE5-47EE-A9FE-15C2CD6C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09DCC75-C90F-4F3C-945A-262EF443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2C332C7-2FD8-4AA7-9A92-5FC48797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1EFA790-7EBC-4C1D-A3F6-C1A0D662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8152D52-FE9E-478B-A0CE-1F23F863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CF40ACF-908C-43F1-9DA8-4ED608FB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CB6E237-EF1C-4192-BDD9-7E0DFC34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F3F9CFA-63E2-44BF-9B68-7A42E2F1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2CBBF1E-82E3-4C59-BF4B-56A560FF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D7D291F-9FB4-4499-8232-E53C455B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46235E8-8F0E-4D85-A8D2-B498B16A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421E1-E545-4E16-AF8F-34607254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6E56FAB-C393-4A61-93A2-5DB4B672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B351065-202C-48EB-A54D-01DE54A0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862FCD8-4E77-4D5E-995F-3F6B3E3B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61A5EF3-1B22-48C0-BD85-60C89946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4777CC6-4DA6-4D4C-9B6E-F2057BC3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774B2BC-D67A-4825-A631-BC5A41F0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5CB6B0C-9D5B-43CF-B475-A431A5E2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4E3C3FB-E2D3-4C19-8884-1CF998EC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12BC928-04A4-403B-993C-595D1F83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41E4C67-BA2C-4EBD-B060-B3DD9F3A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071CB-5327-4572-9316-3EA94F2C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5A17245-675F-4C1F-A943-4FF90A0A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442B6F9-5331-4CC5-8543-C2D734B7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3C4F82E-940F-493B-8DBE-13907DA9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28141AA-7527-4977-A14C-9E4FAF13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80EFE71-5329-47BC-93FC-D17FF391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51C28A6-E68B-4F7D-89C0-2A0E58CD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00CA79C-A5F8-47B2-8025-2E401679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34D859D-4FAC-4B23-A417-83F09993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28B6129-3FB6-4988-B378-22101FC3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FF74867-1A0B-41F0-8B4A-2EF9D734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6FD2-B54A-4DEB-A532-C08BA6E4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99F54-749B-4393-9724-7F81E7C9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521A9A5-521D-4FFD-9EB1-8573C75C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CAB7B88-F1F4-4DEE-B050-14C39D1C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A60095D-FA49-4AE8-8665-7DF27AFC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F14F3A8-ABAA-400E-A3C5-4CF0BA65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4D62CCB-7222-4353-8450-38E71FFA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6374302-33ED-49AB-9CDF-4C2E0F14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32AEFD1-27B4-4223-81E3-DF6E0BC6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5C8C990-DC17-4D2F-A70A-7126B837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DF54A72-4F25-4BD3-9917-F6305CFF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F2B9D-3004-4B17-A1BB-2C3A5095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6975F-759D-4EDF-AB83-C7CAD054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568D9-F724-4753-9A1A-E3283F9C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5E8C7-4219-4D1F-AAEF-FDAF5311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C511E-9E83-4C6B-BE55-DED96377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26E3A-2207-4BA7-B9AB-81937DC3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3EAF2-4AE9-413A-9788-F23DCB36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990DE-B0EF-44E3-AF81-B6D52A72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1816DB-D160-41A0-89FB-3387400E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9F1F3-CC32-49E7-AD50-88178743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EAE651-B4BD-4B91-A143-12F92C3A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C714EB-DC63-455C-AFB4-91B265E1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925BD-58C2-4780-ACF2-53130CBA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FDA22F-207B-4C1D-B2BC-717683CA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B005D-141C-4858-8D35-319607FC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2F8BB-0E07-4CCB-A57B-A68226B4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34EA3-DFA8-4B0A-A97C-E430DC17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D6B71-5BBF-4DFA-8743-B7A3605D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A3800-3B2B-4A47-BA77-C69519D8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250F58-E27F-4E6E-985C-064C99D6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CD35-432C-4228-8559-2CFDF2D4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652B22-E6D9-42F8-AF86-8F6412C9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81BB-1E6F-42E6-93E6-3231571C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C945-AD72-4690-A757-26D9908B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566003-F8EB-42A1-BDAB-AAF6E6B0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82A11B-33A6-43A8-A57F-4D4773CE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D49AA4-29DE-4C25-8658-5BFAF06E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88C7B0-1386-48E0-9AE3-D2C26683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EFDC6C-25F2-4EDA-9BD6-D0E29730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8E7C-44B8-4C63-8330-2AE78BDD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9C27C3-E613-4471-AACD-142C977A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4B00D9-9FB6-45EE-9E5F-4BAB088F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F51A1A-D736-4B49-98FF-E9E95756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9E22D1-A828-452F-8993-2A564576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3F7353-B430-4783-873D-781483E1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A3EAA0-47A6-484E-B3CC-C133E454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ABA3A7-163A-436D-966E-D98C7006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22042-BE98-49FF-B1C8-1D910406A84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0E286-17D0-4764-8E8B-2AE5099144D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BD871-1E15-4EA5-9D24-4DAECC794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C25D-73D0-4126-BFF0-CD08E4DE72CE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19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128B-C691-4071-9354-77FE40C300E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EBE4-9BC0-4FCD-9FCB-646FAAACD05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0C47-F144-4088-8F09-F801BEC3E46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1904-A4E6-474B-92CE-75D4E30E5B9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E2A1-2813-4FF0-8F68-40679C0730C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742D-A1C9-498F-BD3A-82F7A7FD5C1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3521-3E15-4333-A166-9A02CF89594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2F2B-1B40-4347-8F10-F94B1DE47DB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6DF1-405B-4940-9556-5AD53628C43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84B1-DA86-4A1F-BB75-CEBD0A08FEB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F803-5F8D-4171-AE0C-53C74BA64C7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AEF2-9D10-4BB7-9974-44C4295CC87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ftr" idx="45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47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4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3D9C-F88E-42C9-86C3-6C2392686B95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ftr" idx="49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50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73E4-BCCE-4F95-9ADE-B388A95B259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Num" idx="51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6E37-B0AB-4988-8BF6-03E15B9A97F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5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A3E3-1EE0-4887-925E-7543B5A2876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5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DF4E-46CD-4C80-B7AC-72993BE79FB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5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E37E-33D1-4078-8DC8-622A3F09551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5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D058-5174-45A5-83CF-FBBB84688CF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6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46DC-2598-4669-985F-2C5B378F6C2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6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4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D8DD-D1BB-4525-B2EE-D58E4C7B0AC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297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7836-8742-4F20-B00A-565E7FD1C6D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5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C786-6C55-4677-8D8D-B41446FA8FC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1267-9CE8-40E7-A978-05A1735DD66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435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7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8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8623-C141-4E06-814D-ACB51AB1BA1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8509-F4B2-4148-9B05-39EAF0035C46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9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9FAE-568B-4B9C-98A0-B538C0EA374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5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C927-E5EA-4B6E-8561-7AFA2D5E5376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17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8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F09C-735A-48D5-B7D9-77DA36119016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00000" y="1045800"/>
            <a:ext cx="7920000" cy="10126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Nacionālās Trīspusējā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sadarbības padome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2009.gada darbības pārsk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1835280" y="256536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ēdes –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(1 ārkār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gatavoti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84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tzinumi par ministriju iesniegtajiem tiesību aktu projektiem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. </a:t>
            </a:r>
            <a:br>
              <a:rPr sz="2600"/>
            </a:b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Galv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eņēmumu un izdevumu  izpildes gaitu 2009.gada 1.pusgadā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bezalgas atvaļinājumu dienu piemērošanai sociālās apdrošināšanas pakalpojumu aprēķināšan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 plānoto valsts pensiju reform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plānotajām izmaiņām valsts sociālās apdrošināšanas jomā. Par sociālās drošības tīkla stratēģij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Koncepciju par mikrouzņēmumu atbalsta pasākum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risinājumiem situācijās, kad uzņēmumam maksātnespējas gadījumā ir parāds pret privāto pensiju fond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332000" y="1989000"/>
            <a:ext cx="7424640" cy="3881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3000"/>
          </a:bodyPr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Teritorijas plānošanas sistēma tuvākajā piecgadē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Reģionālās attīstības likuma grozīju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(LIAS)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ajona pašvaldību reorganizācijas gait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iekšlikumi valsts funkciju decentralizācijai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Vienas pieturas aģentūras principa ieviešana valsts un pašvaldību pakalpojumu sniegšana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lānošanas reģionu ekonomiskā profila izstrād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otenciālo īpaši atbalstāmo teritoriju noteikšanas metodik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un tā turpmākā virzīb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Reģionālās attīstības trīspusējās sadarbības apakšpadome (RATSA) – 4 sēdes</a:t>
            </a:r>
            <a:br>
              <a:rPr sz="2200"/>
            </a:b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 txBox="1"/>
          <p:nvPr/>
        </p:nvSpPr>
        <p:spPr>
          <a:xfrm>
            <a:off x="1476000" y="1484280"/>
            <a:ext cx="7343640" cy="43243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5000"/>
          </a:bodyPr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Eiropas Savienības klimata - enerģētikas likumdošanas paketes pamatprinci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Grozījumi Ministru kabineta 2002.gada 9.jūlija noteikumos Nr.294 „Kārtība, kādā piesakāmas A, B un C kategorijas piesārņojošas darbības un izsniedzamas atļaujas A un B kategorijas piesārņojošu darbību veikšanai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Atjaunojamo energoresursu izmantošanas veicināšanas tiesiskais regulēju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Informācija par iespējamiem risinājumiem ekonomikas atveseļošanas un enerģētikas neatkarības sakar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ides ministrijas un padotībā esošo iestāžu reorganizācijas rezultā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Klimata pārmaiņu finanšu instrumenta finansēto projektu iesniegumu atlases izsludināšanas plānu 2009./2010. 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720800" y="2743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Vides aizsardzības lietu trīspusējās sadarbības apakšpadome (VALTSA) – 4 sēdes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gad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Profesionālās izglītības un nodarbinātības trīspusējās sadarbības apakšpadome (PINTSA) – 10 sēdes Galvenie jautājumi 2009. gadā</a:t>
            </a:r>
            <a:r>
              <a:rPr b="0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Rectangle 4"/>
          <p:cNvSpPr/>
          <p:nvPr/>
        </p:nvSpPr>
        <p:spPr>
          <a:xfrm>
            <a:off x="1476360" y="1557360"/>
            <a:ext cx="748836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iestāžu tīkla optimizācijas programmas projek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skās krīzes un ekonomikas stabilizācijas plāna ietekme uz nodarbinātību un MVU un inovācijas loma ekonomikas atveseļošanā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tbalstāmo profesionālās izglītības iestāžu un tajās modernizējamo izglītības programmu saraksta apstiprināšan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ugstākās izglītības finansēšanas problēm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Strukturālās reformas profesionālajā izglītībā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attīstība un audzēkņu uzņemšanas plāns 2009.gadam profesionālās izglītības iestādē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kas ministrijas līdzekļu izlietojums nodarbināto apmācībai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1476000" y="1483920"/>
            <a:ext cx="7410600" cy="438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Darba lietu trīspusējā sadarbības apakšpadome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DLTSA) – 4 sēdes 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Rectangle 1028"/>
          <p:cNvSpPr/>
          <p:nvPr/>
        </p:nvSpPr>
        <p:spPr>
          <a:xfrm>
            <a:off x="1476360" y="1484280"/>
            <a:ext cx="74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grozījumiem Darba likuma 96.pant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Darba aizsardzības jomas attīstības programmas 2008. – 2010.gadam izpildi 2008.gad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Valsts darba inspekcijas 2008.gada darbības rezultātiem un plānotiem darbi 2009.gad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Minimālā dienas/nedēļas darbalaika noteikšana darba līgum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likuma atlaišanas pabalstu valsts un pašvaldību institūciju amatpersonām un darbiniek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nākumu no sezonas darbiem uzskaitīšanas atvieglojum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idējās izpeļņas aprēķināšana gadījumā, kad pēdējo sešu mēnešu laikā darbinieks ir slimojis un strādājis tikai pāris mēneš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tlīdzības (gadījumos, kad darbinieks neveic darbu attaisnojošu iemeslu dēļ) aprēķināšanas problē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spējamām krāpnieciskām darbībām saistībā ar kompensāciju izmaksu pēc darba tiesisko attiecību izbeigšanās par neizmantoto ikgadējo apmaksāto atvaļināju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 txBox="1"/>
          <p:nvPr/>
        </p:nvSpPr>
        <p:spPr>
          <a:xfrm>
            <a:off x="1692360" y="1268280"/>
            <a:ext cx="696600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720440" y="274680"/>
            <a:ext cx="7172280" cy="1209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Veselības aprūpes nozares apakšpadome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(VANA) – 4 sēdes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Rectangle 4"/>
          <p:cNvSpPr/>
          <p:nvPr/>
        </p:nvSpPr>
        <p:spPr>
          <a:xfrm>
            <a:off x="1619280" y="1773360"/>
            <a:ext cx="7273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samaksu veselības aprūpē strādājošaj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Cilvēkresursu nodrošinājums Latvijas slimnīcā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Veselības aprūpes pakalpojumu tarifu atbilstība izmaks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2009. gada valsts budž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Grozījumiem Ministru kabineta 2006. gada 19. decembra noteikumos Nr. 1046 „Veselības aprūpes organizēšanas un finansēšanas kārtīb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59312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Transporta un sakaru nozares trīspusējās sadarbības apakšpadome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TSNTSA) – 1 sēde. </a:t>
            </a:r>
            <a:br>
              <a:rPr sz="2200"/>
            </a:b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Galvenie jautājumi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Rectangle 4"/>
          <p:cNvSpPr/>
          <p:nvPr/>
        </p:nvSpPr>
        <p:spPr>
          <a:xfrm>
            <a:off x="1476360" y="2276640"/>
            <a:ext cx="7273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grupas izveidi taksometru pakalpojumu sniegšanas izvērtē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Satiksmes ministrijas budžetu 2010.gadā un paredzēto finansējumu funkciju izpildei (sabiedriskais transports, autoceļi u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39164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Lielākā daļa no NTSP apakšpadomēm vēl nav apstiprinājušas darba plānus 2010.gada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Šādu informāciju iespējams papildus sagatavot līdz nākamajai NTSP sēdei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ldies par uzmanību!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42051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irms un pēc sēdēm sagatavotas un nosūtītas preses relī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NTSP pieteikumi atzinumu sniegšanai par VSS izsludinātiem tiesību aktu projekti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VSS protokolu izraksti un nosūtīti LDDK un LB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niegta informāciju par precizētiem tiesību aktu projektiem un uzaicinājumiem uz starpinstitūciju sanāksmē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NTSP sekretariāts sadarbībā ar sociālajiem partneriem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1285560" y="1999800"/>
            <a:ext cx="76057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8.01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 uzņēmējiem nepieciešamajiem finanšu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strumentiem tautsaimniecības stabilizācij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11.02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Sociālo partneru Latvijas Darba devēju konfederācijas (LDDK) un Latvijas Brīvo arodbiedrību savienības (LBAS) un Latvijas Pašvaldību savienības (LPS) prasības krīzes pārvarēšan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128556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03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ārvalstu aizdevuma līdzekļu izlietojuma uzraudzības komisijas izve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lānotajiem grozījumiem Valsts budžet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r likumprojektu „Grozījums Darba likumā”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643040" y="28548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1218960" y="157140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</a:rPr>
              <a:t>15.04.2008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 pamatnostādnēm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29.04.200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riekšlikumiem un valdības atbildēm uz LDDK, LBAS un LPS prasībām (krīzes pārvarēšan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571400" y="142560"/>
            <a:ext cx="71038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3614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0.05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priekšlikumiem likumprojektā „Grozījums Darba likumā” (atlaišanas pabalst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izglītības un zinātnes situāciju Latvijā. Par profesionālo izglītību (arī 1.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01.07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budžeta grozījumiem 2009. gad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valdības priekšlikumiem 2010.gada budžetam un plānotajiem 2010.-2012.gada budžeta ieņēmumiem un izdevumiem</a:t>
            </a:r>
            <a:r>
              <a:rPr b="1" i="1" lang="lv-LV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Reformu vadības grupas izveidi, darbības princip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7840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121392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12.08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Eiropas Komisijas ierosinājumu atteikties no valsts līdzfinansējuma struktūrfondu apguvē un NTSP Veselības aprūpes nozares apakšpadomes ierosinājumu ieekonomētos līdzekļus novirzīt veselības aprūpei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6.10.2009. (ārkārtas sē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r likumprojektu "Par valsts budžetu 2010. gadam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29937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-60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11.200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valdības un starptautisko aizdevēju sarunām par 2010.gada valsts budžetu un to rezultātu ietekmi uz Latvijas tautsaimniecības attīstību un uzņēmējdarbības v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ES fondu apguvi un finanšu pieejamību uzņēmējdarbības un infrastruktūras atbalst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sociālo dialogu iekšlietu sistēm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50040" cy="14702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 txBox="1"/>
          <p:nvPr/>
        </p:nvSpPr>
        <p:spPr>
          <a:xfrm>
            <a:off x="1476360" y="119664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zpildi 2008.gadā un par valsts sociālās apdrošināšanas speciālā budžeta plānu 2009.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istēmas finansēšanas nodrošināša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fondēto pensiju shēmas darbību 2008.gad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lānotie grozījumiem tiesību aktos sociālās drošības jomā 2009.gada valsts budžeta grozījumu likumprojekta paket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alsts sociālās apdrošināšanas obligāto iemaksu parāda piedziņas rezultā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ANO Konvencijas “Par personu ar invaliditāti tiesībām” sagatavošanas ratifikācijai gait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ES likumdošanas iniciatīvām dzimumu līdztiesības jomā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6966000" cy="1353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 (SDA) – 7 sēdes. 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1:11:42Z</dcterms:created>
  <dc:creator>Inese Erge</dc:creator>
  <dc:description/>
  <dc:language>en-US</dc:language>
  <cp:lastModifiedBy>Gunta Freimane</cp:lastModifiedBy>
  <dcterms:modified xsi:type="dcterms:W3CDTF">2010-01-06T14:24:52Z</dcterms:modified>
  <cp:revision>40</cp:revision>
  <dc:subject/>
  <dc:title>Nacionāli trīspusējās sadarbības padomes sekretariāts</dc:title>
</cp:coreProperties>
</file>