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</p:sldMasterIdLst>
  <p:sldIdLst>
    <p:sldId id="256" r:id="rId36"/>
    <p:sldId id="257" r:id="rId37"/>
    <p:sldId id="258" r:id="rId38"/>
    <p:sldId id="259" r:id="rId39"/>
    <p:sldId id="260" r:id="rId40"/>
    <p:sldId id="261" r:id="rId41"/>
    <p:sldId id="262" r:id="rId42"/>
    <p:sldId id="263" r:id="rId43"/>
    <p:sldId id="264" r:id="rId44"/>
    <p:sldId id="265" r:id="rId45"/>
    <p:sldId id="266" r:id="rId46"/>
    <p:sldId id="267" r:id="rId47"/>
    <p:sldId id="268" r:id="rId48"/>
    <p:sldId id="269" r:id="rId49"/>
    <p:sldId id="270" r:id="rId50"/>
    <p:sldId id="271" r:id="rId51"/>
    <p:sldId id="272" r:id="rId52"/>
  </p:sldIdLst>
  <p:sldSz cx="9144000" cy="6858000"/>
  <p:notesSz cx="66643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" Target="slides/slide1.xml"/><Relationship Id="rId37" Type="http://schemas.openxmlformats.org/officeDocument/2006/relationships/slide" Target="slides/slide2.xml"/><Relationship Id="rId38" Type="http://schemas.openxmlformats.org/officeDocument/2006/relationships/slide" Target="slides/slide3.xml"/><Relationship Id="rId39" Type="http://schemas.openxmlformats.org/officeDocument/2006/relationships/slide" Target="slides/slide4.xml"/><Relationship Id="rId40" Type="http://schemas.openxmlformats.org/officeDocument/2006/relationships/slide" Target="slides/slide5.xml"/><Relationship Id="rId41" Type="http://schemas.openxmlformats.org/officeDocument/2006/relationships/slide" Target="slides/slide6.xml"/><Relationship Id="rId42" Type="http://schemas.openxmlformats.org/officeDocument/2006/relationships/slide" Target="slides/slide7.xml"/><Relationship Id="rId43" Type="http://schemas.openxmlformats.org/officeDocument/2006/relationships/slide" Target="slides/slide8.xml"/><Relationship Id="rId44" Type="http://schemas.openxmlformats.org/officeDocument/2006/relationships/slide" Target="slides/slide9.xml"/><Relationship Id="rId45" Type="http://schemas.openxmlformats.org/officeDocument/2006/relationships/slide" Target="slides/slide10.xml"/><Relationship Id="rId46" Type="http://schemas.openxmlformats.org/officeDocument/2006/relationships/slide" Target="slides/slide11.xml"/><Relationship Id="rId47" Type="http://schemas.openxmlformats.org/officeDocument/2006/relationships/slide" Target="slides/slide12.xml"/><Relationship Id="rId48" Type="http://schemas.openxmlformats.org/officeDocument/2006/relationships/slide" Target="slides/slide13.xml"/><Relationship Id="rId49" Type="http://schemas.openxmlformats.org/officeDocument/2006/relationships/slide" Target="slides/slide14.xml"/><Relationship Id="rId50" Type="http://schemas.openxmlformats.org/officeDocument/2006/relationships/slide" Target="slides/slide15.xml"/><Relationship Id="rId51" Type="http://schemas.openxmlformats.org/officeDocument/2006/relationships/slide" Target="slides/slide16.xml"/><Relationship Id="rId52" Type="http://schemas.openxmlformats.org/officeDocument/2006/relationships/slide" Target="slides/slide17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57008-9A16-4CAC-AB3B-69CAAE61C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3740D-C95C-4DC9-A66B-9B77F368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0E584-C754-4238-A4CA-B518045C285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F7503-673D-43F7-BF90-5709D76B733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FF62C-B5FC-444B-891A-8D74F740A81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62B8C-285F-45F4-816A-C166BB56BAC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20B52-D331-4A07-AB15-9E4FDB3F14C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493D9-57FA-4100-960E-B39BF6BB384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95F9E-2DE3-4C82-AFEB-D56A6A23244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C7FC3-884A-46F7-9475-525FDA81A84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DBFDA-08E0-4593-B264-C7589EA23E6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D735E4-EF66-45AD-9F6B-2C6F59E741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805C2-3F25-4DB8-9773-5245DFBB7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6AE52A-A0A1-4CC7-AB7F-E68117581F1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DC4F16-ABDA-4791-A18F-1209D2D6D9B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51A110-01EA-4A43-9476-621788F588B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EC9F40-E6C1-41AE-9459-182B6CAE2CF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362D2C-52F8-41FA-B156-D5356277C86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C7EE1C-8E63-448E-A590-39FC478D907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541259-D993-475C-8D4E-8133EA1E36D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0771608-6DD7-45C4-A50C-AA8AF1D2B60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F92F64-3E5F-4B60-AA1A-20659D027E7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AF5744-4965-4099-9C59-61505002E4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98EB7-68F1-4FE5-96C0-08D0244F2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76CA75-F28F-4809-837E-77A25D55B4E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EA6EC-F9D4-429C-868A-F27CF608DEE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B962F-2861-43EF-844B-4469C95EF1B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AF6CC-982A-4350-BA96-C0004078F7C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0BC3C-7157-4F7B-8FCC-33558F73C68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C470A-FA81-47B6-9D20-4662E054CD8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03181-7B5C-4C1F-9B1C-AE9628EE01C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D2C4D-2B71-4010-86BE-F3B3DD65CFC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AF85F-6B43-448C-B4B4-B8F0C6ACBAB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06097-0036-4B66-910C-F2150B09F3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57197D-6369-43FB-BDEB-16E6DF3A6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395C0-6CAA-4766-AF39-CDD9D325CE0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DEEA2-053D-43F4-8967-64439C34944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8A971-8CCD-4337-B6E4-B41703E9B92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0C348B-4195-45F0-B8C0-B6918015B0F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B0D6EF-9709-42E6-AD0F-D2372591AD3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CD8171-ADD0-4A00-9B3C-7836F806092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C49B72-E2D6-45E6-86DD-E935810E728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8FF86D-3F4A-4475-993B-8A44BF57E13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FAECEF-5677-4803-88DA-04FE7925C2E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82B60A-7FC5-44CC-A0CC-EFED49DA0A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595EBB-39FE-4078-B81E-6EE33826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EF7A14-B356-413C-8A3D-DA06716C9ED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95078B-A33F-4EBB-B85F-8A9266C65E9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80B62C-9492-43A4-B3E0-AEFDD6B7B2C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D6A20F-5310-43CD-B487-5554E27E174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820759-F16E-4460-9901-7D572B26497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D88DDE-FB50-42E4-8BAA-44190DF28A3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60A5C5-BCC4-44B0-80C8-AB05B815CCD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BF7004-E189-4C7C-A39C-F6DE88802F5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61AB6C-058A-4DDA-8C2E-6A9C5076211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A48295-4CF2-40B5-96F5-30CD283A8C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505BE3-F27B-4E27-9221-85C68638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672670-7E4B-4FB5-A284-C643F9E4D36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3A79D7-E0FC-46E5-8251-AB4E20138D9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4B68A4-EEC6-436F-A19E-7060F44F6F9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CBAF79-374C-4B46-831D-1B9E23F9A57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48E7C9-F161-4469-AD0A-294E746B88B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BC5336-5FA1-4902-8718-FFAEBAE2F67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C773C8-DE13-4E7B-B614-1BA465FB4A8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ECF54C-5817-4B70-97FB-ADD989203C2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4AA9DF-F72B-43D0-8734-908AF68828B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081DF0-921E-4E8A-A687-B2ED784996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329E0-632A-48C9-876D-7D092420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751013-1DEC-49B9-B639-B09ABB6565E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AE14A2-C169-409D-9784-4666CC8D355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9515E1-6729-4270-8BEA-7C2D2F5252F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9F0D6F-4F10-45B4-919D-4D68582788C7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DAEB81-6201-4A4D-B1F3-952E4297A24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E02607-DD69-45BD-B58A-73ADD396615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6120DC-D619-4E43-80EB-268636E7090D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0EECB-D91C-4A71-8644-BB08BC7B03EF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B84941-CAAA-46A9-A856-26F05058A75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442037-4D29-4FE3-A9D9-0CB29DBAFB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7EAAB-B949-495F-87BC-525078C2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34A1EB-CE5E-4C9B-8790-5D3FB2BDA9A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8DD40C-97B3-48D6-BAA1-EE42CC77FFC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148855-21D5-4230-8F5D-658CDA431E6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D8B409-6057-4A97-930B-CD7EC4F4AC2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A183FD-F2DC-46F3-9931-444E5045883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DF0845-4595-4F36-BA12-175C9906EDDD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66D67D-FE9E-407B-B813-4D979EA1A6F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F46AFB-FE70-4ED6-9CB1-D46A3F0285A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14EB1E-BD59-43FB-A5A2-DA2061EED04B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C44B27-FFAA-4BC7-9557-EA5AADE8BA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44612F-AAD8-45A5-AA00-8D680785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3C44B1-F233-47EC-9FAB-12EE0050D193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899FC7B-091B-4545-B414-B32CFDBD03BB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FE99BBE-9AD2-44C4-863F-58BA4BE1D085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961E32E-97EC-4EED-9BF4-001101E228BB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1592172-83E6-46DC-ABC2-EA020943B63A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7F73923-833F-44F1-B616-0186EEB7E599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08459E6-2D10-4DF9-8C31-D83AB7C4188E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BF91559-BA93-4ED1-B62D-795CF24341D1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B8D7004-536B-4175-965D-738ECC639A2E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DF8D0F4-2CE8-4225-AB42-725B0F02AB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0BF230-DE85-427D-B098-0C616580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710BB06-DC41-4D89-A535-8656FCA534B6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9D95568-0AEC-4DDC-8671-BCDD8CE99B51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DD7CECA-101C-4447-B090-2CBB29C41DAE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A285E69-3BAC-456E-8851-CBB81975D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D4C9D4D-F313-449F-904E-99DAA41A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8B84516-A02C-4D5F-BD2E-437A6ADC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BBC4AA0-4B44-4950-90FF-039BC4CE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EB0898B-4169-43C4-9504-1EA617C0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0C17EE4-275D-4098-8B68-4F5ABF28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927D1BA-4E08-4EB4-86CB-4A4BB921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1735F-5FD4-4B3E-A2CE-76B8F6BC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09EC1-DC95-40C4-923B-CA955CDC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34FC6FB-D035-4E2B-8E8C-5E8CB528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2F46A80-535C-495A-9D88-946E7F04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07C4030-DFDE-4881-A9D5-7BAC626B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CDDABA2-560F-47ED-9470-1C8C83CB5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9587A0B-DE5D-4BA8-8BFF-D4A0CAB80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F7545A2-2E34-4B7E-95FF-4515C0F5E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455F64-DC15-4C68-8CDA-19E571D2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8C3300-394E-4A40-A44E-165DEE54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75336C6-66C4-49A3-8515-6B7D3D2F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F6318AA-5D32-498E-9977-9D7567D9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F0561-A982-4D24-9BB3-56E93E8A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553E67-B41E-4479-8E46-ACF31BF3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D98A5B-9D74-4AA6-8D23-1686C6CC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CC5DC94-7B07-4376-AABF-D22DA5B7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109E37-778C-46D6-8A64-419EF85E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107E2D9-B2A5-4BFD-B473-91FFDA393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AB40E2-4785-4B96-8A57-F05F783A2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462519-EE19-4226-AA8A-28BE9103A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9C7EE9F-2581-4DA4-8623-95F4EEB4F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AA8E035-717A-4F1B-929E-57DE7F2A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DE5243B-493F-4FBB-874A-0D14DBAE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91B41-1CDD-401B-8A2A-C976C405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90CE06E-0C15-4DAF-B27B-4F51FB34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265B139-4B6C-43B9-92F2-BD1FD806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8CFD9D0-6231-4EF4-945E-C6D508D9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92B39E0-9252-45D5-900E-1EEBE0BE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3DBB195-F5FF-4A28-926F-921BC069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9504FF8-EB59-43D8-998D-D5C1B775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8CBF181-59BA-4A64-8C12-3FD37EA7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BDE6202-DC6D-4601-9482-1C7716D1F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732CF9D-2AC9-434C-9493-D205E475D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49384A7-E0B4-457E-9482-F6BA8DD2E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84DEE-DC1E-4FC1-AC9A-9EE082B26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9430745-2E18-4DBF-A2F7-E2D539F8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D9285E4-35BF-49E5-A0B6-E5668282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EB87210-262B-44E2-BDF8-2A22725E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2CBCF9F-8BD0-41AC-89AF-55E8FB9E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D7D926D-6E6F-4FD8-B5F4-7E67AD4A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6BF69B6-3C0F-4A9C-B361-B5EC46BF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3A1BBCE-CE6D-4AE6-BAE7-45289A7C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24FAA71-FA82-4360-8DFC-0F8487F3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B42BF2D-54ED-44A4-AD8A-5808AB05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C6A83B7-A621-4B18-83AB-AC03B2AAA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09EACD-E4EC-4C99-B97A-255106F00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6E47BFD-157C-4848-ACAA-E062C0948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6FA736-F1D0-424C-B289-CC6101563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96D8DB-50FB-4FFF-9C5B-158A2FBC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93AEFD-0127-4A88-8CC3-0B622722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CDDBE5-62CD-48FE-8260-83D7D9B7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E50370-02CB-4BFA-8659-CA1D6E90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9A0514-5D2C-48B1-AB43-7C6F64AF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AEDEFE-9134-43D1-A7AB-77DBC510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3CA946-E55C-419D-95D8-8EBFF07A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A9CF9D-F554-4C33-B557-CF808F43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FBBA4F-41DD-411F-B120-2B23E676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26964B-8DA8-492E-993B-7BB769487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2C0EAE-4B24-4489-BFE2-634F2D61D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E231BB7-EFB1-4E2D-8FEE-ABDAA8F01120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136B044-2E02-4F53-98BE-5259EE8C55DD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A6A1792-B122-4905-AD42-94B36A4797C7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25EF690-3C33-4FE1-908F-7056BA9DD5F4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5B52C3A-6A27-4E35-93DF-D9BF4EB0601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02C94CD-FBD6-43EA-BEF7-D805AC434576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11FE6A4-ABB8-4D3D-85A6-69A3224B3E8A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753FE83-0A9D-422D-899D-C10B42439A03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5E7BB3C-CA65-4F2D-B01E-D640D6796082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C65368C-3049-4F81-962B-DF81241FF047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F7B8EA8-FF2D-49E1-8ECD-B782D511EC26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3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4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1D4BE43-F328-4B94-81B3-0F27E1BD85CB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79F2B2-DCBD-4850-BDA9-4728A357A85C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241F7E-1B64-4A4E-8306-4A137B742AE4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103C1A-3EF2-48E5-B885-88C3F35A17A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80E78D-E58B-402C-B7CA-8A48AE6D3611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19DB70-F577-4EAD-A8A7-FDB650CF3244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B8D5DD-F113-4966-AD45-5C760A8B2C3B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0A471D-2BC6-4409-8353-B430D69CAC9E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FEBE04-50E7-441D-B3B9-D56175FC9A42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AA0882-BC54-4B4C-B61E-0D22C940C282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3E9855-1979-426A-9B50-6697955FC897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A2BF34-C2A5-4182-BD5F-5F672619BAEF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56F1E0-0D27-4E0A-8F53-37FD43620A1C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C097FAE-D825-4687-AEAF-3E2E3669944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72B1098-CE88-4021-801A-CF99E5169F9C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AF57B49-CB9B-4003-9B53-6768F780A9D3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04608FD-3ACB-4C2E-9E6C-FB08A6E0DC21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6CCBCB7-B114-46E7-B4F0-E782B05DD5FA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62DF550-81F0-4EAF-AE32-0F11246581C3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1520EA9-45F8-4A34-9357-0562FDBF174E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354E4FC-BF96-476C-9EEA-8D92CDC0A095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88C9AFA-F3F2-442E-8F53-9258FBA31870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3D2F9EE-73CE-4432-8BED-6121E23E7CF8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0964EF0-7864-4921-8DA3-08BDE0DA03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F39E5-36CB-4E40-A8A5-96C3975B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0E1C695-532A-4010-A5B8-00DB3765B3CE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5DDB915-241D-4AC2-AD48-1B2B3130EF2B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9C24BD1-3BB3-4BCC-9F3B-E414F00B18C3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5508439-8838-4DCC-B554-7F4129A4FB85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60C75F3-9C84-42E3-B491-123CD597FC41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2A6C40F-4137-4575-A267-679F5FDFD949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E2FAA2B-E388-483C-9914-2F8750219B13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C1A9FD4-BADF-47DF-AFBB-C87615FDD78A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5A3625A-19FA-4569-B538-01394937C30A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B163129-DAE3-4417-B3DC-8A59AFF4BFB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2B1924B-1222-45DB-B87E-729CEAE33401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FB2FB6D-9D78-478E-BEDD-9FB88513F960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2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3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06B2DF9-4FAE-4F9E-99B8-FB359C8B2FD6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515BE5-557E-4888-B2C8-6902E96CF25F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D5DF74-D0F1-4063-A5F1-841B62A85357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5EAE16-FFD0-46F1-9F5B-4EE1D10A403E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4EF21B-0BC9-4CDC-851F-040E45F9E94E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5B877A-8297-4DAF-8E86-CE05E46EA8E9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A66108-E5D8-4CD1-8FA1-82A4DB9EF3B1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530357-287E-4F0B-9441-D4C68C2DC48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B3C652-8EFC-40CD-9B64-C82B10456AC1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3035A5-FC63-4326-908C-8FD649195EFA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043309-7077-4428-A8F9-B0C90D3F5E41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2CA5E6-BDE0-409A-833E-8C2C4701D836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5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6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F60DD9-332D-4DC9-BA70-47AB7FD5DEE6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F787506-4235-400C-872F-C36C4260A473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F15F79C-787C-4052-B0EF-52F4B3D3FAA2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51D8BF0-BB1D-4AF0-AD3C-FBA48A047E72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9235018-7DB2-4F29-AE3E-346B3A64C77B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4839D65-809D-4F28-AFF8-B4686513EC4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3D706BF-6E9A-4E96-85E7-8E0C97BB1F65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63338E9-DDC1-401E-A166-98BD9D329257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4373EE3-0CA7-42E7-BD9F-0DA25B9C7248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23A4ED4-E680-4C78-84A3-9A9A47685FB1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E1AA953-9197-4E00-815F-011CAED21361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B22552F-3532-4CFC-8BBA-F2163073109D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8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9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B169663-A12A-42CF-910E-E9D093E20BDF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EA8B4BD-1C35-4343-A779-9D24D00DAE09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4E9D7D2-FE1D-43FB-B7CE-6BB34898BEF2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61EE3CD-0351-40E1-841F-7C9BD025623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FB1DFDF-E071-43D6-9595-13D46876B1F0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953582F-899F-4B72-BDA7-FF8D0CD44748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E908123-8D0B-4BA0-8F39-84A98B0A3C08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7A1E16B-357A-4AFB-9925-270422FDEB4C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70AC11B-43CE-4D61-94D0-09CC8FBB66CC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C4A50A6-C372-4B5E-A788-40A2FDCC8A04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69B0C3C-0A66-4402-AB19-8E63B111E7D8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DC05063-ADCD-48EA-811E-74B019F111FC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1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2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1DD67AA-75D2-42D8-8E62-0C1DC6D87B31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83FAB5-767F-460C-889F-FBECAC447B9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F17A30-A833-4DA1-BFC0-262A1DDD1CD7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982FDC-2789-4B15-BEC0-0C728C2F839D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8D9777-C7AC-407E-9124-31518AFED173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21241E-B3B6-460E-9829-1FCECC5886AA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86DB0F-71CE-4E64-AFA1-2A5E53D66BB7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6926BB-044C-4677-90BA-BFCB5BB99294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A39D88-ACB3-4590-85CC-EC373580C69C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5F74D9-C721-4839-B7E5-F176C1FD21A0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E211E3-E4CD-4D6B-9280-414739C39303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D00BE3-5EBD-474A-A0F0-4A31C044C7E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3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4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5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382806-36C7-4502-AD46-1AC8BE79C77B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47D20A8-CA00-4C75-BD04-1BECD7077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BE6D653-27EC-4CED-A36A-F2715BAA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1392C0C-D331-4D39-844B-8F81EF2E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F4784A6-35A3-4A30-AB42-6FC59DDC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9234CB3-6DC7-40B7-B8C2-8EBF46DA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7694B4B-59E0-4868-8E03-B28E21F5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8D021A2-C8EF-4F49-BD49-5946DB79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E5F7DF0-41CB-4755-BA8F-ED302B3E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BD5CB46-859A-4AB4-8134-0489DD3B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24DE90-59F9-48AD-B53A-6490DCB7C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0B492DE-A87C-4DED-B92B-B99DDCF4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4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10D15A9-BEA2-4D47-9115-2FF089979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9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0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1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49570E3-61FA-4023-8A74-32D89A2B9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D9FC88F-0AAE-4F44-8C82-78F3F6FC1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A15873C-2855-4FCC-B078-0C3F575B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3998510-E9BF-465E-8099-B2B50BF4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E5C88DC-37CA-4A8E-AF0A-21A5B7AD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361EDCE-F24F-4982-AE5A-F2C56AC6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EB3FFD8-B0CB-46ED-B514-6CFE44DB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84BDAFB-C04D-4385-B851-6CBF7A70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B5CF18-B6A9-449F-999E-46E32995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2B98D01-EA32-47DF-A7E1-7FF5EF45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BC654A8-4A8A-461C-88A9-82BAC6A5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0AEF035-0AE2-4119-ADEC-1C256968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A95A4CA-35FA-4432-BBEF-763FEC297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0FD49F9-11C1-407E-8177-EFFDCB690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1528042-2725-426D-BAA1-6C7E31434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123EB28-1F57-4B9B-BB7B-885ED9A9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CD915ED-1B83-4764-8058-A9162CA1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9335665-560D-4393-965A-ED419A86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A55A95F-34C0-42A1-A8E8-55D6AE2E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87B755-7D33-4465-A152-1EEB44C2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B5CCFA3-8554-4794-8A20-C519C94B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AF53E91-6501-415C-839E-216C6EAE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FCE1535-983E-4AE5-97E8-8AE6EB49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61E33ED-4BD9-4C7F-8295-21630610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8A941FA-1BF3-4DCF-9235-3F8DDD4A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84CF145-1753-436D-9703-D1BD489AC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2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3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B5D534F-8858-4BCA-BBC9-F6D06CFE5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70CA849-18B9-4E6B-89D1-19BECB3F1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CCE346C-E14E-4183-A804-9398C028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FFA792C-4705-473F-AF5A-68651549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5E8FF-E60F-411C-BA43-614CAFC0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03E8DC-247E-4553-A709-1069EE19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8950C50-A871-49E9-98FD-046789B2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28CA6DF-67F4-4B33-81E7-6388CC75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DB45250-BC56-4D83-AAFF-5E31C917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D816240-AD93-4C14-8255-53C65D42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66E964D-F36A-4B2C-8037-499B30D4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C0AEF1A-BC4F-4A41-9AEA-73A30694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F814E99-02D3-4EB0-B71B-37A12E93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CD6A3C9-7137-4BD3-B83C-EEE7B012C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8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9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580E517-8B73-479B-8578-DBAC2653D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A8FAA3-A9C6-437B-A8BE-907B29A4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8B6C22-EADA-4B6F-A0CA-5C2C718A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767483-6D5E-4DBF-9B0E-624E890C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7B4530-1B23-4B00-A9EE-3C0584F0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78E866-70FB-4205-BA56-818A9CE2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16F538-A388-4BFF-9370-6B605393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71AC44-195D-4D79-8E90-2E1A8AF85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489894-3AAF-438E-AC66-49D1E5430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ED74EB-81A5-45EF-A77D-EBAE3270D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35AE3-8D04-4D60-9CC8-2C7C37E2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24795C-7C83-4FF8-BF30-94D93252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009833-8C2E-4D9A-9E27-C0ABBBAE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AA17E9-B958-4466-B4C3-A1CDEC94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99AA39-38FA-4716-B99B-0C39BA0D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F88D00-93FD-4410-B947-D8A8D342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2E6B4E-5EF9-47EE-AB4A-CE398EDA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339901-4D0A-4129-9238-86110F40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C34824-CC6E-4FD8-89D4-AA82B9BF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9735EB-3316-400A-A6A0-31D6C5C3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14C5CF-4AE9-47D9-B348-0427D7A2C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BA357-3AE1-47EC-9AAE-9E206F4F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B70AF6-CD39-4231-9160-E0565A9DD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33E9F-D13B-4904-AE31-A92FA70F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91AAB-7F05-4487-B59A-AF7CD6EB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95E10A-65E2-4F53-9B61-034B69FF1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6B83E4-26F4-48FD-AD51-8AA0E8D4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0AC98C-FD7B-4C5D-8FD4-E2AC1956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BE03D2-8B2E-4D9F-86FA-9EC5DE7C5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1868D7-E685-434D-9AAF-F1895BED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AFA76-A44A-466D-8083-DF5CAA0C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D91F5F-1E4E-4B5B-B27A-8A314F10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7218A0-514C-4B38-9DC0-F1E2AFFA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6D2CDD-541A-49BC-88A8-5378587A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E4A63D-EE6A-4227-B896-43180D36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71EA0A-C07E-4321-B17F-DAD7C695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885254-5ED9-4FB4-B358-4EFCBCAFE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C2B917-A975-473D-B7E9-E09DD302B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D011F-99F7-449B-BC85-37B7B5BD46B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150FF-E78D-40A9-810B-CDD1EF3CB1B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0A0D7-CF1F-4478-80DE-0D685E96A9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73.xml"/><Relationship Id="rId6" Type="http://schemas.openxmlformats.org/officeDocument/2006/relationships/slideLayout" Target="../slideLayouts/slideLayout374.xml"/><Relationship Id="rId7" Type="http://schemas.openxmlformats.org/officeDocument/2006/relationships/slideLayout" Target="../slideLayouts/slideLayout375.xml"/><Relationship Id="rId8" Type="http://schemas.openxmlformats.org/officeDocument/2006/relationships/slideLayout" Target="../slideLayouts/slideLayout376.xml"/><Relationship Id="rId9" Type="http://schemas.openxmlformats.org/officeDocument/2006/relationships/slideLayout" Target="../slideLayouts/slideLayout377.xml"/><Relationship Id="rId10" Type="http://schemas.openxmlformats.org/officeDocument/2006/relationships/slideLayout" Target="../slideLayouts/slideLayout378.xml"/><Relationship Id="rId11" Type="http://schemas.openxmlformats.org/officeDocument/2006/relationships/slideLayout" Target="../slideLayouts/slideLayout379.xml"/><Relationship Id="rId12" Type="http://schemas.openxmlformats.org/officeDocument/2006/relationships/slideLayout" Target="../slideLayouts/slideLayout380.xml"/><Relationship Id="rId13" Type="http://schemas.openxmlformats.org/officeDocument/2006/relationships/slideLayout" Target="../slideLayouts/slideLayout381.xml"/><Relationship Id="rId14" Type="http://schemas.openxmlformats.org/officeDocument/2006/relationships/slideLayout" Target="../slideLayouts/slideLayout382.xml"/><Relationship Id="rId15" Type="http://schemas.openxmlformats.org/officeDocument/2006/relationships/slideLayout" Target="../slideLayouts/slideLayout383.xml"/><Relationship Id="rId16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97.xml"/><Relationship Id="rId6" Type="http://schemas.openxmlformats.org/officeDocument/2006/relationships/slideLayout" Target="../slideLayouts/slideLayout398.xml"/><Relationship Id="rId7" Type="http://schemas.openxmlformats.org/officeDocument/2006/relationships/slideLayout" Target="../slideLayouts/slideLayout399.xml"/><Relationship Id="rId8" Type="http://schemas.openxmlformats.org/officeDocument/2006/relationships/slideLayout" Target="../slideLayouts/slideLayout400.xml"/><Relationship Id="rId9" Type="http://schemas.openxmlformats.org/officeDocument/2006/relationships/slideLayout" Target="../slideLayouts/slideLayout401.xml"/><Relationship Id="rId10" Type="http://schemas.openxmlformats.org/officeDocument/2006/relationships/slideLayout" Target="../slideLayouts/slideLayout402.xml"/><Relationship Id="rId11" Type="http://schemas.openxmlformats.org/officeDocument/2006/relationships/slideLayout" Target="../slideLayouts/slideLayout403.xml"/><Relationship Id="rId12" Type="http://schemas.openxmlformats.org/officeDocument/2006/relationships/slideLayout" Target="../slideLayouts/slideLayout404.xml"/><Relationship Id="rId13" Type="http://schemas.openxmlformats.org/officeDocument/2006/relationships/slideLayout" Target="../slideLayouts/slideLayout405.xml"/><Relationship Id="rId14" Type="http://schemas.openxmlformats.org/officeDocument/2006/relationships/slideLayout" Target="../slideLayouts/slideLayout406.xml"/><Relationship Id="rId15" Type="http://schemas.openxmlformats.org/officeDocument/2006/relationships/slideLayout" Target="../slideLayouts/slideLayout407.xml"/><Relationship Id="rId16" Type="http://schemas.openxmlformats.org/officeDocument/2006/relationships/slideLayout" Target="../slideLayouts/slideLayout40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1560" indent="-22716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598760" indent="-22716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11BE-0E40-45E0-A4E2-EBF64916103A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14"/>
          <p:cNvSpPr/>
          <p:nvPr/>
        </p:nvSpPr>
        <p:spPr>
          <a:xfrm rot="16147800">
            <a:off x="-934200" y="4590000"/>
            <a:ext cx="27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NTSP apakšpad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Num" idx="19"/>
          </p:nvPr>
        </p:nvSpPr>
        <p:spPr>
          <a:xfrm>
            <a:off x="7380000" y="6356520"/>
            <a:ext cx="13064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1C3B-88C6-455A-A498-7E02240A40A4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0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D44D-61B5-472F-9958-6F898DC3DF63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22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39F4-9095-4575-B9DF-5FDE0A8B33D3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24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C7E9-FF91-427B-9ECD-7311069BF51D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26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2C18-233A-4550-A2FE-100C2BE3D885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28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8E9F-F475-42F3-AC52-A94E51ACD32B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30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45FA-8102-4603-A99A-23BC80F1C5A1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ftr" idx="32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684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686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Picture 5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092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D457-E8D2-466E-B8A1-0ADED567CF89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730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732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3" name="Picture 5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092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2BD5-F453-4A43-AF02-DB122A0C8567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776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778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9" name="Picture 5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092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A234-B6C2-4C4B-8EAC-6A431F7CF5F1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74A7-CFDE-49D4-8A46-9FE72B7CFACE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6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822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3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824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5" name="Picture 7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092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FF92-3A28-4F91-8D60-3C1CB6C2159B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Text Box 114"/>
          <p:cNvSpPr/>
          <p:nvPr/>
        </p:nvSpPr>
        <p:spPr>
          <a:xfrm rot="16147800">
            <a:off x="-934200" y="4590000"/>
            <a:ext cx="27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NTSP apakšpad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7"/>
          <p:cNvSpPr/>
          <p:nvPr/>
        </p:nvSpPr>
        <p:spPr>
          <a:xfrm>
            <a:off x="6775560" y="2455920"/>
            <a:ext cx="181440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9" name="Picture 7" descr="tmpl_lat_bruns.png"/>
          <p:cNvPicPr/>
          <p:nvPr/>
        </p:nvPicPr>
        <p:blipFill>
          <a:blip r:embed="rId2"/>
          <a:stretch/>
        </p:blipFill>
        <p:spPr>
          <a:xfrm>
            <a:off x="0" y="1353960"/>
            <a:ext cx="8629560" cy="2419560"/>
          </a:xfrm>
          <a:prstGeom prst="rect">
            <a:avLst/>
          </a:prstGeom>
          <a:ln w="0">
            <a:noFill/>
          </a:ln>
        </p:spPr>
      </p:pic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1560" indent="-22716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598760" indent="-22716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 type="ftr" idx="45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1560" indent="-22716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598760" indent="-22716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46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ftr" idx="47"/>
          </p:nvPr>
        </p:nvSpPr>
        <p:spPr>
          <a:xfrm>
            <a:off x="3722760" y="6475320"/>
            <a:ext cx="2271600" cy="222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 type="sldNum" idx="48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4E4E-72C0-4987-BA74-F8F819843DE5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1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953" name="Rectangle 9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4" name="Picture 5" descr="logo2.emf"/>
          <p:cNvPicPr/>
          <p:nvPr/>
        </p:nvPicPr>
        <p:blipFill>
          <a:blip r:embed="rId4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ftr" idx="49"/>
          </p:nvPr>
        </p:nvSpPr>
        <p:spPr>
          <a:xfrm>
            <a:off x="1720800" y="6410160"/>
            <a:ext cx="5508720" cy="222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sldNum" idx="50"/>
          </p:nvPr>
        </p:nvSpPr>
        <p:spPr>
          <a:xfrm>
            <a:off x="7380000" y="6356520"/>
            <a:ext cx="13064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8CB3-2951-4007-BFD0-F603795FE8DB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6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 type="sldNum" idx="51"/>
          </p:nvPr>
        </p:nvSpPr>
        <p:spPr>
          <a:xfrm>
            <a:off x="7380000" y="6356520"/>
            <a:ext cx="13064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CE1C-E4A6-474B-8107-BDAEF57514B6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 type="ftr" idx="52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9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 type="sldNum" idx="5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D4DA-9393-4E2A-8621-ABCA1232D49D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 type="ftr" idx="54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2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 type="sldNum" idx="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C0F9-B65B-48A0-8393-AE4557C10A87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 type="ftr" idx="56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5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547D-D738-4DC6-8D1C-358303A74DDA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 type="ftr" idx="58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8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 type="sldNum" idx="5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E08F-05BC-4E5F-A5DD-7F30426CE51C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 type="ftr" idx="60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1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212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 type="sldNum" idx="6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B8D2-1FF1-486D-B4DD-343346A29A84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 type="ftr" idx="62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092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4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255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0144-556E-4657-8E92-BE158373F3F8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 type="ftr" idx="64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1297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8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299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0" name="Picture 5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200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 type="dt" idx="6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 type="ftr" idx="6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 type="sldNum" idx="6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367A-7048-491D-8920-BAF32EC51CB1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2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1343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4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345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6" name="Picture 5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200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 type="dt" idx="6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 type="ftr" idx="6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5"/>
          <p:cNvSpPr>
            <a:spLocks noGrp="1"/>
          </p:cNvSpPr>
          <p:nvPr>
            <p:ph type="sldNum" idx="7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9D17-AA03-4787-B58F-6DDA6838596F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5"/>
    <p:sldLayoutId id="2147484053" r:id="rId6"/>
    <p:sldLayoutId id="2147484054" r:id="rId7"/>
    <p:sldLayoutId id="2147484055" r:id="rId8"/>
    <p:sldLayoutId id="2147484056" r:id="rId9"/>
    <p:sldLayoutId id="2147484057" r:id="rId10"/>
    <p:sldLayoutId id="2147484058" r:id="rId11"/>
    <p:sldLayoutId id="2147484059" r:id="rId12"/>
    <p:sldLayoutId id="2147484060" r:id="rId13"/>
    <p:sldLayoutId id="2147484061" r:id="rId14"/>
    <p:sldLayoutId id="2147484062" r:id="rId15"/>
    <p:sldLayoutId id="2147484063" r:id="rId16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8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1389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0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391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2" name="Picture 5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200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 type="dt" idx="7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 type="ftr" idx="7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5"/>
          <p:cNvSpPr>
            <a:spLocks noGrp="1"/>
          </p:cNvSpPr>
          <p:nvPr>
            <p:ph type="sldNum" idx="7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F22A-3450-482E-8FBB-4354E0BF11D2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1435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6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437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8" name="Picture 7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200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 type="dt" idx="7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 type="ftr" idx="7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 type="sldNum" idx="7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B0F7-D1CF-4BA8-8520-CBB36787A2DD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5"/>
    <p:sldLayoutId id="2147484079" r:id="rId6"/>
    <p:sldLayoutId id="2147484080" r:id="rId7"/>
    <p:sldLayoutId id="2147484081" r:id="rId8"/>
    <p:sldLayoutId id="2147484082" r:id="rId9"/>
    <p:sldLayoutId id="2147484083" r:id="rId10"/>
    <p:sldLayoutId id="2147484084" r:id="rId11"/>
    <p:sldLayoutId id="2147484085" r:id="rId12"/>
    <p:sldLayoutId id="2147484086" r:id="rId13"/>
    <p:sldLayoutId id="2147484087" r:id="rId14"/>
    <p:sldLayoutId id="2147484088" r:id="rId15"/>
    <p:sldLayoutId id="2147484089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1560" indent="-22716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598760" indent="-22716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8"/>
          </p:nvPr>
        </p:nvSpPr>
        <p:spPr>
          <a:xfrm>
            <a:off x="731520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E46C-12CE-48ED-B334-07EB579C9F77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9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14"/>
          <p:cNvSpPr/>
          <p:nvPr/>
        </p:nvSpPr>
        <p:spPr>
          <a:xfrm rot="16147800">
            <a:off x="-934200" y="4590000"/>
            <a:ext cx="27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NTSP apakšpad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D862-0F50-40E1-87FD-B969E4F9DFAD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2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200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114"/>
          <p:cNvSpPr/>
          <p:nvPr/>
        </p:nvSpPr>
        <p:spPr>
          <a:xfrm rot="16147800">
            <a:off x="-934200" y="4590000"/>
            <a:ext cx="27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NTSP apakšpad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6775560" y="2455920"/>
            <a:ext cx="181440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7" descr="tmpl_lat_bruns.png"/>
          <p:cNvPicPr/>
          <p:nvPr/>
        </p:nvPicPr>
        <p:blipFill>
          <a:blip r:embed="rId2"/>
          <a:stretch/>
        </p:blipFill>
        <p:spPr>
          <a:xfrm>
            <a:off x="0" y="1353960"/>
            <a:ext cx="8629560" cy="24195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1560" indent="-22716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598760" indent="-22716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ftr" idx="13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1560" indent="-22716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598760" indent="-22716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15"/>
          </p:nvPr>
        </p:nvSpPr>
        <p:spPr>
          <a:xfrm>
            <a:off x="3722760" y="6475320"/>
            <a:ext cx="2271600" cy="222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1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7954-0765-4C9A-B99C-33BA2E5BC1B6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9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icture 5" descr="logo2.emf"/>
          <p:cNvPicPr/>
          <p:nvPr/>
        </p:nvPicPr>
        <p:blipFill>
          <a:blip r:embed="rId4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ftr" idx="17"/>
          </p:nvPr>
        </p:nvSpPr>
        <p:spPr>
          <a:xfrm>
            <a:off x="1720800" y="6410160"/>
            <a:ext cx="5508720" cy="222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sldNum" idx="18"/>
          </p:nvPr>
        </p:nvSpPr>
        <p:spPr>
          <a:xfrm>
            <a:off x="7380000" y="6356520"/>
            <a:ext cx="13064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98BC-A866-4616-B3F4-E84823BB1A41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900000" y="1045800"/>
            <a:ext cx="7920000" cy="10126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Tahoma"/>
              </a:rPr>
              <a:t>Nacionālās Trīspusējās </a:t>
            </a:r>
            <a:br>
              <a:rPr sz="3600"/>
            </a:br>
            <a:r>
              <a:rPr b="1" lang="lv-LV" sz="3600" spc="-1" strike="noStrike">
                <a:solidFill>
                  <a:srgbClr val="000000"/>
                </a:solidFill>
                <a:latin typeface="Tahoma"/>
              </a:rPr>
              <a:t>sadarbības padomes </a:t>
            </a:r>
            <a:br>
              <a:rPr sz="3600"/>
            </a:br>
            <a:r>
              <a:rPr b="1" lang="lv-LV" sz="3600" spc="-1" strike="noStrike">
                <a:solidFill>
                  <a:srgbClr val="000000"/>
                </a:solidFill>
                <a:latin typeface="Tahoma"/>
              </a:rPr>
              <a:t>2009.gada darbības pārsk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subTitle"/>
          </p:nvPr>
        </p:nvSpPr>
        <p:spPr>
          <a:xfrm>
            <a:off x="1835280" y="2565360"/>
            <a:ext cx="5857920" cy="1752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ahoma"/>
              </a:rPr>
              <a:t>Sēdes – </a:t>
            </a:r>
            <a:r>
              <a:rPr b="1" lang="lv-LV" sz="2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lv-LV" sz="2800" spc="-1" strike="noStrike">
                <a:solidFill>
                  <a:srgbClr val="000000"/>
                </a:solidFill>
                <a:latin typeface="Tahoma"/>
              </a:rPr>
              <a:t> (1 ārkārta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lv-LV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gatavoti </a:t>
            </a:r>
            <a:r>
              <a:rPr b="1" lang="lv-LV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84</a:t>
            </a:r>
            <a:r>
              <a:rPr b="0" lang="lv-LV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tzinumi par ministriju iesniegtajiem tiesību aktu projektiem</a:t>
            </a:r>
            <a:r>
              <a:rPr b="0" lang="lv-LV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1" lang="lv-LV" sz="2600" spc="-1" strike="noStrike">
                <a:solidFill>
                  <a:srgbClr val="000000"/>
                </a:solidFill>
                <a:latin typeface="Tahoma"/>
              </a:rPr>
              <a:t>ociālās drošības apakšpadome. </a:t>
            </a:r>
            <a:br>
              <a:rPr sz="2600"/>
            </a:br>
            <a:r>
              <a:rPr b="1" lang="lv-LV" sz="2600" spc="-1" strike="noStrike">
                <a:solidFill>
                  <a:srgbClr val="000000"/>
                </a:solidFill>
                <a:latin typeface="Tahoma"/>
              </a:rPr>
              <a:t>Galv</a:t>
            </a:r>
            <a:r>
              <a:rPr b="1" lang="lv-LV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enie jautājumi 2009. gadā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valsts sociālās apdrošināšanas speciālā budžeta ieņēmumu un izdevumu  izpildes gaitu 2009.gada 1.pusgadā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bezalgas atvaļinājumu dienu piemērošanai sociālās apdrošināšanas pakalpojumu aprēķināšan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 plānoto valsts pensiju reform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plānotajām izmaiņām valsts sociālās apdrošināšanas jomā. Par sociālās drošības tīkla stratēģiju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Koncepciju par mikrouzņēmumu atbalsta pasākumi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risinājumiem situācijās, kad uzņēmumam maksātnespējas gadījumā ir parāds pret privāto pensiju fondu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"/>
          <p:cNvSpPr txBox="1"/>
          <p:nvPr/>
        </p:nvSpPr>
        <p:spPr>
          <a:xfrm>
            <a:off x="1332000" y="1989000"/>
            <a:ext cx="7424640" cy="38815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93000"/>
          </a:bodyPr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Teritorijas plānošanas sistēma tuvākajā piecgadē</a:t>
            </a: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Reģionālās attīstības likuma grozījumi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Latvijas ilgtspējīgas attīstības stratēģijas projekts (LIAS)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Rajona pašvaldību reorganizācijas gait</a:t>
            </a: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a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riekšlikumi valsts funkciju decentralizācijai</a:t>
            </a: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Vienas pieturas aģentūras principa ieviešana valsts un pašvaldību pakalpojumu sniegšanai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Plānošanas reģionu ekonomiskā profila izstrāde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Potenciālo īpaši atbalstāmo teritoriju noteikšanas metodika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Latvijas ilgtspējīgas attīstības stratēģijas projekts un tā turpmākā virzība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1692360" y="47592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Reģionālās attīstības trīspusējās sadarbības apakšpadome (RATSA) – 4 sēdes</a:t>
            </a:r>
            <a:br>
              <a:rPr sz="2200"/>
            </a:br>
            <a:r>
              <a:rPr b="1" lang="lv-LV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Galvenie jautājumi 2009. gad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"/>
          <p:cNvSpPr txBox="1"/>
          <p:nvPr/>
        </p:nvSpPr>
        <p:spPr>
          <a:xfrm>
            <a:off x="1476000" y="1484280"/>
            <a:ext cx="7343640" cy="43243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95000"/>
          </a:bodyPr>
          <a:p>
            <a:pPr marL="577440" indent="-577440">
              <a:spcBef>
                <a:spcPts val="49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Eiropas Savienības klimata - enerģētikas likumdošanas paketes pamatprincip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spcBef>
                <a:spcPts val="49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Grozījumi Ministru kabineta 2002.gada 9.jūlija noteikumos Nr.294 „Kārtība, kādā piesakāmas A, B un C kategorijas piesārņojošas darbības un izsniedzamas atļaujas A un B kategorijas piesārņojošu darbību veikšanai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24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Atjaunojamo energoresursu izmantošanas veicināšanas tiesiskais regulēju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24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Informācija par iespējamiem risinājumiem ekonomikas atveseļošanas un enerģētikas neatkarības sakar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24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Vides ministrijas un padotībā esošo iestāžu reorganizācijas rezultā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24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Klimata pārmaiņu finanšu instrumenta finansēto projektu iesniegumu atlases izsludināšanas plānu 2009./2010. gad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24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1720800" y="27432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Vides aizsardzības lietu trīspusējās sadarbības apakšpadome (VALTSA) – 4 sēdes</a:t>
            </a:r>
            <a:br>
              <a:rPr sz="2200"/>
            </a:br>
            <a:r>
              <a:rPr b="1" lang="lv-LV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Galvenie jautājumi 2009.gadā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1692360" y="40428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Profesionālās izglītības un nodarbinātības trīspusējās sadarbības apakšpadome (PINTSA) – 10 sēdes Galvenie jautājumi 2009. gadā</a:t>
            </a:r>
            <a:r>
              <a:rPr b="0" lang="lv-LV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Rectangle 4"/>
          <p:cNvSpPr/>
          <p:nvPr/>
        </p:nvSpPr>
        <p:spPr>
          <a:xfrm>
            <a:off x="1476360" y="1557360"/>
            <a:ext cx="748836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Profesionālās izglītības iestāžu tīkla optimizācijas programmas projek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Ekonomiskās krīzes un ekonomikas stabilizācijas plāna ietekme uz nodarbinātību un MVU un inovācijas loma ekonomikas atveseļošanā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Atbalstāmo profesionālās izglītības iestāžu un tajās modernizējamo izglītības programmu saraksta apstiprināšan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Augstākās izglītības finansēšanas problēm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Strukturālās reformas profesionālajā izglītībā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Profesionālās izglītības attīstība un audzēkņu uzņemšanas plāns 2009.gadam profesionālās izglītības iestādē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Ekonomikas ministrijas līdzekļu izlietojums nodarbināto apmācībai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"/>
          <p:cNvSpPr txBox="1"/>
          <p:nvPr/>
        </p:nvSpPr>
        <p:spPr>
          <a:xfrm>
            <a:off x="1476000" y="1483920"/>
            <a:ext cx="7410600" cy="438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692360" y="40428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Darba lietu trīspusējā sadarbības apakšpadome</a:t>
            </a: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(DLTSA) – 4 sēdes </a:t>
            </a:r>
            <a:br>
              <a:rPr sz="2200"/>
            </a:br>
            <a:r>
              <a:rPr b="1" lang="lv-LV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Galvenie jautājumi 2009. gadā</a:t>
            </a: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Rectangle 1028"/>
          <p:cNvSpPr/>
          <p:nvPr/>
        </p:nvSpPr>
        <p:spPr>
          <a:xfrm>
            <a:off x="1476360" y="1484280"/>
            <a:ext cx="7416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ar grozījumiem Darba likuma 96.pant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ar Darba aizsardzības jomas attīstības programmas 2008. – 2010.gadam izpildi 2008.gad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ar Valsts darba inspekcijas 2008.gada darbības rezultātiem un plānotiem darbi 2009.gadā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Minimālā dienas/nedēļas darbalaika noteikšana darba līgum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ar likuma atlaišanas pabalstu valsts un pašvaldību institūciju amatpersonām un darbinieki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ar ienākumu no sezonas darbiem uzskaitīšanas atvieglojumi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Vidējās izpeļņas aprēķināšana gadījumā, kad pēdējo sešu mēnešu laikā darbinieks ir slimojis un strādājis tikai pāris mēneš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Atlīdzības (gadījumos, kad darbinieks neveic darbu attaisnojošu iemeslu dēļ) aprēķināšanas problē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ar iespējamām krāpnieciskām darbībām saistībā ar kompensāciju izmaksu pēc darba tiesisko attiecību izbeigšanās par neizmantoto ikgadējo apmaksāto atvaļināju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"/>
          <p:cNvSpPr txBox="1"/>
          <p:nvPr/>
        </p:nvSpPr>
        <p:spPr>
          <a:xfrm>
            <a:off x="1692360" y="1268280"/>
            <a:ext cx="696600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1720440" y="274680"/>
            <a:ext cx="7172280" cy="12096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Veselības aprūpes nozares apakšpadome</a:t>
            </a: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(VANA) – 4 sēdes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alvenie jautājumi 2009. gadā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Rectangle 4"/>
          <p:cNvSpPr/>
          <p:nvPr/>
        </p:nvSpPr>
        <p:spPr>
          <a:xfrm>
            <a:off x="1619280" y="1773360"/>
            <a:ext cx="727380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ar darba samaksu veselības aprūpē strādājošaj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ar aktualitātēm veselības aprūpes finansēšanā no valsts budž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Cilvēkresursu nodrošinājums Latvijas slimnīcā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Veselības aprūpes pakalpojumu tarifu atbilstība izmaksā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ar 2009. gada valsts budže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ar Grozījumiem Ministru kabineta 2006. gada 19. decembra noteikumos Nr. 1046 „Veselības aprūpes organizēšanas un finansēšanas kārtīb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59312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Transporta un sakaru nozares trīspusējās sadarbības apakšpadome</a:t>
            </a:r>
            <a:r>
              <a:rPr b="1" lang="lv-LV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(TSNTSA) – 1 sēde. </a:t>
            </a:r>
            <a:br>
              <a:rPr sz="2200"/>
            </a:br>
            <a:br>
              <a:rPr sz="2200"/>
            </a:b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Galvenie jautājumi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Rectangle 4"/>
          <p:cNvSpPr/>
          <p:nvPr/>
        </p:nvSpPr>
        <p:spPr>
          <a:xfrm>
            <a:off x="1476360" y="2276640"/>
            <a:ext cx="727380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ar darba grupas izveidi taksometru pakalpojumu sniegšanas izvērtēša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ar Satiksmes ministrijas budžetu 2010.gadā un paredzēto finansējumu funkciju izpildei (sabiedriskais transports, autoceļi ut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1436400" y="1599840"/>
            <a:ext cx="7250040" cy="39164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500" spc="-1" strike="noStrike">
                <a:solidFill>
                  <a:srgbClr val="000000"/>
                </a:solidFill>
                <a:latin typeface="Tahoma"/>
              </a:rPr>
              <a:t>Lielākā daļa no NTSP apakšpadomēm vēl nav apstiprinājušas darba plānus 2010.gadam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500" spc="-1" strike="noStrike">
                <a:solidFill>
                  <a:srgbClr val="000000"/>
                </a:solidFill>
                <a:latin typeface="Tahoma"/>
              </a:rPr>
              <a:t>Šādu informāciju iespējams papildus sagatavot līdz nākamajai NTSP sēdei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096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09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500" spc="-1" strike="noStrike">
                <a:solidFill>
                  <a:srgbClr val="000000"/>
                </a:solidFill>
                <a:latin typeface="Tahoma"/>
              </a:rPr>
              <a:t>Paldies par uzmanību!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/>
          </p:nvPr>
        </p:nvSpPr>
        <p:spPr>
          <a:xfrm>
            <a:off x="1436400" y="1599840"/>
            <a:ext cx="7250040" cy="42051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lnSpc>
                <a:spcPct val="90000"/>
              </a:lnSpc>
              <a:spcBef>
                <a:spcPts val="1500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irms un pēc sēdēm sagatavotas un nosūtītas preses relīz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lnSpc>
                <a:spcPct val="90000"/>
              </a:lnSpc>
              <a:spcBef>
                <a:spcPts val="1500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Sagatavoti 48 NTSP pieteikumi atzinumu sniegšanai par VSS izsludinātiem tiesību aktu projekti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lnSpc>
                <a:spcPct val="90000"/>
              </a:lnSpc>
              <a:spcBef>
                <a:spcPts val="1500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Sagatavoti 48 VSS protokolu izraksti un nosūtīti LDDK un LB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lnSpc>
                <a:spcPct val="90000"/>
              </a:lnSpc>
              <a:spcBef>
                <a:spcPts val="1500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Sniegta informāciju par precizētiem tiesību aktu projektiem un uzaicinājumiem uz starpinstitūciju sanāksmē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NTSP sekretariāts sadarbībā ar sociālajiem partneriem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643040" y="428400"/>
            <a:ext cx="7105680" cy="1469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Svarīgākie jautājumi NTSP sēdē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1285560" y="1999800"/>
            <a:ext cx="7605720" cy="2994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000000"/>
                </a:solidFill>
                <a:uFillTx/>
                <a:latin typeface="Tahoma"/>
              </a:rPr>
              <a:t>28.01.2009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 uzņēmējiem nepieciešamajiem finanšu </a:t>
            </a: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strumentiem tautsaimniecības stabilizācija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000000"/>
                </a:solidFill>
                <a:uFillTx/>
                <a:latin typeface="Tahoma"/>
              </a:rPr>
              <a:t>11.02.2009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Sociālo partneru Latvijas Darba devēju konfederācijas (LDDK) un Latvijas Brīvo arodbiedrību savienības (LBAS) un Latvijas Pašvaldību savienības (LPS) prasības krīzes pārvarēšana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subTitle"/>
          </p:nvPr>
        </p:nvSpPr>
        <p:spPr>
          <a:xfrm>
            <a:off x="1285560" y="1928520"/>
            <a:ext cx="7620120" cy="2994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000000"/>
                </a:solidFill>
                <a:uFillTx/>
                <a:latin typeface="Tahoma"/>
              </a:rPr>
              <a:t>25.03.2009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ārvalstu aizdevuma līdzekļu izlietojuma uzraudzības komisijas izvei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plānotajiem grozījumiem Valsts budžet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500" spc="-1" strike="noStrike">
                <a:solidFill>
                  <a:srgbClr val="000000"/>
                </a:solidFill>
                <a:latin typeface="Tahoma"/>
              </a:rPr>
              <a:t>Par likumprojektu „Grozījums Darba likumā”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title"/>
          </p:nvPr>
        </p:nvSpPr>
        <p:spPr>
          <a:xfrm>
            <a:off x="1643040" y="428400"/>
            <a:ext cx="7105680" cy="1469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Svarīgākie jautājumi NTSP sēdē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1643040" y="285480"/>
            <a:ext cx="7176960" cy="1469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Svarīgākie jautājumi NTSP sēdē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1218960" y="157140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 u="sng">
                <a:solidFill>
                  <a:srgbClr val="000000"/>
                </a:solidFill>
                <a:uFillTx/>
                <a:latin typeface="Tahoma"/>
              </a:rPr>
              <a:t>15.04.2008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likumprojekta “Par vienotu valsts un pašvaldību institūciju amatpersonu (darbinieku) atlīdzības sistēmu” pamatnostādnēm</a:t>
            </a:r>
            <a:r>
              <a:rPr b="1" lang="lv-LV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aktualitātēm veselības aprūpes finansēšanā no valsts budže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29.04.2008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priekšlikumiem un valdības atbildēm uz LDDK, LBAS un LPS prasībām (krīzes pārvarēšana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1571400" y="142560"/>
            <a:ext cx="7103880" cy="1469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Svarīgākie jautājumi NTSP sēdē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 type="subTitle"/>
          </p:nvPr>
        </p:nvSpPr>
        <p:spPr>
          <a:xfrm>
            <a:off x="1285560" y="1714680"/>
            <a:ext cx="7620120" cy="36144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 u="sng">
                <a:solidFill>
                  <a:srgbClr val="000000"/>
                </a:solidFill>
                <a:uFillTx/>
                <a:latin typeface="Tahoma"/>
              </a:rPr>
              <a:t>20.05.2009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priekšlikumiem likumprojektā „Grozījums Darba likumā” (atlaišanas pabalst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izglītības un zinātnes situāciju Latvijā. Par profesionālo izglītību (arī 1.0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 u="sng">
                <a:solidFill>
                  <a:srgbClr val="000000"/>
                </a:solidFill>
                <a:uFillTx/>
                <a:latin typeface="Tahoma"/>
              </a:rPr>
              <a:t>01.07.2009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budžeta grozījumiem 2009. gad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valdības priekšlikumiem 2010.gada budžetam un plānotajiem 2010.-2012.gada budžeta ieņēmumiem un izdevumiem</a:t>
            </a:r>
            <a:r>
              <a:rPr b="1" i="1" lang="lv-LV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Reformu vadības grupas izveidi, darbības principi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1714680" y="285480"/>
            <a:ext cx="7178400" cy="1469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Svarīgākie jautājumi NTSP sēdē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subTitle"/>
          </p:nvPr>
        </p:nvSpPr>
        <p:spPr>
          <a:xfrm>
            <a:off x="1213920" y="1928520"/>
            <a:ext cx="7620120" cy="2994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 u="sng">
                <a:solidFill>
                  <a:srgbClr val="000000"/>
                </a:solidFill>
                <a:uFillTx/>
                <a:latin typeface="Tahoma"/>
              </a:rPr>
              <a:t>12.08.2009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Eiropas Komisijas ierosinājumu atteikties no valsts līdzfinansējuma struktūrfondu apguvē un NTSP Veselības aprūpes nozares apakšpadomes ierosinājumu ieekonomētos līdzekļus novirzīt veselības aprūpei</a:t>
            </a:r>
            <a:r>
              <a:rPr b="1" lang="lv-LV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 u="sng">
                <a:solidFill>
                  <a:srgbClr val="000000"/>
                </a:solidFill>
                <a:uFillTx/>
                <a:latin typeface="Tahoma"/>
              </a:rPr>
              <a:t>26.10.2009. (ārkārtas sē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ar likumprojektu "Par valsts budžetu 2010. gadam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likumprojekta “Par vienotu valsts un pašvaldību institūciju amatpersonu (darbinieku) atlīdzības sistēmu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subTitle"/>
          </p:nvPr>
        </p:nvSpPr>
        <p:spPr>
          <a:xfrm>
            <a:off x="1285560" y="1714680"/>
            <a:ext cx="7620120" cy="29937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marL="608040" indent="-60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000000"/>
                </a:solidFill>
                <a:uFillTx/>
                <a:latin typeface="Tahoma"/>
              </a:rPr>
              <a:t>25.11.2009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spcBef>
                <a:spcPts val="601"/>
              </a:spcBef>
              <a:buClr>
                <a:srgbClr val="c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valdības un starptautisko aizdevēju sarunām par 2010.gada valsts budžetu un to rezultātu ietekmi uz Latvijas tautsaimniecības attīstību un uzņēmējdarbības vi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spcBef>
                <a:spcPts val="601"/>
              </a:spcBef>
              <a:buClr>
                <a:srgbClr val="c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ES fondu apguvi un finanšu pieejamību uzņēmējdarbības un infrastruktūras atbalst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spcBef>
                <a:spcPts val="601"/>
              </a:spcBef>
              <a:buClr>
                <a:srgbClr val="c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sociālo dialogu iekšlietu sistēm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 type="title"/>
          </p:nvPr>
        </p:nvSpPr>
        <p:spPr>
          <a:xfrm>
            <a:off x="1642680" y="214200"/>
            <a:ext cx="7250040" cy="14702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Svarīgākie jautājumi NTSP sēdē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"/>
          <p:cNvSpPr txBox="1"/>
          <p:nvPr/>
        </p:nvSpPr>
        <p:spPr>
          <a:xfrm>
            <a:off x="1476360" y="1196640"/>
            <a:ext cx="7416720" cy="47530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valsts sociālās apdrošināšanas speciālā budžeta izpildi 2008.gadā un par valsts sociālās apdrošināšanas speciālā budžeta plānu 2009.gad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valsts sociālās apdrošināšanas sistēmas finansēšanas nodrošināšan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Valsts fondēto pensiju shēmas darbību 2008.gadā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lānotie grozījumiem tiesību aktos sociālās drošības jomā 2009.gada valsts budžeta grozījumu likumprojekta paketē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Valsts sociālās apdrošināšanas obligāto iemaksu parāda piedziņas rezultāti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ANO Konvencijas “Par personu ar invaliditāti tiesībām” sagatavošanas ratifikācijai gaitu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ES likumdošanas iniciatīvām dzimumu līdztiesības jomā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1692360" y="-360"/>
            <a:ext cx="6966000" cy="1353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1" lang="lv-LV" sz="2600" spc="-1" strike="noStrike">
                <a:solidFill>
                  <a:srgbClr val="000000"/>
                </a:solidFill>
                <a:latin typeface="Tahoma"/>
              </a:rPr>
              <a:t>ociālās drošības apakšpadome (SDA) – 7 sēdes. </a:t>
            </a:r>
            <a:r>
              <a:rPr b="1" lang="lv-LV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Galvenie jautājumi 2009. gadā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1:11:42Z</dcterms:created>
  <dc:creator>Inese Erge</dc:creator>
  <dc:description/>
  <dc:language>en-US</dc:language>
  <cp:lastModifiedBy>Gunta Freimane</cp:lastModifiedBy>
  <dcterms:modified xsi:type="dcterms:W3CDTF">2010-01-06T14:24:52Z</dcterms:modified>
  <cp:revision>40</cp:revision>
  <dc:subject/>
  <dc:title>Nacionāli trīspusējās sadarbības padomes sekretariāts</dc:title>
</cp:coreProperties>
</file>