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86C8-C848-4303-90F3-F1BF97243B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C85F-80E7-4888-AF2B-F5DC6E353982}"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A9AC-DAD6-4D57-88EB-0410BA8FE9B4}"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0B23-4150-4766-8938-F098B2C39443}"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1D47-28AC-4F40-89CF-4AA3E814911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9C14-7CF8-4B66-B527-2AF94878A7E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35519-CB58-4E02-A4DB-D17494E0E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3C5D6-9CA1-4394-8DC6-81B2188C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231D9-2A7F-477E-9853-1F2B7B645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4A9D1-210C-43A0-968A-51C0A3AD5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9153F-7A7F-4F71-BB50-8895C73F4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465A2-BE61-4372-B038-9123B94B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32847-0A27-4440-A110-3B118DDDB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1E507-9A50-42DC-939C-873B11F9D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E7D36-4B39-47ED-87EF-3EAB228F3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969A-24CF-4844-BC86-99A0EDC0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0AC22-A456-435E-B19E-8F340AB2F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DBF7-B255-48BF-8884-2D503D46F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0D0C-5D56-4116-B6D7-1A8078E16619}" type="datetime">
              <a:rPr b="0" lang="lv-LV"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7A7D-4F84-4779-97F6-2A9C9AFD4B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3459-C74B-47F2-B278-FC27F5E13A0C}" type="datetime">
              <a:rPr b="0" lang="lv-LV"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E04F-6029-4537-BBA5-F500D5CBC9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538F-26BE-4675-BA31-613A7279B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0D95-5E42-460B-857E-37A4D22E49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2933-AD90-453B-9C10-2709FECC1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EE27-8CCB-47D3-A680-746508D700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1D27-AC60-488B-8D9D-A96F2C0D3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F685-6D52-4E96-B52A-9C878829FD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B043-6342-4B4E-BA95-DB319A281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3D78-1D83-40F9-B388-88C05EAFB0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729B-7E77-4EF9-AA2F-778A8D1E84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B11C-E2C3-4621-9643-F88C231A65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6D9D-36F8-4CD5-BB24-ABDF9231F9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4AD7-734D-4E6F-B7DE-A8D4539172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AED8-51E8-4AE8-B725-89FEFB2FC3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B2DD-A8B0-4116-AAFB-007651A3D1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8C0C-E614-46FB-B0A7-6E2E76061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2E4F-A2D5-41D5-89A3-41857D7DD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9A92-F2BA-4CDD-8BE4-94D741D40D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613D-6D74-4D0D-B60D-C2F5726709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E69D-441A-4324-BE5C-92A283029D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BF84-7102-4A9E-AF53-11CC6B3041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8D45-60F0-4B8D-98BE-BB53D305F6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9D77-6FC7-4B64-9A8C-82C4BB542F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24A7-4964-4F89-BB56-25688A8C2C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A28D-6617-4247-BBA4-C34EC95B7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