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34A1-2CBF-4DA1-B3F5-C45B1104F1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235E-4B63-410C-9D66-10DC3AFB864C}"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C027-701E-4F53-9390-277C119B28F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F8B6-58F3-49D8-AA3D-60D3872B519D}"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A075-F423-439B-AB8B-DD35F0BDA786}"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6317-AA95-4BD7-8C3B-20E25669C0D9}"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67C4F-1FF7-4D16-BAF0-0BA75770C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F6E2E-525F-4C87-AF76-F7605C3C6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EC2A2-7164-473B-8EBA-63DA433A8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9C04D-A606-4263-BFF4-DA3ABBFE9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5B37-7B2E-458D-8AFA-4CA858E00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1A6EC-12DE-43ED-9063-C5472D7A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89C44-96EC-41F7-A525-536D087E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1BF74-47D9-43B4-86BA-AFECD0714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DD12-45B2-4353-8C13-51C5BB58A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8243-9F1E-4DC2-8CC0-ED8772B7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74B8-659E-423C-B868-9D3B0A32E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4B35-D9C8-48D5-8456-66A7DB637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CB25-A4CF-4F3C-9BCA-1B9A65632D82}" type="datetime">
              <a:rPr b="0" lang="lv-LV"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2E10-3671-4BA7-B2E5-A3D5EE27D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FBE4-B32D-481A-9EBC-0766EE5A0D48}" type="datetime">
              <a:rPr b="0" lang="lv-LV"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5F54-654E-43D6-BA1F-5DF9DC8607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86E8-D7D8-43C5-A904-74A6B8C667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8871-35EB-4721-8DD7-93107D801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2872-8617-4458-9497-36D2356025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A2AC-4A5B-4EE7-ABD9-34B9AB2289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5F6C-D3AC-4575-9EEC-53502A7FD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F2F7-1B80-4A42-9EA6-A05D46548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FAE7-7462-4461-935A-095558FF2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97C1-46AA-452A-9CE0-BCCC5CDB97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7609-50A1-48A7-BB30-DD4B1DD83C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68F1-F525-4152-B723-C2D70A857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EE0A-0870-42AB-9ED9-3C809DB31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CBC2-7426-48A1-ACAE-B420FC6EEC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48F9-5F77-4C74-8022-1562986568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4DFF-A9D5-4F5E-9EB6-ACCD5D98AA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0FA1-8D69-4C9E-B811-99F2534011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73FD-DBF8-454F-9CFB-4EBBE40549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C9BF-8A63-4A41-9FB1-55D1D6665A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707A-BAAC-4A72-A403-6606BE5DC7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0856-DE9D-4B9F-A51C-D607C6CB9D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A37B-EE20-4EB4-9CE6-0D6C295331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23F9-818B-4216-8BD7-B696CF1AC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1BFE-2AA2-44B6-9C21-0DA05246DC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B687-B232-4E79-8D2C-1E8B0A48EA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571C-B245-4E58-9AC9-4895B89C9A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