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F22D-E527-4D50-99DA-CD4213D445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B3CF-FA50-4854-918E-811467B64E8D}"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673C-3865-47CE-A36E-E0A4FB322AE8}"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C7E4-EC64-4614-9CBF-3B8F70226395}"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154E-A593-4BCD-A962-9E33CF3E25FE}"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3A8E-F3B7-4314-B048-BE405459CBB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D546E-8C11-4DC6-9692-2CE4E8F89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7AE1-FADA-4E6D-A1CE-DB85D4F32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0564C-7BCA-4C82-905F-509107817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B18F4-7416-43D1-80E4-4A69F6297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4282B-1DE8-44D3-8BB8-BC5163DA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61C3-2C3C-4B26-9FAD-51871F93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90B3-FFB5-4D19-9E74-26EAC3AE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D8B83-ADFE-472F-98A1-0C0C2297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D72D-CC47-448A-A25D-B3F0B9AC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C41A-5FE4-4751-B8D9-605DDDBF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F710-7CB5-4E23-845D-83063ABDD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4220-74DC-48C0-9EFF-7C445CC31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71D9-EA83-48B0-8F67-43146C8FC0D0}" type="datetime">
              <a:rPr b="0" lang="lv-LV"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A0D3-982F-4C4B-B660-ACC47806B0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E8FB-A2C3-4B17-922F-499070670C34}" type="datetime">
              <a:rPr b="0" lang="lv-LV"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8DF8-CB1E-4E40-8748-12EE5F75F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820F-50EB-47BB-9661-614F8D5300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2C31-F590-4DAB-93EE-37C5F697F7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11FB-0905-4F71-A907-19529D444C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D666-F662-4DCA-BDBB-E02C5E416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78BE-1C6A-4133-A8BF-403C4458B2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CBC4-3CFA-4253-AF20-076EE12E2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98DD-86F0-46FB-B1C2-4E8597FA5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8A0B-4B3A-4ADE-937A-3C15431573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3FEA-EBBA-45A9-B4D2-D086DD1215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B479-7793-4D16-B071-FF1DA2728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27CB-E130-4901-91F0-3BE9869BBC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7E75-03F4-42A5-A765-19DD4B0B0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20A9-CFDA-4DFC-B203-8C7FBB2A9F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1632-363B-4B77-9AFF-F541320001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E73B-AE58-43E3-AF52-3A1188B2EC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6915-989E-469E-8C66-F14E03FDBE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ECCE-050C-4EEB-833C-A5C6A75A02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4667-DFAD-47CB-AB8C-4485F3DDC4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1A60-FEF2-4BAD-8069-5832D33150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C94E-D99B-4693-9E9D-B83395FDAB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851C-F224-459F-A1B2-D6CBE5E85B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7B0E-88B9-4C55-9E4B-9CEE1DDA3C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3FDD-1E2D-49BA-9548-8EB2CFC28C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6528-42C7-4478-BEE2-04B586ED3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