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2C3E-EB97-4046-9557-04951D3F8A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E5D2-AFFD-44D9-86D1-CB55337E9116}"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70C7-FF0D-4748-B8C2-DEBABE7747C8}"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FFF8-95F0-4A08-9E57-E567B8B5896D}"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797D-106E-4154-8448-F9C530C54F32}"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035E-A3A3-4127-BE93-FCDE9EB57F29}"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DBEFC-7002-4484-8F07-2BA50C6B6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FBDA7-09AA-43FB-ACF7-BC2023D2A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0A05B-4A72-4A68-8030-6DCE24495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738CF-54C9-4D67-9CC4-EB613E8F4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A430D-7A37-4D07-A14D-67DC32645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263FB-F875-4855-953F-CE2D579FB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98BC5-575B-4A2F-BD95-6673BD81C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9D826-6DBD-4093-AE0B-8E8BA15DA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23785-A5EE-4EBB-97F2-C95846065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B384-779D-4DF6-8496-EBAF2C62D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C7372-848E-44AA-9931-C4A19EDE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0538-46AB-42F8-A79C-C0624B1FE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86C1-6BD0-4ADD-B70D-DA08B973E5CA}" type="datetime">
              <a:rPr b="0" lang="lv-LV"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1E9B-F15B-47AA-B409-FF6D8B8ED8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AB80-41E1-41F7-BCE4-E511268613EF}" type="datetime">
              <a:rPr b="0" lang="lv-LV"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CDD9-9A9E-4AD6-A693-B6F642431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AEBE-1108-4D8C-9979-E38100B7A7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C901-B8FB-4D64-B0D7-6FB7E79DD6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CDB6-E2F7-4552-96D9-A208BF6624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B09D-4BD2-4265-ADFC-B1098E07CE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3A2E-9305-43BC-BBB6-E69F7AEA67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D25C-35F5-43B4-8801-464811E9BD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6B2E-585B-41CC-B922-1A79830579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5A6C-2875-4B7C-840E-8D620FF500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86A0-9F50-47D8-8CBD-733271BFE8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B2F5-8CDA-4E12-89E0-E1A0B31241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252F-4C7D-4A5E-A048-3CA996FBDF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8197-89CF-404B-B7C0-0C9C76F6CE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D68A-979F-4667-9A44-AD10F51A22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7A34-60F7-4144-92F0-AB5C73FAEA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8D99-466A-4BD5-ABB5-A616E0DF3D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937D-A699-4D7C-B499-9E0CE2CF0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CF39-FB29-4DA6-B1E0-9BD206A712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03E5-41A0-41DB-855B-EA88D47726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8360-FB8F-4ABC-91A7-2C8286D099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29B4-BDFB-4ECB-BFC7-571FC34AE8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2483-4C09-4DEC-9640-324E1E94CE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6129-B73E-427D-B0FF-63ACC55558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75AA-5D6B-4E26-B8AC-CB5E5926CB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8745-2D7D-463D-8D6C-D8D3A9AEDA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